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71053-1265-40EC-AE3B-9AE25F680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3EBFA-939B-40C0-B39C-8E8C70DC7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2E9B-49B9-48A5-BC21-EE132709C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8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096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70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8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096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676F-838D-4347-946D-CC28A660ED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1FA5B-86C7-4914-929B-2A515A49BC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1D3CB-67FB-4CE4-B76A-C72F03ACB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25015-B3FE-4BE0-9EE7-1E340D873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C482-CCDD-466D-92B3-318CF1127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7000" y="250560"/>
            <a:ext cx="83898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E984E-BCA1-45DE-B1AE-0BA4215CD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C7EE1-5280-4A40-8E85-E37B55DDC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67B2-4B01-4A90-80A0-C81DD2F3F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666D-DD2E-47E3-AEDF-AB38FB643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69880" y="6470640"/>
            <a:ext cx="47372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55000" y="6470640"/>
            <a:ext cx="7351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Folie </a:t>
            </a:r>
            <a:fld id="{86EC4DED-DCF4-4B28-BEA4-5E472DC11191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20600" y="6354720"/>
            <a:ext cx="187200" cy="300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5920" y="608796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040" y="6512040"/>
            <a:ext cx="243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Kanton Basel-Stad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6273720"/>
            <a:ext cx="2455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6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hlen 20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1520" y="3886200"/>
            <a:ext cx="774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über Neuerungen, die Vorbereitung und die Durch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7451-88E1-4EA9-A6A4-46838B5B85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Neue Quoren in den Wahlkreis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em Wählerwillen wird neu wahlkreisspezifisch Rechnung get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lassung einer Partei zur Sitzverteilung in denjenigen Wahlkreisen, in denen ihr Wähleranteil mindestens 4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isher: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ulassung einer Partei zur Sitzverteilung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all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Wahlkreis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wenn ihr Wähleranteil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wenigstens einem Wahlkrei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mindestens 5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n den im Grossen Rat vertretenen Parteien sind 2008 unter dem 4%-Quorum geblieben: die LDP in Kleinbasel, die EVP in Grossbasel-Ost und Kleinbasel, die DSP in Grossbasel-Ost, Grossbasel-West und R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1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32D20-FDC8-4368-BB93-3BE949ED15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7360" y="3403440"/>
          <a:ext cx="8389800" cy="263232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Sainte-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zit: Vergleich ‚alt‘ – ‚neu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6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mit Listenverbindungen /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/ </a:t>
            </a:r>
            <a:br>
              <a:rPr sz="2800"/>
            </a:b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4%-Quorum in jed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F100-D692-4F62-B421-212EE75188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stufiges Verfahren: Was bleibt glei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53324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i der Wahl der Regierungsmitglieder und bei derjenigen der Regierungspräsidentin bzw. des Regierungspräsidenten handelt es sich um zwei verschiedene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ählbar sind alle Stimmberechtigten, auch wenn kein Wahlvorschlag eingereicht wurde (und die Kandidatur somit nicht auf einem vorgedruckten Wahlzettel ersche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15880" y="800640"/>
            <a:ext cx="1140120" cy="763560"/>
            <a:chOff x="7715880" y="800640"/>
            <a:chExt cx="1140120" cy="763560"/>
          </a:xfrm>
        </p:grpSpPr>
        <p:sp>
          <p:nvSpPr>
            <p:cNvPr id="102" name=""/>
            <p:cNvSpPr/>
            <p:nvPr/>
          </p:nvSpPr>
          <p:spPr>
            <a:xfrm rot="629400">
              <a:off x="7858080" y="875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29400">
              <a:off x="7748280" y="1011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71A54-58F2-4D21-9BC0-A673E607D4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für die Regierungspräsidentin bzw. den Regierungspräsidenten müssen von mindestens 30 Stimmberechtigen unterzeichnet werden (bishe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 der Regierungsmitglieder und diejenige der Regierungspräsidentin bzw. des Regierungspräsidenten erfolgen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zeitgl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Wahlgang: 28. Ok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Wahlgang: 25. Nov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d auf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ze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0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249B1-EF15-4E1C-B015-7ADA48FB40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kann nur gewählt werden, wer auf dem selben Wahlzettel als Mitglied des Regierungsrates gewählt w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im 1. Wahlgang gewählt ist, wer das absolute Mehr erre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stille Wahl der Regierungspräsidentin bzw. des Regierungspräsidenten ist nicht mehr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1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C448E-6E8D-479A-83F7-A78625942B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gabe der Wahlvorschläg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1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8. Okto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ag, 3. September 201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2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5. Novem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twoch, 31. Oktober 2012, 12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 der Staatskanzlei Basel-Stadt beim Ressort Wahlen und Abstimm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725600" y="562680"/>
            <a:ext cx="1129320" cy="760680"/>
            <a:chOff x="7725600" y="562680"/>
            <a:chExt cx="1129320" cy="760680"/>
          </a:xfrm>
        </p:grpSpPr>
        <p:sp>
          <p:nvSpPr>
            <p:cNvPr id="11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29400">
              <a:off x="7752960" y="773280"/>
              <a:ext cx="1074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Regierungsrat &amp; Grosser R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55768-A9E3-4F7F-A412-7CF25193A8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müssen von mindestens      30 Stimmberechtigen unterzeichnet sein; im Wahlkreis Bettingen genügt die Unterzeichnung durch mindestens 10 Stimmberechti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kreis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4D026-4B72-4D68-8EE5-5572F2C0C2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drei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r Kandidatur in einem Wahlkreis ist nicht erforderlich, dass die kandidierende Person effektiv dort wohnt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erforderlich ist einzig der Wohnsitz im Kanton Basel-Sta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58237-C987-4E51-84B4-F4D570BE1E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oppelkandidaturen (in mehreren Wahlkreisen oder auf mehreren Wahlvorschlägen im gleichen Wahlkreis)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ADBF-500F-4783-8C6B-80079B0314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22520" y="1000080"/>
            <a:ext cx="4379760" cy="539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15897-FE75-4605-935B-7C2FD2DD24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eu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Vorbereitung und Durchführung der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E83E-16F7-4AB7-BC6A-7D0F8DFAE7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umulieren von Kandidatennamen (max. dreimalige Nen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anaschieren (Eintragen von Kandidatennamen anderer Li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orgedruckte Listenbezeichnung/Ordnungsnummer streichen oder 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r Freien 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stenbezeichnung/Ordnungsnummer eint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d/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403C-A7C3-422D-8185-F30A5C957A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Partei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rücksicht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Namen der entsprechenden Partei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satzstimmen auf Listen, welche eine Bezeichnung oder Ordnungsnummer tragen, das heis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ungültigen Kandidatenst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gestrichenen Na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eere Lin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berücksichtigt blei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Überzählige Stimmen für eine Kandidatin bzw. einen Kandidaten (überkumuli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überzählige Kandidatinnen bzw. Kandidaten (mehr Kandidatennamen als Mandate zu vergeben s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F4C97-EF69-49CC-B189-16ECA424E6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Kandidaten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7000" y="147132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Kandidatenstimmen sind ungültig, wenn 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für eine nicht vorgeschlagene Person abgegeb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0424D-5E08-46B6-AADE-4E91DC3A29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Die Wahlvorschläge müssen von mindestens      30 Stimmberechtigen unterzeichnet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 (Regierungsrat und Regierungspräsident bzw. Regierungspräsidentin)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5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1C84B-F305-49A4-9AC5-7CAA92C3F7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ein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s Regierungspräsidentin/Regierungspräsident kann nur vorgeschlagen werden, wer auch als Regierungsrätin bzw. Regierungsrat vorgeschlag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7134-155A-4BE8-8414-25BD2A6E53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pelkandidaturen auf mehreren Wahlvorschlägen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3EFD5-148A-499A-95F1-FA56B4BA15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7800" y="984240"/>
            <a:ext cx="394812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7520" y="977760"/>
            <a:ext cx="4208400" cy="528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7715880" y="143640"/>
            <a:ext cx="1140120" cy="763560"/>
            <a:chOff x="7715880" y="143640"/>
            <a:chExt cx="1140120" cy="763560"/>
          </a:xfrm>
        </p:grpSpPr>
        <p:sp>
          <p:nvSpPr>
            <p:cNvPr id="173" name=""/>
            <p:cNvSpPr/>
            <p:nvPr/>
          </p:nvSpPr>
          <p:spPr>
            <a:xfrm rot="629400">
              <a:off x="7858080" y="218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629400">
              <a:off x="7748280" y="354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D993-A3DC-4EC4-ADC7-28C17BCA0B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eines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 (sofern leere Linien vorhanden s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s leer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jemanden als Regierungspräsidentin bzw. Regierungspräsident wählt, muss diese Person auf dem selben Wahlzettel auch als Mitglied des Regierungsrates 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an der Wahl für die Regierungspräsidentin bzw. den Regierungspräsidenten nicht teilnehmen will, kann den entsprechenden Wahlzettel abtre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78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BDBD0-E2E3-468A-83C0-6D9D9ACCCE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Mitglieder des Regierungsr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Regierungspräsidentin bzw. des Regierungspräs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, sofern diese Person auf dem selben Wahlzettel auch als Mitglied des Regierungsrates gewäh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Kandidatenstimmen sind ungültig, wenn 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absolute Mehr wird für die beiden Wahlen getrennt ermitt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83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6D473-ED99-4903-A0E7-17EB61F3600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rungen im Überbli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700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s Verfahren zur Sitzverteilung auf die Par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 Quorumsrege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68CA-C1F0-43C1-9DAB-E84A09A9B5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216080"/>
            <a:ext cx="86472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2280" y="2610000"/>
          <a:ext cx="8290080" cy="2950920"/>
        </p:xfrm>
        <a:graphic>
          <a:graphicData uri="http://schemas.openxmlformats.org/drawingml/2006/table">
            <a:tbl>
              <a:tblPr/>
              <a:tblGrid>
                <a:gridCol w="2127240"/>
                <a:gridCol w="2019240"/>
                <a:gridCol w="2070000"/>
                <a:gridCol w="2073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hlkre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n-bevölkeru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änderung zu 2008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‘3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We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‘8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bas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‘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h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‘6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ing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‘1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87280" y="56419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äss Grossratsbeschluss vom 8.2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9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: ständige Wohnbevölkerung gemäss eidgenössischer Volkszählung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DCD7B-140E-4E43-99D8-CDFB7C3697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s Verfahren zur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ainte-Laguë-Verfah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Berechnungsverfahren verhält sich bezüglich der Parteigrösse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Benachteiligung der kleineren Parteien, welche dem alten Verfahren (Hagenbach-Bischoff) inhärent war, fällt w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6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7698-C187-4D03-A918-E4E0B0AB9D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zverteilung am Beispiel der Partei A (1‘000 Stimmen), der Partei B (1‘500 Stimmen) und der Partei C (2‘000 Stimmen), in einem Wahlkreis mit 20 Sitz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1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Total der Parteistimmen pro Wahlkreis wird durch die Anzahl der zu verteilenden Mandate geteilt. Die auf den Quotienten folgende ganze Zahl ist die Wahlzah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‘500 Stimmen : 20 Sitze = 225 (Wahlzahl =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Parteien erhalten so viele Sitze, wie die Wahlzahl in ihrer Gesamtstimmenzahl enthalten 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A: 4 Sitze (1‘0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B: 6 Sitze (1‘5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C: 8 Sitze (2‘000 :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749C1-36A7-4360-B3EF-667C48425D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itt 3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20 sind nun 18 Sitze verteilt. Die Verteilung der restlichen beiden Sitze geschieht wie folgt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esamtstimmenzahl jeder Partei wird durch die verdoppelte und um 1 erhöhte Zahl der ihr bereits zugewiesenen Mandate geteilt. Die Partei mit dem grössten Quotienten erhält den nächsten offenen Sitz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17.64 (2‘000 : {8x2}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C erhält den 19. Sit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3 wird wiederholt, bis alle Mandate zugeteilt si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05.26 (2‘000 : {9x2}+1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B erhält den 20. S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471F-E4F6-4232-9635-4E5DF37BFD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7000" y="1104480"/>
            <a:ext cx="854244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das neue Sitzverteilungsverfahren fällt die Benachteiligung der kleineren Parteien weg, wodurch Listenverbindungen unnötig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Stimme kommt somit direkt der von der Wählerin oder dem Wähler favorisierten Liste zugute (sofern die 4% Hürde im Wahlkreis genommen wi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ck über die Grenze: Die Kantone Aargau, Zürich und Zug haben die Listenverbindungen ebenfalls abgescha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AEC73-8985-49D6-8E86-41EEC35924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7360" y="3440160"/>
          <a:ext cx="8389800" cy="270180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Sainte- 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gleich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und mit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mit 5%-Quorum in ein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DF75F-2B64-482A-8FB3-7A83B771FA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41:32Z</dcterms:created>
  <dc:creator>Gross Brigitte</dc:creator>
  <dc:description/>
  <dc:language>en-US</dc:language>
  <cp:lastModifiedBy>sslord</cp:lastModifiedBy>
  <dcterms:modified xsi:type="dcterms:W3CDTF">2012-03-15T15:24:20Z</dcterms:modified>
  <cp:revision>12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4332698</vt:r8>
  </property>
  <property fmtid="{D5CDD505-2E9C-101B-9397-08002B2CF9AE}" pid="3" name="_AuthorEmail">
    <vt:lpwstr>Daniel.Orsini@bs.ch</vt:lpwstr>
  </property>
  <property fmtid="{D5CDD505-2E9C-101B-9397-08002B2CF9AE}" pid="4" name="_AuthorEmailDisplayName">
    <vt:lpwstr>Orsini, Daniel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635825799</vt:r8>
  </property>
</Properties>
</file>