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2737B-D2C2-44AE-9D38-EDD5B6A9A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7000" y="36662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8FADA-E2E5-458E-A529-E5CA54E78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612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A3CCC-404D-4510-99AA-DF8BFDE96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380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096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700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380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096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3302E-D4B8-4EE6-8FD7-15EB0DB5FF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3D566-7306-4F97-A4FB-98EF2CB441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2B4E7-07A1-43FF-8179-1F73ED80F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683C2-128B-47ED-843F-2715CEE1FA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243FB-B1E0-4BE0-AB5F-D7D6B177B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7000" y="250560"/>
            <a:ext cx="838980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9EEBA-DFCC-415B-8566-9BAC798C8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42BB4-B9D6-40FD-BFEE-2CD4524B7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612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C6B07-DA26-4EFB-896E-F1DE6CC54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2BDC0-74BA-44EC-8E89-C0B5DDCF98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69880" y="6470640"/>
            <a:ext cx="473724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55000" y="6470640"/>
            <a:ext cx="73512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Folie </a:t>
            </a:r>
            <a:fld id="{5143394B-3CCF-4578-A7F4-90835068E2D5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20600" y="6354720"/>
            <a:ext cx="187200" cy="3002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85920" y="608796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3040" y="6512040"/>
            <a:ext cx="243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Kanton Basel-Stad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2760" y="6273720"/>
            <a:ext cx="245556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06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hlen 201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71520" y="3886200"/>
            <a:ext cx="7748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über Neuerungen, die Vorbereitung und die Durch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80B49-4FB9-4A0D-905F-2ADBD698EA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Neue Quoren in den Wahlkreis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Dem Wählerwillen wird neu wahlkreisspezifisch Rechnung getra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lassung einer Partei zur Sitzverteilung in denjenigen Wahlkreisen, in denen ihr Wähleranteil mindestens 4% beträ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isher: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Zulassung einer Partei zur Sitzverteilung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in all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Wahlkreis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, wenn ihr Wähleranteil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in wenigstens einem Wahlkrei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mindestens 5% beträ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n den im Grossen Rat vertretenen Parteien sind 2008 unter dem 4%-Quorum geblieben: die LDP in Kleinbasel, die EVP in Grossbasel-Ost und Kleinbasel, die DSP in Grossbasel-Ost, Grossbasel-West und Ri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91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9E1E4-43D3-4043-BC0D-E22C10F09B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87360" y="3403440"/>
          <a:ext cx="8389800" cy="2632320"/>
        </p:xfrm>
        <a:graphic>
          <a:graphicData uri="http://schemas.openxmlformats.org/drawingml/2006/table">
            <a:tbl>
              <a:tblPr/>
              <a:tblGrid>
                <a:gridCol w="1374840"/>
                <a:gridCol w="216000"/>
                <a:gridCol w="733320"/>
                <a:gridCol w="753840"/>
                <a:gridCol w="753840"/>
                <a:gridCol w="752040"/>
                <a:gridCol w="753840"/>
                <a:gridCol w="753840"/>
                <a:gridCol w="752400"/>
                <a:gridCol w="771480"/>
                <a:gridCol w="774360"/>
              </a:tblGrid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hleranteil 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gemäss Hagenbach-Bisch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gemäss Sainte-Lagu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zit: Vergleich ‚alt‘ – ‚neu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96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Hagenbach-Bischoff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mit Listenverbindungen / 5%-Quorum in einem Wahlkreis)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vs.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Sainte-Laguë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/ </a:t>
            </a:r>
            <a:br>
              <a:rPr sz="2800"/>
            </a:b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4%-Quorum in jedem Wahlkre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5ED1B-F7C6-4EF3-A733-BD086A5789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stufiges Verfahren: Was bleibt gleich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533240"/>
            <a:ext cx="838980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i der Wahl der Regierungsmitglieder und bei derjenigen der Regierungspräsidentin bzw. des Regierungspräsidenten handelt es sich um zwei verschiedene W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ählbar sind alle Stimmberechtigten, auch wenn kein Wahlvorschlag eingereicht wurde (und die Kandidatur somit nicht auf einem vorgedruckten Wahlzettel ersche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715880" y="800640"/>
            <a:ext cx="1140120" cy="763560"/>
            <a:chOff x="7715880" y="800640"/>
            <a:chExt cx="1140120" cy="763560"/>
          </a:xfrm>
        </p:grpSpPr>
        <p:sp>
          <p:nvSpPr>
            <p:cNvPr id="102" name=""/>
            <p:cNvSpPr/>
            <p:nvPr/>
          </p:nvSpPr>
          <p:spPr>
            <a:xfrm rot="629400">
              <a:off x="7858080" y="87588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629400">
              <a:off x="7748280" y="101124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B9ADC-32E1-4346-B2A6-B17D94ACAB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stufiges Verfahren: Was wird neu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vorschläge für die Regierungspräsidentin bzw. den Regierungspräsidenten müssen von mindestens 30 Stimmberechtigen unterzeichnet werden (bisher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 der Regierungsmitglieder und diejenige der Regierungspräsidentin bzw. des Regierungspräsidenten erfolgen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zeitgl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. Wahlgang: 28. Okto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2. Wahlgang: 25. Novem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d auf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einem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ahlzet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0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BFB37-9CA3-4B4C-844E-9133014930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stufiges Verfahren: Was wird neu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ls Regierungspräsidentin bzw. Regierungspräsident kann nur gewählt werden, wer auf dem selben Wahlzettel als Mitglied des Regierungsrates gewählt w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ls Regierungspräsidentin bzw. Regierungspräsident im 1. Wahlgang gewählt ist, wer das absolute Mehr erre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stille Wahl der Regierungspräsidentin bzw. des Regierungspräsidenten ist nicht mehr mög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1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78C5B-507B-4D5C-8C09-1FDDFFC68A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gabe der Wahlvorschläg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1. Wahlg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8. Oktober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 späteste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tag, 3. September 2012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9.00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2. Wahlg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5. November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 späteste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ttwoch, 31. Oktober 2012, 12.00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 der Staatskanzlei Basel-Stadt beim Ressort Wahlen und Abstimm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725600" y="562680"/>
            <a:ext cx="1129320" cy="760680"/>
            <a:chOff x="7725600" y="562680"/>
            <a:chExt cx="1129320" cy="760680"/>
          </a:xfrm>
        </p:grpSpPr>
        <p:sp>
          <p:nvSpPr>
            <p:cNvPr id="11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629400">
              <a:off x="7752960" y="773280"/>
              <a:ext cx="1074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66"/>
                  </a:solidFill>
                  <a:latin typeface="Arial"/>
                </a:rPr>
                <a:t>Regierungsrat &amp; Grosser R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6696C-8559-4449-AA94-5A13445FEB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ell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ahlvorschläge müssen auf den amtlichen Formularen eingereich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vorschläge müssen von mindestens      30 Stimmberechtigen unterzeichnet sein; im Wahlkreis Bettingen genügt die Unterzeichnung durch mindestens 10 Stimmberechtig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Vorgeschlagene dürfen ihren Wahlvorschlag nicht unter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 Wahlkreis darf nur ein Wahlvorschlag unterzeichne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2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51CB4-6CE7-46F0-879E-9D6204CE4C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bringen einer geeigneten Listenbezei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s dürfen nicht mehr Personen vorgeschlagen werden, als Mandate zu vergeb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geschlagene dürfen maximal dreimal aufgefüh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gabe von Namen/Vornamen, Geburtsjahr,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ruf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und Wohnadresse der Vorgeschlag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r Wohnsitz der Vorgeschlagenen muss im Zeitpunkt der Einreichung des Wahlvorschlags im Kanton Basel-Stadt 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r Kandidatur in einem Wahlkreis ist nicht erforderlich, dass die kandidierende Person effektiv dort wohnt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(erforderlich ist einzig der Wohnsitz im Kanton Basel-Stad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2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AD7AA-D59C-4BD7-9656-1552C5B80E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ngabe von Namen/Vornamen, Geburtsjahr und Wohnadresse der Unterzeichn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widerrufliche und unterschriftliche Zustimmungserklärung der Vorgeschlagenen zu ihrer Kandid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oppelkandidaturen (in mehreren Wahlkreisen oder auf mehreren Wahlvorschlägen im gleichen Wahlkreis) sind unzulä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3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0982C-BF66-4D31-AF6D-1535B651E5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22520" y="1000080"/>
            <a:ext cx="4379760" cy="539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3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CA58D-484C-4F43-8043-984456F8E2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Neu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sser 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erungsrat und Regierungspräsident/-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Te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Vorbereitung und Durchführung der W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sser 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erungsrat und Regierungspräsident/-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9EDAF-7E08-478B-829C-F722F9FC17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eine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vorgedruckt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verändertes Ein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reichen/Ersetzen von Kandidatenn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Kumulieren von Kandidatennamen (max. dreimalige Nenn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anaschieren (Eintragen von Kandidatennamen anderer Lis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Vorgedruckte Listenbezeichnung/Ordnungsnummer streichen oder änd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der Freien 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stenbezeichnung/Ordnungsnummer eintra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d/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4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13219-3D2B-43F6-A359-5DCCA88714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 der Parteistim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rücksichtig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immen für Namen der entsprechenden Partei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satzstimmen auf Listen, welche eine Bezeichnung oder Ordnungsnummer tragen, das heis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nien mit ungültigen Kandidatenstim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nien mit gestrichenen Na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eere Lin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berücksichtigt bleib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Überzählige Stimmen für eine Kandidatin bzw. einen Kandidaten (überkumuli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immen für überzählige Kandidatinnen bzw. Kandidaten (mehr Kandidatennamen als Mandate zu vergeben s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4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0EBF0-F9EB-4329-8F16-686758DC2E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 der Kandidatenstim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7000" y="1471320"/>
            <a:ext cx="838980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Kandidatenstimmen sind ungültig, wenn s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e den Willen der Wählerin/des Wählers nicht eindeutig erkennen 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e für eine nicht vorgeschlagene Person abgegeben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5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FB8FF-7CC3-401D-8548-DC94CEB342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ell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Wahlvorschläge müssen auf den amtlichen Formularen eingereich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Die Wahlvorschläge müssen von mindestens      30 Stimmberechtigen unterzeichnet s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Vorgeschlagene dürfen ihren Wahlvorschlag nicht unter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 Wahl (Regierungsrat und Regierungspräsident bzw. Regierungspräsidentin) darf nur ein Wahlvorschlag unterzeichne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5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7B13E-0C5F-4C5B-AB1D-6C329BB735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dddddd"/>
                </a:solidFill>
                <a:latin typeface="Arial"/>
              </a:rPr>
              <a:t>Anbringen einer geeigneten Listenbezei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dddddd"/>
                </a:solidFill>
                <a:latin typeface="Arial"/>
              </a:rPr>
              <a:t>Es dürfen nicht mehr Personen vorgeschlagen werden, als Mandate zu vergeb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geschlagene dürfen maximal einmal aufgefüh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ls Regierungspräsidentin/Regierungspräsident kann nur vorgeschlagen werden, wer auch als Regierungsrätin bzw. Regierungsrat vorgeschlagen w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gabe von Namen/Vornamen, Geburtsjahr,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ruf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und Wohnadresse der Vorgeschlag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r Wohnsitz der Vorgeschlagenen muss im Zeitpunkt der Einreichung des Wahlvorschlags im Kanton Basel-Stadt 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6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55792-D4EE-4D81-A1E2-9609851958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ngabe von Namen/Vornamen, Geburtsjahr und Wohnadresse der Unterzeichn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Unwiderrufliche und unterschriftliche Zustimmungserklärung der Vorgeschlagenen zu ihrer Kandid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pelkandidaturen auf mehreren Wahlvorschlägen sind unzulä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6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9F54D-1F35-4771-A327-555B36F367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77800" y="984240"/>
            <a:ext cx="3948120" cy="52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727520" y="977760"/>
            <a:ext cx="4208400" cy="528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2" name=""/>
          <p:cNvGrpSpPr/>
          <p:nvPr/>
        </p:nvGrpSpPr>
        <p:grpSpPr>
          <a:xfrm>
            <a:off x="7715880" y="143640"/>
            <a:ext cx="1140120" cy="763560"/>
            <a:chOff x="7715880" y="143640"/>
            <a:chExt cx="1140120" cy="763560"/>
          </a:xfrm>
        </p:grpSpPr>
        <p:sp>
          <p:nvSpPr>
            <p:cNvPr id="173" name=""/>
            <p:cNvSpPr/>
            <p:nvPr/>
          </p:nvSpPr>
          <p:spPr>
            <a:xfrm rot="629400">
              <a:off x="7858080" y="21888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629400">
              <a:off x="7748280" y="35424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77353-9477-4663-BDB5-EE0BA031366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eines vorgedruckt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verändertes Ein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reichen/Ersetzen von Kandidatenn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 (sofern leere Linien vorhanden s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des leer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er jemanden als Regierungspräsidentin bzw. Regierungspräsident wählt, muss diese Person auf dem selben Wahlzettel auch als Mitglied des Regierungsrates wäh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er an der Wahl für die Regierungspräsidentin bzw. den Regierungspräsidenten nicht teilnehmen will, kann den entsprechenden Wahlzettel abtre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78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44009-A0B4-49E1-84E5-E0FF0B5EAAA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 der Wahl der Mitglieder des Regierungsra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e Kandidatenstimme ist gültig, wenn sie für eine vorgeschlagene oder im Kanton Basel-Stadt stimmberechtigte Person abgegeben wu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 der Wahl der Regierungspräsidentin bzw. des Regierungspräside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e Kandidatenstimme ist gültig, wenn sie für eine vorgeschlagene oder im Kanton Basel-Stadt stimmberechtigte Person abgegeben wurde, sofern diese Person auf dem selben Wahlzettel auch als Mitglied des Regierungsrates gewähl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Kandidatenstimmen sind ungültig, wenn sie den Willen der Wählerin/des Wählers nicht eindeutig erkennen 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absolute Mehr wird für die beiden Wahlen getrennt ermitt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83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2448C-493B-48E4-8D58-06639F6D58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uerungen im Überbli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700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verteilung der Grossratssitze auf die Wahlkre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es Verfahren zur Sitzverteilung auf die Parte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chaffung der List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e Quorumsrege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5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680C6-89EC-4B90-9CE1-406199C465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verteilung der Grossratssitze auf die Wahlkre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360" y="1216080"/>
            <a:ext cx="864720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22280" y="2610000"/>
          <a:ext cx="8290080" cy="2950920"/>
        </p:xfrm>
        <a:graphic>
          <a:graphicData uri="http://schemas.openxmlformats.org/drawingml/2006/table">
            <a:tbl>
              <a:tblPr/>
              <a:tblGrid>
                <a:gridCol w="2127240"/>
                <a:gridCol w="2019240"/>
                <a:gridCol w="2070000"/>
                <a:gridCol w="2073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hlkre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hn-bevölkeru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änderung zu 2008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basel-O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‘3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basel-We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‘8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inbas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‘0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eh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‘60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ting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‘13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87280" y="5641920"/>
            <a:ext cx="35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mäss Grossratsbeschluss vom 8.2.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59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: ständige Wohnbevölkerung gemäss eidgenössischer Volkszählung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BB702-EE79-466B-9B9C-2945BF372A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ues Verfahren zur Sitzvertei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ainte-Laguë-Verfah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Berechnungsverfahren verhält sich bezüglich der Parteigrössen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ie Benachteiligung der kleineren Parteien, welche dem alten Verfahren (Hagenbach-Bischoff) inhärent war, fällt w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6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DB7E8-18D8-4802-A19B-D87D8FE1AA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zverteilung: Rechenbeispi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zverteilung am Beispiel der Partei A (1‘000 Stimmen), der Partei B (1‘500 Stimmen) und der Partei C (2‘000 Stimmen), in einem Wahlkreis mit 20 Sitz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1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Total der Parteistimmen pro Wahlkreis wird durch die Anzahl der zu verteilenden Mandate geteilt. Die auf den Quotienten folgende ganze Zahl ist die Wahlzahl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‘500 Stimmen : 20 Sitze = 225 (Wahlzahl = 2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2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Parteien erhalten so viele Sitze, wie die Wahlzahl in ihrer Gesamtstimmenzahl enthalten 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A: 4 Sitze (1‘000 : 226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B: 6 Sitze (1‘500 : 226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C: 8 Sitze (2‘000 : 2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70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097AF-14F0-4CA5-AB69-DD8975D3A0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zverteilung: Rechenbeispi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ritt 3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n 20 sind nun 18 Sitze verteilt. Die Verteilung der restlichen beiden Sitze geschieht wie folgt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Gesamtstimmenzahl jeder Partei wird durch die verdoppelte und um 1 erhöhte Zahl der ihr bereits zugewiesenen Mandate geteilt. Die Partei mit dem grössten Quotienten erhält den nächsten offenen Sitz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A: 111.11 (1‘000 : {4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B: 115.38 (1‘500 : {6x2}+1)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C: 117.64 (2‘000 : {8x2}+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ei C erhält den 19. Sitz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itt 3 wird wiederholt, bis alle Mandate zugeteilt sin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A: 111.11 (1‘000 : {4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B: 115.38 (1‘500 : {6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C: 105.26 (2‘000 : {9x2}+1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ei B erhält den 20. Si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7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77F6A-CC63-4FC5-9C24-E7EB5D1F89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schaffung der Listenverbind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7000" y="1104480"/>
            <a:ext cx="854244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ch das neue Sitzverteilungsverfahren fällt die Benachteiligung der kleineren Parteien weg, wodurch Listenverbindungen unnötig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e Stimme kommt somit direkt der von der Wählerin oder dem Wähler favorisierten Liste zugute (sofern die 4% Hürde im Wahlkreis genommen wir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ck über die Grenze: Die Kantone Aargau, Zürich und Zug haben die Listenverbindungen ebenfalls abgeschaf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80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542F3-3174-486A-B3CE-4723B838E5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87360" y="3440160"/>
          <a:ext cx="8389800" cy="2701800"/>
        </p:xfrm>
        <a:graphic>
          <a:graphicData uri="http://schemas.openxmlformats.org/drawingml/2006/table">
            <a:tbl>
              <a:tblPr/>
              <a:tblGrid>
                <a:gridCol w="1374840"/>
                <a:gridCol w="216000"/>
                <a:gridCol w="733320"/>
                <a:gridCol w="753840"/>
                <a:gridCol w="753840"/>
                <a:gridCol w="752040"/>
                <a:gridCol w="753840"/>
                <a:gridCol w="753840"/>
                <a:gridCol w="752400"/>
                <a:gridCol w="771480"/>
                <a:gridCol w="774360"/>
              </a:tblGrid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hleranteil 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nac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bach-Bisch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nach Sainte- Lagu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gleich Sitzvertei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8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Hagenbach-Bischoff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und mit 5%-Quorum in einem Wahlkreis)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vs.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Sainte-Laguë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mit 5%-Quorum in einem Wahlkre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5781C-FC87-4BEA-BDCF-CB72817B5B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3:41:32Z</dcterms:created>
  <dc:creator>Gross Brigitte</dc:creator>
  <dc:description/>
  <dc:language>en-US</dc:language>
  <cp:lastModifiedBy>sslord</cp:lastModifiedBy>
  <dcterms:modified xsi:type="dcterms:W3CDTF">2012-03-15T15:24:20Z</dcterms:modified>
  <cp:revision>125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4332698</vt:r8>
  </property>
  <property fmtid="{D5CDD505-2E9C-101B-9397-08002B2CF9AE}" pid="3" name="_AuthorEmail">
    <vt:lpwstr>Daniel.Orsini@bs.ch</vt:lpwstr>
  </property>
  <property fmtid="{D5CDD505-2E9C-101B-9397-08002B2CF9AE}" pid="4" name="_AuthorEmailDisplayName">
    <vt:lpwstr>Orsini, Daniel</vt:lpwstr>
  </property>
  <property fmtid="{D5CDD505-2E9C-101B-9397-08002B2CF9AE}" pid="5" name="_EmailSubject">
    <vt:lpwstr/>
  </property>
  <property fmtid="{D5CDD505-2E9C-101B-9397-08002B2CF9AE}" pid="6" name="_NewReviewCycle">
    <vt:lpwstr/>
  </property>
  <property fmtid="{D5CDD505-2E9C-101B-9397-08002B2CF9AE}" pid="7" name="_PreviousAdHocReviewCycleID">
    <vt:r8>635825799</vt:r8>
  </property>
</Properties>
</file>