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405AE-B0F5-4C67-A496-7639FEF14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C4D3D-E6FB-48E7-A4D9-920E42E43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4D7F-FA07-4760-BB48-46DB7D634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8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096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70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8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096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4C786-7BFB-401F-8B06-062B87A771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E7E48-73BC-43AF-BC72-6307D0259C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DF14E-A5E7-4EB8-98B3-07B0E48A9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19761-8DFC-40D1-942F-86B87A32D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7D95-C25A-4D70-BFF4-3E06344E2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7000" y="250560"/>
            <a:ext cx="838980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1BB5C-35AF-4871-A41C-F4F4597EF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7D34-A127-4C15-BE25-F22ADC429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1B30D-EA62-4483-819B-1AEA14AEB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D3BF-642A-4F5B-8726-96749391F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69880" y="6470640"/>
            <a:ext cx="473724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55000" y="6470640"/>
            <a:ext cx="73512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Folie </a:t>
            </a:r>
            <a:fld id="{D0A781BA-6CD7-4FE5-87F8-A828F2A55BDE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20600" y="6354720"/>
            <a:ext cx="187200" cy="300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5920" y="608796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3040" y="6512040"/>
            <a:ext cx="243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Kanton Basel-Stad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6273720"/>
            <a:ext cx="24555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06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hlen 20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71520" y="3886200"/>
            <a:ext cx="774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über Neuerungen, die Vorbereitung und die Durch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4AB24-1FF7-4589-87E6-370A38AB6D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Neue Quoren in den Wahlkreis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em Wählerwillen wird neu wahlkreisspezifisch Rechnung get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lassung einer Partei zur Sitzverteilung in denjenigen Wahlkreisen, in denen ihr Wähleranteil mindestens 4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isher: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ulassung einer Partei zur Sitzverteilung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all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Wahlkreis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, wenn ihr Wähleranteil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wenigstens einem Wahlkrei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mindestens 5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n den im Grossen Rat vertretenen Parteien sind 2008 unter dem 4%-Quorum geblieben: die LDP in Kleinbasel, die EVP in Grossbasel-Ost und Kleinbasel, die DSP in Grossbasel-Ost, Grossbasel-West und Ri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1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602AD-4304-41B6-8B88-0BC4B204D4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87360" y="3403440"/>
          <a:ext cx="8389800" cy="263232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Sainte-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zit: Vergleich ‚alt‘ – ‚neu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6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mit Listenverbindungen /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/ </a:t>
            </a:r>
            <a:br>
              <a:rPr sz="2800"/>
            </a:b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4%-Quorum in jed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642C5-C86D-404B-8C46-2CFA6BD59D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stufiges Verfahren: Was bleibt gleic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53324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i der Wahl der Regierungsmitglieder und bei derjenigen der Regierungspräsidentin bzw. des Regierungspräsidenten handelt es sich um zwei verschiedene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ählbar sind alle Stimmberechtigten, auch wenn kein Wahlvorschlag eingereicht wurde (und die Kandidatur somit nicht auf einem vorgedruckten Wahlzettel ersche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715880" y="800640"/>
            <a:ext cx="1140120" cy="763560"/>
            <a:chOff x="7715880" y="800640"/>
            <a:chExt cx="1140120" cy="763560"/>
          </a:xfrm>
        </p:grpSpPr>
        <p:sp>
          <p:nvSpPr>
            <p:cNvPr id="102" name=""/>
            <p:cNvSpPr/>
            <p:nvPr/>
          </p:nvSpPr>
          <p:spPr>
            <a:xfrm rot="629400">
              <a:off x="7858080" y="875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629400">
              <a:off x="7748280" y="1011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5405E-6646-413F-AF65-DD212B19C9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für die Regierungspräsidentin bzw. den Regierungspräsidenten müssen von mindestens 30 Stimmberechtigen unterzeichnet werden (bisher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 der Regierungsmitglieder und diejenige der Regierungspräsidentin bzw. des Regierungspräsidenten erfolgen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zeitgl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. Wahlgang: 28. Okto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. Wahlgang: 25. Novem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d auf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einem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ze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0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39D3B-F53B-418E-8C70-F629F49502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kann nur gewählt werden, wer auf dem selben Wahlzettel als Mitglied des Regierungsrates gewählt w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im 1. Wahlgang gewählt ist, wer das absolute Mehr erre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stille Wahl der Regierungspräsidentin bzw. des Regierungspräsidenten ist nicht mehr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1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CEFC-DC4A-4B1A-B021-763C972D8A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gabe der Wahlvorschläg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1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8. Okto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tag, 3. September 2012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9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2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5. Novem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twoch, 31. Oktober 2012, 12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 der Staatskanzlei Basel-Stadt beim Ressort Wahlen und Abstimm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725600" y="562680"/>
            <a:ext cx="1129320" cy="760680"/>
            <a:chOff x="7725600" y="562680"/>
            <a:chExt cx="1129320" cy="760680"/>
          </a:xfrm>
        </p:grpSpPr>
        <p:sp>
          <p:nvSpPr>
            <p:cNvPr id="11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629400">
              <a:off x="7752960" y="773280"/>
              <a:ext cx="1074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66"/>
                  </a:solidFill>
                  <a:latin typeface="Arial"/>
                </a:rPr>
                <a:t>Regierungsrat &amp; Grosser R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E3BF8-C81A-40F2-90A8-29CC56E63D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müssen von mindestens      30 Stimmberechtigen unterzeichnet sein; im Wahlkreis Bettingen genügt die Unterzeichnung durch mindestens 10 Stimmberechti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kreis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58359-FE88-4473-98A0-782C8749C9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drei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r Kandidatur in einem Wahlkreis ist nicht erforderlich, dass die kandidierende Person effektiv dort wohnt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erforderlich ist einzig der Wohnsitz im Kanton Basel-Sta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90F34-2BF0-46BD-B852-2741E687FB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oppelkandidaturen (in mehreren Wahlkreisen oder auf mehreren Wahlvorschlägen im gleichen Wahlkreis)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2CFB6-A4D0-45A2-AB6E-CC3E3CDDBE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22520" y="1000080"/>
            <a:ext cx="4379760" cy="539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E0605-0D84-4967-B770-8192651145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Neu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Vorbereitung und Durchführung der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D4839-287C-4756-977F-9F32DAFF25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in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Kumulieren von Kandidatennamen (max. dreimalige Nen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anaschieren (Eintragen von Kandidatennamen anderer Lis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orgedruckte Listenbezeichnung/Ordnungsnummer streichen oder än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r Freien 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stenbezeichnung/Ordnungsnummer eintra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d/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C62BD-D867-474E-90EA-77FA71C93A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Partei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rücksichtig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Namen der entsprechenden Partei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satzstimmen auf Listen, welche eine Bezeichnung oder Ordnungsnummer tragen, das heis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ungültigen Kandidatensti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gestrichenen Na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eere Lin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berücksichtigt blei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Überzählige Stimmen für eine Kandidatin bzw. einen Kandidaten (überkumuli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überzählige Kandidatinnen bzw. Kandidaten (mehr Kandidatennamen als Mandate zu vergeben s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B690C-A9A9-41EA-91A0-61DA1FAD5C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Kandidaten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7000" y="147132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Kandidatenstimmen sind ungültig, wenn 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für eine nicht vorgeschlagene Person abgegeben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7FCF9-384C-4968-BB5C-7ABA3E88B5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Die Wahlvorschläge müssen von mindestens      30 Stimmberechtigen unterzeichnet s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 (Regierungsrat und Regierungspräsident bzw. Regierungspräsidentin)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5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EFD20-9391-4DF5-BE78-5E36F16E96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ein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ls Regierungspräsidentin/Regierungspräsident kann nur vorgeschlagen werden, wer auch als Regierungsrätin bzw. Regierungsrat vorgeschlagen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3B174-A13F-4B08-A17A-C00DEAA2F8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pelkandidaturen auf mehreren Wahlvorschlägen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883A8-FEF8-4446-BE79-DF8C115852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7800" y="984240"/>
            <a:ext cx="394812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27520" y="977760"/>
            <a:ext cx="4208400" cy="528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7715880" y="143640"/>
            <a:ext cx="1140120" cy="763560"/>
            <a:chOff x="7715880" y="143640"/>
            <a:chExt cx="1140120" cy="763560"/>
          </a:xfrm>
        </p:grpSpPr>
        <p:sp>
          <p:nvSpPr>
            <p:cNvPr id="173" name=""/>
            <p:cNvSpPr/>
            <p:nvPr/>
          </p:nvSpPr>
          <p:spPr>
            <a:xfrm rot="629400">
              <a:off x="7858080" y="218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629400">
              <a:off x="7748280" y="354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23F0D-B317-4897-B151-3C50DE30908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eines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 (sofern leere Linien vorhanden s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s leer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jemanden als Regierungspräsidentin bzw. Regierungspräsident wählt, muss diese Person auf dem selben Wahlzettel auch als Mitglied des Regierungsrates 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an der Wahl für die Regierungspräsidentin bzw. den Regierungspräsidenten nicht teilnehmen will, kann den entsprechenden Wahlzettel abtre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78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B79F5-CE9C-4283-B7EB-A414E03FD3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Mitglieder des Regierungsr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Regierungspräsidentin bzw. des Regierungspräs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, sofern diese Person auf dem selben Wahlzettel auch als Mitglied des Regierungsrates gewäh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Kandidatenstimmen sind ungültig, wenn 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absolute Mehr wird für die beiden Wahlen getrennt ermitt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83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9867F-CFDD-429D-81CE-8DDA0EB34B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rungen im Überbli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700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s Verfahren zur Sitzverteilung auf die Part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 Quorumsrege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64458-C493-43EF-80F7-9C691924C6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216080"/>
            <a:ext cx="86472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22280" y="2610000"/>
          <a:ext cx="8290080" cy="2950920"/>
        </p:xfrm>
        <a:graphic>
          <a:graphicData uri="http://schemas.openxmlformats.org/drawingml/2006/table">
            <a:tbl>
              <a:tblPr/>
              <a:tblGrid>
                <a:gridCol w="2127240"/>
                <a:gridCol w="2019240"/>
                <a:gridCol w="2070000"/>
                <a:gridCol w="2073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hlkre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hn-bevölkeru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änderung zu 2008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‘3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We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‘8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bas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‘0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h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‘6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ing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‘13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87280" y="564192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äss Grossratsbeschluss vom 8.2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9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: ständige Wohnbevölkerung gemäss eidgenössischer Volkszählung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D2AD5-713D-4C7E-A35F-EAC8F116B4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s Verfahren zur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ainte-Laguë-Verfah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Berechnungsverfahren verhält sich bezüglich der Parteigrössen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ie Benachteiligung der kleineren Parteien, welche dem alten Verfahren (Hagenbach-Bischoff) inhärent war, fällt w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6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B7E98-4A5F-44E8-9BC1-0CB8A60A7F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zverteilung am Beispiel der Partei A (1‘000 Stimmen), der Partei B (1‘500 Stimmen) und der Partei C (2‘000 Stimmen), in einem Wahlkreis mit 20 Sitz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1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Total der Parteistimmen pro Wahlkreis wird durch die Anzahl der zu verteilenden Mandate geteilt. Die auf den Quotienten folgende ganze Zahl ist die Wahlzah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‘500 Stimmen : 20 Sitze = 225 (Wahlzahl =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2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Parteien erhalten so viele Sitze, wie die Wahlzahl in ihrer Gesamtstimmenzahl enthalten 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A: 4 Sitze (1‘0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B: 6 Sitze (1‘5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C: 8 Sitze (2‘000 :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9DE1-2D62-4D4D-AD3E-BF048E67CB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ritt 3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20 sind nun 18 Sitze verteilt. Die Verteilung der restlichen beiden Sitze geschieht wie folgt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Gesamtstimmenzahl jeder Partei wird durch die verdoppelte und um 1 erhöhte Zahl der ihr bereits zugewiesenen Mandate geteilt. Die Partei mit dem grössten Quotienten erhält den nächsten offenen Sitz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17.64 (2‘000 : {8x2}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C erhält den 19. Sitz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3 wird wiederholt, bis alle Mandate zugeteilt sin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05.26 (2‘000 : {9x2}+1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B erhält den 20. S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0F4EC-6A8F-48DA-BCDC-71212DCA67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7000" y="1104480"/>
            <a:ext cx="854244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das neue Sitzverteilungsverfahren fällt die Benachteiligung der kleineren Parteien weg, wodurch Listenverbindungen unnötig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 Stimme kommt somit direkt der von der Wählerin oder dem Wähler favorisierten Liste zugute (sofern die 4% Hürde im Wahlkreis genommen wir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ck über die Grenze: Die Kantone Aargau, Zürich und Zug haben die Listenverbindungen ebenfalls abgescha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6767C-58A7-40C6-A069-AECB82EC0F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7360" y="3440160"/>
          <a:ext cx="8389800" cy="270180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Sainte- 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gleich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und mit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mit 5%-Quorum in ein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DCB90-F703-467F-BA6A-EF681A9F27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3:41:32Z</dcterms:created>
  <dc:creator>Gross Brigitte</dc:creator>
  <dc:description/>
  <dc:language>en-US</dc:language>
  <cp:lastModifiedBy>sslord</cp:lastModifiedBy>
  <dcterms:modified xsi:type="dcterms:W3CDTF">2012-03-15T15:24:20Z</dcterms:modified>
  <cp:revision>12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4332698</vt:r8>
  </property>
  <property fmtid="{D5CDD505-2E9C-101B-9397-08002B2CF9AE}" pid="3" name="_AuthorEmail">
    <vt:lpwstr>Daniel.Orsini@bs.ch</vt:lpwstr>
  </property>
  <property fmtid="{D5CDD505-2E9C-101B-9397-08002B2CF9AE}" pid="4" name="_AuthorEmailDisplayName">
    <vt:lpwstr>Orsini, Daniel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PreviousAdHocReviewCycleID">
    <vt:r8>635825799</vt:r8>
  </property>
</Properties>
</file>