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C7004-D1E7-4B19-B424-0E4B84DFD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AEADE-114A-4A0D-8F8D-65362C892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10B67-C601-4C4D-B457-193F1E9FF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38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096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70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38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096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21ABE-1A6A-4018-B618-3B1E95AA84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F4119-D31D-4CC2-82CA-ABF8C18BBD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4B298-61AB-49A6-AF4A-43D0F9C11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FC43D-2AE5-48F8-9338-0FF576CAA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B19C6-0B9D-4DEF-BD05-F29D96A7B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7000" y="250560"/>
            <a:ext cx="838980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4D47D-6449-4DB8-A814-55003D15A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4EBE8-589E-46A7-8967-BBFC8ACE1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72CE7-F6CC-4E75-9987-A9DDB107C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C8358-437A-4B58-9E1F-70304E222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69880" y="6470640"/>
            <a:ext cx="473724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55000" y="6470640"/>
            <a:ext cx="73512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Folie </a:t>
            </a:r>
            <a:fld id="{E88734FB-13D7-404D-92E6-B68A256F0006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20600" y="6354720"/>
            <a:ext cx="187200" cy="3002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85920" y="608796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3040" y="6512040"/>
            <a:ext cx="243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Kanton Basel-Stad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2760" y="6273720"/>
            <a:ext cx="245556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06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hlen 201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71520" y="3886200"/>
            <a:ext cx="7748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über Neuerungen, die Vorbereitung und die Durch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F7DAD-C14F-4EC2-9A6A-1BAA32D563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Neue Quoren in den Wahlkreis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Dem Wählerwillen wird neu wahlkreisspezifisch Rechnung getra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lassung einer Partei zur Sitzverteilung in denjenigen Wahlkreisen, in denen ihr Wähleranteil mindestens 4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isher: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Zulassung einer Partei zur Sitzverteilung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all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Wahlkreis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, wenn ihr Wähleranteil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wenigstens einem Wahlkrei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mindestens 5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n den im Grossen Rat vertretenen Parteien sind 2008 unter dem 4%-Quorum geblieben: die LDP in Kleinbasel, die EVP in Grossbasel-Ost und Kleinbasel, die DSP in Grossbasel-Ost, Grossbasel-West und Ri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1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CF821-2F0F-424E-ABEA-E4DFAE521A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87360" y="3403440"/>
          <a:ext cx="8389800" cy="263232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Sainte-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zit: Vergleich ‚alt‘ – ‚neu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6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mit Listenverbindungen /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/ </a:t>
            </a:r>
            <a:br>
              <a:rPr sz="2800"/>
            </a:b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4%-Quorum in jed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03A93-BC55-4ADF-A39D-A3A82F6FB5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stufiges Verfahren: Was bleibt gleich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53324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i der Wahl der Regierungsmitglieder und bei derjenigen der Regierungspräsidentin bzw. des Regierungspräsidenten handelt es sich um zwei verschiedene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ählbar sind alle Stimmberechtigten, auch wenn kein Wahlvorschlag eingereicht wurde (und die Kandidatur somit nicht auf einem vorgedruckten Wahlzettel ersche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715880" y="800640"/>
            <a:ext cx="1140120" cy="763560"/>
            <a:chOff x="7715880" y="800640"/>
            <a:chExt cx="1140120" cy="763560"/>
          </a:xfrm>
        </p:grpSpPr>
        <p:sp>
          <p:nvSpPr>
            <p:cNvPr id="102" name=""/>
            <p:cNvSpPr/>
            <p:nvPr/>
          </p:nvSpPr>
          <p:spPr>
            <a:xfrm rot="629400">
              <a:off x="7858080" y="875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629400">
              <a:off x="7748280" y="1011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7C058-53F7-442A-A265-8F749D04DF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für die Regierungspräsidentin bzw. den Regierungspräsidenten müssen von mindestens 30 Stimmberechtigen unterzeichnet werden (bisher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 der Regierungsmitglieder und diejenige der Regierungspräsidentin bzw. des Regierungspräsidenten erfolgen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zeitgl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. Wahlgang: 28. Okto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2. Wahlgang: 25. Novem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d auf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einem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zet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0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49B5D-694B-44EC-B09F-10ABFC14B2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kann nur gewählt werden, wer auf dem selben Wahlzettel als Mitglied des Regierungsrates gewählt w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im 1. Wahlgang gewählt ist, wer das absolute Mehr erre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stille Wahl der Regierungspräsidentin bzw. des Regierungspräsidenten ist nicht mehr 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1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3275C-A5DE-4A51-9B77-95667839D3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gabe der Wahlvorschläg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1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8. Okto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tag, 3. September 2012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9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2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5. Novem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ttwoch, 31. Oktober 2012, 12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 der Staatskanzlei Basel-Stadt beim Ressort Wahlen und Abstimm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725600" y="562680"/>
            <a:ext cx="1129320" cy="760680"/>
            <a:chOff x="7725600" y="562680"/>
            <a:chExt cx="1129320" cy="760680"/>
          </a:xfrm>
        </p:grpSpPr>
        <p:sp>
          <p:nvSpPr>
            <p:cNvPr id="11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629400">
              <a:off x="7752960" y="773280"/>
              <a:ext cx="1074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66"/>
                  </a:solidFill>
                  <a:latin typeface="Arial"/>
                </a:rPr>
                <a:t>Regierungsrat &amp; Grosser R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7C49F-7572-4C7E-B8C8-1497F0924E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müssen von mindestens      30 Stimmberechtigen unterzeichnet sein; im Wahlkreis Bettingen genügt die Unterzeichnung durch mindestens 10 Stimmberechtig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kreis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F4460-0D0F-40D0-B1AE-C13AF642FA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drei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r Kandidatur in einem Wahlkreis ist nicht erforderlich, dass die kandidierende Person effektiv dort wohnt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(erforderlich ist einzig der Wohnsitz im Kanton Basel-Stad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DE840-1A27-4679-87CB-28EFC42E8E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oppelkandidaturen (in mehreren Wahlkreisen oder auf mehreren Wahlvorschlägen im gleichen Wahlkreis)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8CD26-727E-4B2D-B90E-00B09CF95A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22520" y="1000080"/>
            <a:ext cx="4379760" cy="539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62FC8-1C5D-47EF-A1AC-733C78A5D8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Neu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e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Vorbereitung und Durchführung der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A2DE4-D0F1-4F45-B175-9B82279D53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eine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Kumulieren von Kandidatennamen (max. dreimalige Nenn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anaschieren (Eintragen von Kandidatennamen anderer Lis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Vorgedruckte Listenbezeichnung/Ordnungsnummer streichen oder än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r Freien 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stenbezeichnung/Ordnungsnummer eintra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d/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31851-19B2-401C-B002-1741C3B231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Partei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rücksichtig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Namen der entsprechenden Partei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satzstimmen auf Listen, welche eine Bezeichnung oder Ordnungsnummer tragen, das heis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ungültigen Kandidatenstim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gestrichenen Na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eere Lin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berücksichtigt blei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Überzählige Stimmen für eine Kandidatin bzw. einen Kandidaten (überkumuli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überzählige Kandidatinnen bzw. Kandidaten (mehr Kandidatennamen als Mandate zu vergeben s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1CF53-AD96-4975-97E5-1D8B6637FA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Kandidaten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7000" y="147132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Kandidatenstimmen sind ungültig, wenn s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für eine nicht vorgeschlagene Person abgegeben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35CD8-FD13-450B-AC15-A2D691A06B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Die Wahlvorschläge müssen von mindestens      30 Stimmberechtigen unterzeichnet s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 (Regierungsrat und Regierungspräsident bzw. Regierungspräsidentin)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5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86EC1-6696-46C0-882B-1F9BEE86A1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ein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ls Regierungspräsidentin/Regierungspräsident kann nur vorgeschlagen werden, wer auch als Regierungsrätin bzw. Regierungsrat vorgeschlagen w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52347-BF47-48AC-AF1A-F7FEEB330F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pelkandidaturen auf mehreren Wahlvorschlägen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10A0F-5A2D-42D4-B45A-8CCCFED91E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7800" y="984240"/>
            <a:ext cx="394812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727520" y="977760"/>
            <a:ext cx="4208400" cy="528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2" name=""/>
          <p:cNvGrpSpPr/>
          <p:nvPr/>
        </p:nvGrpSpPr>
        <p:grpSpPr>
          <a:xfrm>
            <a:off x="7715880" y="143640"/>
            <a:ext cx="1140120" cy="763560"/>
            <a:chOff x="7715880" y="143640"/>
            <a:chExt cx="1140120" cy="763560"/>
          </a:xfrm>
        </p:grpSpPr>
        <p:sp>
          <p:nvSpPr>
            <p:cNvPr id="173" name=""/>
            <p:cNvSpPr/>
            <p:nvPr/>
          </p:nvSpPr>
          <p:spPr>
            <a:xfrm rot="629400">
              <a:off x="7858080" y="218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629400">
              <a:off x="7748280" y="354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DA55B-C27F-4590-8D4D-5AF5E43459B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eines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 (sofern leere Linien vorhanden s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s leer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jemanden als Regierungspräsidentin bzw. Regierungspräsident wählt, muss diese Person auf dem selben Wahlzettel auch als Mitglied des Regierungsrates wä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an der Wahl für die Regierungspräsidentin bzw. den Regierungspräsidenten nicht teilnehmen will, kann den entsprechenden Wahlzettel abtre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78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D448E-2CE6-4DFC-89AE-844CE8AAEF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Mitglieder des Regierungsr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Regierungspräsidentin bzw. des Regierungspräsid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, sofern diese Person auf dem selben Wahlzettel auch als Mitglied des Regierungsrates gewähl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Kandidatenstimmen sind ungültig, wenn 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absolute Mehr wird für die beiden Wahlen getrennt ermitt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83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B988B-996E-4A2A-BE3D-8EB35D1E71E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rungen im Überbli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700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s Verfahren zur Sitzverteilung auf die Parte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 Quorumsrege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2DC86-B9B7-4DD3-8D2C-6D8D5F1423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360" y="1216080"/>
            <a:ext cx="864720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22280" y="2610000"/>
          <a:ext cx="8290080" cy="2950920"/>
        </p:xfrm>
        <a:graphic>
          <a:graphicData uri="http://schemas.openxmlformats.org/drawingml/2006/table">
            <a:tbl>
              <a:tblPr/>
              <a:tblGrid>
                <a:gridCol w="2127240"/>
                <a:gridCol w="2019240"/>
                <a:gridCol w="2070000"/>
                <a:gridCol w="2073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hlkre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hn-bevölkeru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änderung zu 2008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‘3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We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‘8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bas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‘0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h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‘60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ing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‘13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87280" y="5641920"/>
            <a:ext cx="35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mäss Grossratsbeschluss vom 8.2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9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: ständige Wohnbevölkerung gemäss eidgenössischer Volkszählung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521A9-28E1-4F03-A778-F7A5633F15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s Verfahren zur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ainte-Laguë-Verfah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Berechnungsverfahren verhält sich bezüglich der Parteigrössen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ie Benachteiligung der kleineren Parteien, welche dem alten Verfahren (Hagenbach-Bischoff) inhärent war, fällt w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6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EBA63-B953-4EB4-BE0A-D0D1BC376D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zverteilung am Beispiel der Partei A (1‘000 Stimmen), der Partei B (1‘500 Stimmen) und der Partei C (2‘000 Stimmen), in einem Wahlkreis mit 20 Sitz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1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Total der Parteistimmen pro Wahlkreis wird durch die Anzahl der zu verteilenden Mandate geteilt. Die auf den Quotienten folgende ganze Zahl ist die Wahlzah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‘500 Stimmen : 20 Sitze = 225 (Wahlzahl =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2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Parteien erhalten so viele Sitze, wie die Wahlzahl in ihrer Gesamtstimmenzahl enthalten 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A: 4 Sitze (1‘0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B: 6 Sitze (1‘5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C: 8 Sitze (2‘000 :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ADCF3-7941-490A-90F3-00615F4BF8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ritt 3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n 20 sind nun 18 Sitze verteilt. Die Verteilung der restlichen beiden Sitze geschieht wie folgt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Gesamtstimmenzahl jeder Partei wird durch die verdoppelte und um 1 erhöhte Zahl der ihr bereits zugewiesenen Mandate geteilt. Die Partei mit dem grössten Quotienten erhält den nächsten offenen Sitz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17.64 (2‘000 : {8x2}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C erhält den 19. Sitz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itt 3 wird wiederholt, bis alle Mandate zugeteilt sin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05.26 (2‘000 : {9x2}+1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B erhält den 20. Si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1C675-FFC7-4E24-BC5E-CE95C7A021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7000" y="1104480"/>
            <a:ext cx="854244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 das neue Sitzverteilungsverfahren fällt die Benachteiligung der kleineren Parteien weg, wodurch Listenverbindungen unnötig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e Stimme kommt somit direkt der von der Wählerin oder dem Wähler favorisierten Liste zugute (sofern die 4% Hürde im Wahlkreis genommen wir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ck über die Grenze: Die Kantone Aargau, Zürich und Zug haben die Listenverbindungen ebenfalls abgescha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5C71F-0C4C-457D-B0C6-783151C524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87360" y="3440160"/>
          <a:ext cx="8389800" cy="270180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Sainte- 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gleich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und mit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mit 5%-Quorum in ein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7D383-E1BE-4B81-B839-D5882C6200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3:41:32Z</dcterms:created>
  <dc:creator>Gross Brigitte</dc:creator>
  <dc:description/>
  <dc:language>en-US</dc:language>
  <cp:lastModifiedBy>sslord</cp:lastModifiedBy>
  <dcterms:modified xsi:type="dcterms:W3CDTF">2012-03-15T15:24:20Z</dcterms:modified>
  <cp:revision>125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4332698</vt:r8>
  </property>
  <property fmtid="{D5CDD505-2E9C-101B-9397-08002B2CF9AE}" pid="3" name="_AuthorEmail">
    <vt:lpwstr>Daniel.Orsini@bs.ch</vt:lpwstr>
  </property>
  <property fmtid="{D5CDD505-2E9C-101B-9397-08002B2CF9AE}" pid="4" name="_AuthorEmailDisplayName">
    <vt:lpwstr>Orsini, Daniel</vt:lpwstr>
  </property>
  <property fmtid="{D5CDD505-2E9C-101B-9397-08002B2CF9AE}" pid="5" name="_EmailSubject">
    <vt:lpwstr/>
  </property>
  <property fmtid="{D5CDD505-2E9C-101B-9397-08002B2CF9AE}" pid="6" name="_NewReviewCycle">
    <vt:lpwstr/>
  </property>
  <property fmtid="{D5CDD505-2E9C-101B-9397-08002B2CF9AE}" pid="7" name="_PreviousAdHocReviewCycleID">
    <vt:r8>635825799</vt:r8>
  </property>
</Properties>
</file>