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86A7E-B586-4C39-B339-6B82F486D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697BE-2FC1-4E99-A51A-8552E9062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B92A6-A714-437C-943D-F0512D98A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8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096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70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8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096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3913-6F48-4140-BBC4-C4226A85A4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11FF3-7D62-4A2F-814B-EA5F2AC0C7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D7D6-F3FF-4839-AFC6-CB1EAB35F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3B65-AB40-48B4-9E5F-150F53DF4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730D-B590-4C7A-93B3-110BDF4E6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7000" y="250560"/>
            <a:ext cx="83898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31397-0CA8-4CB0-8BA1-4E96D15DC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3D41C-9564-4C14-9359-DDAFB71D7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3CFB9-7D45-4522-8A51-8C1627B3C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2D60A-27C9-4F03-9E09-ED6483F94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69880" y="6470640"/>
            <a:ext cx="47372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55000" y="6470640"/>
            <a:ext cx="7351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olie </a:t>
            </a:r>
            <a:fld id="{06EC4082-1E07-40E0-8419-8938AAC6FE35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20600" y="6354720"/>
            <a:ext cx="187200" cy="300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5920" y="608796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512040"/>
            <a:ext cx="243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Kanton Basel-Stad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6273720"/>
            <a:ext cx="2455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6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len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1520" y="3886200"/>
            <a:ext cx="774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über Neuerungen, die Vorbereitung und die Durch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90B9-72B6-4EBF-89DE-F6AD4F2266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Neue Quoren in den Wahlkreis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em Wählerwillen wird neu wahlkreisspezifisch Rechnung ge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lassung einer Partei zur Sitzverteilung in denjenigen Wahlkreisen, in denen ihr Wähleranteil mindestens 4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isher: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ulassung einer Partei zur Sitzverteilung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all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Wahlkreis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wenn ihr Wählerante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wenigstens einem Wahlkrei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mindestens 5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n den im Grossen Rat vertretenen Parteien sind 2008 unter dem 4%-Quorum geblieben: die LDP in Kleinbasel, die EVP in Grossbasel-Ost und Kleinbasel, die DSP in Grossbasel-Ost, Grossbasel-West und R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1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C707-E51D-4125-9D26-D58C8A5426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7360" y="3403440"/>
          <a:ext cx="8389800" cy="263232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Sainte-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zit: Vergleich ‚alt‘ – ‚neu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6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mit Listenverbindungen /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/ </a:t>
            </a:r>
            <a:br>
              <a:rPr sz="2800"/>
            </a:b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4%-Quorum in jed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6E47D-8295-4858-AA97-C75C8D4764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stufiges Verfahren: Was bleibt glei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53324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i der Wahl der Regierungsmitglieder und bei derjenigen der Regierungspräsidentin bzw. des Regierungspräsidenten handelt es sich um zwei verschiedene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ählbar sind alle Stimmberechtigten, auch wenn kein Wahlvorschlag eingereicht wurde (und die Kandidatur somit nicht auf einem vorgedruckten Wahlzettel ersche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15880" y="800640"/>
            <a:ext cx="1140120" cy="763560"/>
            <a:chOff x="7715880" y="800640"/>
            <a:chExt cx="1140120" cy="763560"/>
          </a:xfrm>
        </p:grpSpPr>
        <p:sp>
          <p:nvSpPr>
            <p:cNvPr id="102" name=""/>
            <p:cNvSpPr/>
            <p:nvPr/>
          </p:nvSpPr>
          <p:spPr>
            <a:xfrm rot="629400">
              <a:off x="7858080" y="875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29400">
              <a:off x="7748280" y="1011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52C1-9019-4F4D-876F-E28CFCCEFE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für die Regierungspräsidentin bzw. den Regierungspräsidenten müssen von mindestens 30 Stimmberechtigen unterzeichnet werden (bishe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 der Regierungsmitglieder und diejenige der Regierungspräsidentin bzw. des Regierungspräsidenten erfolgen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zeit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Wahlgang: 28. Ok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Wahlgang: 25. Nov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d auf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ze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0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F781-68C2-43DF-87DE-A25FABCAE7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kann nur gewählt werden, wer auf dem selben Wahlzettel als Mitglied des Regierungsrates gewählt w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im 1. Wahlgang gewählt ist, wer das absolute Mehr erre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stille Wahl der Regierungspräsidentin bzw. des Regierungspräsidenten ist nicht mehr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1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7E68-A7C5-45B2-AD5B-027EE3508F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gabe der Wahlvorschläg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1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8. Okto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ag, 3. September 201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2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5. Novem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twoch, 31. Oktober 2012, 12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 der Staatskanzlei Basel-Stadt beim Ressort Wahlen und Abstimm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25600" y="562680"/>
            <a:ext cx="1129320" cy="760680"/>
            <a:chOff x="7725600" y="562680"/>
            <a:chExt cx="1129320" cy="760680"/>
          </a:xfrm>
        </p:grpSpPr>
        <p:sp>
          <p:nvSpPr>
            <p:cNvPr id="11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9400">
              <a:off x="7752960" y="773280"/>
              <a:ext cx="1074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Regierungsrat &amp; Grosser R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AEE0-78DD-46A1-B696-E3F873E352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müssen von mindestens      30 Stimmberechtigen unterzeichnet sein; im Wahlkreis Bettingen genügt die Unterzeichnung durch mindestens 10 Stimmberechti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kreis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3B22-4D47-4E27-9177-6BB60727AA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drei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r Kandidatur in einem Wahlkreis ist nicht erforderlich, dass die kandidierende Person effektiv dort wohnt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erforderlich ist einzig der Wohnsitz im Kanton Basel-Sta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73F1-17F5-4CF2-86EB-6E79E028F0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oppelkandidaturen (in mehreren Wahlkreisen oder auf mehreren Wahlvorschlägen im gleichen Wahlkreis)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C42C-A7C9-4DAA-BDFB-7BDA7EECA9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22520" y="1000080"/>
            <a:ext cx="4379760" cy="539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0D36-B869-4BBA-A781-64AD3C4F7C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eu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Vorbereitung und Durchführung der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EDEC0-BDF4-46DC-A16B-D56A7DB98D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umulieren von Kandidatennamen (max. dreimalige Nen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naschieren (Eintragen von Kandidatennamen anderer Li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orgedruckte Listenbezeichnung/Ordnungsnummer streichen oder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r Freien 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stenbezeichnung/Ordnungsnummer eint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d/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8BBB-3099-490C-A7B5-78560C45BB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Partei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rücksicht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Namen der entsprechenden Partei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stimmen auf Listen, welche eine Bezeichnung oder Ordnungsnummer tragen, das heis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ungültigen Kandidaten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gestrichenen N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eere Lin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berücksichtigt blei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berzählige Stimmen für eine Kandidatin bzw. einen Kandidaten (überkumul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überzählige Kandidatinnen bzw. Kandidaten (mehr Kandidatennamen als Mandate zu vergeben s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4FE0A-597A-44C7-9E40-3D0C47116F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Kandidaten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000" y="147132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Kandidatenstimmen sind ungültig, wenn 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für eine nicht vorgeschlagene Person ab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F524-8EFC-438E-8999-9CDE096CC9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Die Wahlvorschläge müssen von mindestens      30 Stimmberechtigen unterzeichnet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 (Regierungsrat und Regierungspräsident bzw. Regierungspräsidentin)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5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C81B1-5F5E-4C74-B419-89540602F5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ein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s Regierungspräsidentin/Regierungspräsident kann nur vorgeschlagen werden, wer auch als Regierungsrätin bzw. Regierungsrat vorgeschlag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3268-05C4-4985-9A7E-BB399DDEC9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pelkandidaturen auf mehreren Wahlvorschlägen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87B3-AE75-4C89-A5CA-495E0CEDAD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7800" y="984240"/>
            <a:ext cx="394812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7520" y="977760"/>
            <a:ext cx="4208400" cy="528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7715880" y="143640"/>
            <a:ext cx="1140120" cy="763560"/>
            <a:chOff x="7715880" y="143640"/>
            <a:chExt cx="1140120" cy="763560"/>
          </a:xfrm>
        </p:grpSpPr>
        <p:sp>
          <p:nvSpPr>
            <p:cNvPr id="173" name=""/>
            <p:cNvSpPr/>
            <p:nvPr/>
          </p:nvSpPr>
          <p:spPr>
            <a:xfrm rot="629400">
              <a:off x="7858080" y="218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629400">
              <a:off x="7748280" y="354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95C1A-06B0-47CF-A101-CF2CF96E32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eines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 (sofern leere Linien vorhanden s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s leer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jemanden als Regierungspräsidentin bzw. Regierungspräsident wählt, muss diese Person auf dem selben Wahlzettel auch als Mitglied des Regierungsrates 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an der Wahl für die Regierungspräsidentin bzw. den Regierungspräsidenten nicht teilnehmen will, kann den entsprechenden Wahlzettel abtr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78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E73B-06B4-405E-B710-0881CC07BB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Mitglieder des Regierungsr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Regierungspräsidentin bzw. des Regierungspräs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, sofern diese Person auf dem selben Wahlzettel auch als Mitglied des Regierungsrates gewäh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Kandidatenstimmen sind ungültig, wenn 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absolute Mehr wird für die beiden Wahlen getrennt ermit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83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92DA-8828-443F-A01C-8BAD602980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rungen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00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s Verfahren zur Sitzverteilung auf die Par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 Quorumsreg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CA0D2-341D-452A-839B-067D2C620C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216080"/>
            <a:ext cx="86472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2280" y="2610000"/>
          <a:ext cx="8290080" cy="2950920"/>
        </p:xfrm>
        <a:graphic>
          <a:graphicData uri="http://schemas.openxmlformats.org/drawingml/2006/table">
            <a:tbl>
              <a:tblPr/>
              <a:tblGrid>
                <a:gridCol w="2127240"/>
                <a:gridCol w="2019240"/>
                <a:gridCol w="2070000"/>
                <a:gridCol w="2073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hlkre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-bevölkeru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änderung zu 2008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‘3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We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‘8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bas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‘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h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‘6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in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‘1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87280" y="5641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äss Grossratsbeschluss vom 8.2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9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ständige Wohnbevölkerung gemäss eidgenössischer Volkszählung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7B762-80B3-425F-A4EA-502E188D1A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s Verfahren zur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ainte-Laguë-Verf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Berechnungsverfahren verhält sich bezüglich der Parteigrösse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Benachteiligung der kleineren Parteien, welche dem alten Verfahren (Hagenbach-Bischoff) inhärent war, fällt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6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6F9E-7E71-4D2E-A24F-1A73ED8286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zverteilung am Beispiel der Partei A (1‘000 Stimmen), der Partei B (1‘500 Stimmen) und der Partei C (2‘000 Stimmen), in einem Wahlkreis mit 20 Sitz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Total der Parteistimmen pro Wahlkreis wird durch die Anzahl der zu verteilenden Mandate geteilt. Die auf den Quotienten folgende ganze Zahl ist die Wahlzah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‘500 Stimmen : 20 Sitze = 225 (Wahlzahl =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Parteien erhalten so viele Sitze, wie die Wahlzahl in ihrer Gesamtstimmenzahl enthalten 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A: 4 Sitze (1‘0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B: 6 Sitze (1‘5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C: 8 Sitze (2‘000 :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D281-E4E9-494B-84CF-885EE14C41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 3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20 sind nun 18 Sitze verteilt. Die Verteilung der restlichen beiden Sitze geschieht wie folgt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esamtstimmenzahl jeder Partei wird durch die verdoppelte und um 1 erhöhte Zahl der ihr bereits zugewiesenen Mandate geteilt. Die Partei mit dem grössten Quotienten erhält den nächsten offenen Sitz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17.64 (2‘000 : {8x2}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C erhält den 19. Sit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3 wird wiederholt, bis alle Mandate zugeteilt si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05.26 (2‘000 : {9x2}+1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B erhält den 20. 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1AC00-B779-4A29-A82D-ABFE93B671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1104480"/>
            <a:ext cx="854244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das neue Sitzverteilungsverfahren fällt die Benachteiligung der kleineren Parteien weg, wodurch Listenverbindungen unnötig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Stimme kommt somit direkt der von der Wählerin oder dem Wähler favorisierten Liste zugute (sofern die 4% Hürde im Wahlkreis genommen wi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ck über die Grenze: Die Kantone Aargau, Zürich und Zug haben die Listenverbindungen ebenfalls abgescha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ECCC3-5403-49EA-998B-DAD2402BE4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7360" y="3440160"/>
          <a:ext cx="8389800" cy="270180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Sainte- 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gleich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und mit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mit 5%-Quorum in ein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325F-5AA0-40A1-8E30-0A6B3635DE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41:32Z</dcterms:created>
  <dc:creator>Gross Brigitte</dc:creator>
  <dc:description/>
  <dc:language>en-US</dc:language>
  <cp:lastModifiedBy>sslord</cp:lastModifiedBy>
  <dcterms:modified xsi:type="dcterms:W3CDTF">2012-03-15T15:24:20Z</dcterms:modified>
  <cp:revision>12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4332698</vt:r8>
  </property>
  <property fmtid="{D5CDD505-2E9C-101B-9397-08002B2CF9AE}" pid="3" name="_AuthorEmail">
    <vt:lpwstr>Daniel.Orsini@bs.ch</vt:lpwstr>
  </property>
  <property fmtid="{D5CDD505-2E9C-101B-9397-08002B2CF9AE}" pid="4" name="_AuthorEmailDisplayName">
    <vt:lpwstr>Orsini, Daniel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635825799</vt:r8>
  </property>
</Properties>
</file>