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E365EF-214A-4242-BA18-DD329A5197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CD232-78A9-4D5E-A2BA-C61E4CF677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2695-5B9E-44C0-BF2F-C0BDD8B888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2380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60960" y="11048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70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2380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60960" y="3666240"/>
            <a:ext cx="270144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ED67D-8E3C-4672-8364-6719828C1D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B45C5-8E4E-4544-9F15-6105B95B71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61CB4-C730-4A6F-9F1B-5EBBC3562D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20217-AE1C-4025-BAAE-8F6BEA5611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4696B-D15D-44A7-A9E2-98747390E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7000" y="250560"/>
            <a:ext cx="8389800" cy="29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5BAFAA-7A09-4C80-B469-052A23502F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8DFD7B-0366-4439-AF01-3C06C5B79D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6120" y="36662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D1E59-AB0D-4BF0-8D4C-8E141D7B5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7000" y="249840"/>
            <a:ext cx="8389800" cy="642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6120" y="1104840"/>
            <a:ext cx="409392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7000" y="3666240"/>
            <a:ext cx="8389800" cy="233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D236-DF7B-4F6B-A3B2-B5690BA3B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69880" y="6470640"/>
            <a:ext cx="473724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055000" y="6470640"/>
            <a:ext cx="735120" cy="1872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900" spc="-1" strike="noStrike">
                <a:solidFill>
                  <a:srgbClr val="000000"/>
                </a:solidFill>
                <a:latin typeface="Arial"/>
              </a:rPr>
              <a:t>Folie </a:t>
            </a:r>
            <a:fld id="{9AB3C1A7-EA9A-48BF-88B9-5F1B5480798B}" type="slidenum">
              <a:rPr b="0" lang="de-CH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20600" y="6354720"/>
            <a:ext cx="187200" cy="3002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385920" y="6087960"/>
            <a:ext cx="0" cy="652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73040" y="6512040"/>
            <a:ext cx="2435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Kanton Basel-Stad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2760" y="6273720"/>
            <a:ext cx="2455560" cy="1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06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hlen 201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1520" y="3886200"/>
            <a:ext cx="7748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formation über Neuerungen, die Vorbereitung und die Durchführ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1A1BB-6E38-4B36-B243-C79091587FD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Neue Quoren in den Wahlkreis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Dem Wählerwillen wird neu wahlkreisspezifisch Rechnung getrag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lassung einer Partei zur Sitzverteilung in denjenigen Wahlkreisen, in denen ihr Wähleranteil mindestens 4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isher: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Zulassung einer Partei zur Sitzverteilung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all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Wahlkreisen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, wenn ihr Wähleranteil </a:t>
            </a:r>
            <a:r>
              <a:rPr b="0" i="1" lang="de-CH" sz="2400" spc="-1" strike="noStrike">
                <a:solidFill>
                  <a:srgbClr val="000000"/>
                </a:solidFill>
                <a:latin typeface="Arial"/>
              </a:rPr>
              <a:t>in wenigstens einem Wahlkrei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mindestens 5% beträg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n den im Grossen Rat vertretenen Parteien sind 2008 unter dem 4%-Quorum geblieben: die LDP in Kleinbasel, die EVP in Grossbasel-Ost und Kleinbasel, die DSP in Grossbasel-Ost, Grossbasel-West und Rie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1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74AAE-8E99-4AF8-BCD0-E82E783265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87360" y="3403440"/>
          <a:ext cx="8389800" cy="263232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7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gemäss Sainte-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azit: Vergleich ‚alt‘ – ‚neu‘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96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mit Listenverbindungen /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/ </a:t>
            </a:r>
            <a:br>
              <a:rPr sz="2800"/>
            </a:b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4%-Quorum in jed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96377-7F39-4888-B9D3-33417CE83C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stufiges Verfahren: Was bleibt gleich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53324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i der Wahl der Regierungsmitglieder und bei derjenigen der Regierungspräsidentin bzw. des Regierungspräsidenten handelt es sich um zwei verschiedene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ählbar sind alle Stimmberechtigten, auch wenn kein Wahlvorschlag eingereicht wurde (und die Kandidatur somit nicht auf einem vorgedruckten Wahlzettel erschein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7715880" y="800640"/>
            <a:ext cx="1140120" cy="763560"/>
            <a:chOff x="7715880" y="800640"/>
            <a:chExt cx="1140120" cy="763560"/>
          </a:xfrm>
        </p:grpSpPr>
        <p:sp>
          <p:nvSpPr>
            <p:cNvPr id="102" name=""/>
            <p:cNvSpPr/>
            <p:nvPr/>
          </p:nvSpPr>
          <p:spPr>
            <a:xfrm rot="629400">
              <a:off x="7858080" y="875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629400">
              <a:off x="7748280" y="1011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3D246-A39B-4FEF-8CE5-1ED8E72FCA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für die Regierungspräsidentin bzw. den Regierungspräsidenten müssen von mindestens 30 Stimmberechtigen unterzeichnet werden (bisher 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 der Regierungsmitglieder und diejenige der Regierungspräsidentin bzw. des Regierungspräsidenten erfolgen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zeitgle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. Wahlgang: 28. Okto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2. Wahlgang: 25. November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d auf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einem 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zett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0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AE1DEF-CA01-4B84-A707-ACFDD23108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stufiges Verfahren: Was wird neu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kann nur gewählt werden, wer auf dem selben Wahlzettel als Mitglied des Regierungsrates gewählt wi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ls Regierungspräsidentin bzw. Regierungspräsident im 1. Wahlgang gewählt ist, wer das absolute Mehr errei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stille Wahl der Regierungspräsidentin bzw. des Regierungspräsidenten ist nicht mehr mögli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1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8147-74DB-4516-B0CF-B27E9BEF3B2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ingabe der Wahlvorschläge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1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8. Okto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ntag, 3. September 2012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9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049"/>
              </a:spcAft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ür den 2. Wahlga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25. November 201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s spätesten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ttwoch, 31. Oktober 2012, 12.00 Uh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i der Staatskanzlei Basel-Stadt beim Ressort Wahlen und Abstimm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725600" y="562680"/>
            <a:ext cx="1129320" cy="760680"/>
            <a:chOff x="7725600" y="562680"/>
            <a:chExt cx="1129320" cy="760680"/>
          </a:xfrm>
        </p:grpSpPr>
        <p:sp>
          <p:nvSpPr>
            <p:cNvPr id="11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800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629400">
              <a:off x="7752960" y="773280"/>
              <a:ext cx="10746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0066"/>
                  </a:solidFill>
                  <a:latin typeface="Arial"/>
                </a:rPr>
                <a:t>Regierungsrat &amp; Grosser Ra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47876-1CBE-430B-A734-BFB5AAC1B0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ie Wahlvorschläge müssen von mindestens      30 Stimmberechtigen unterzeichnet sein; im Wahlkreis Bettingen genügt die Unterzeichnung durch mindestens 10 Stimmberechtig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kreis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ABA7-E5DB-40EF-B2A1-8C0AA931C19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drei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r Kandidatur in einem Wahlkreis ist nicht erforderlich, dass die kandidierende Person effektiv dort wohnt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(erforderlich ist einzig der Wohnsitz im Kanton Basel-Stad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2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5CAE6-A1B5-418F-A59A-DAE4E68F83B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Doppelkandidaturen (in mehreren Wahlkreisen oder auf mehreren Wahlvorschlägen im gleichen Wahlkreis)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11E8-10E1-49B0-9289-0CF041E885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522520" y="1000080"/>
            <a:ext cx="4379760" cy="5392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3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E13CE-6AE6-4482-8AF4-ED17DE02C15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Neuer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Term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Vorbereitung und Durchführung der Wah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osser R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gierungsrat und Regierungspräsident/-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36036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3B293-BFE3-4960-9CD5-043748C3EF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eines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Kumulieren von Kandidatennamen (max. dreimalige Nenn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Panaschieren (Eintragen von Kandidatennamen anderer Li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Vorgedruckte Listenbezeichnung/Ordnungsnummer streichen oder änd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r Freien 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stenbezeichnung/Ordnungsnummer eintrag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5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d/o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12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70E1C-6B55-4822-9FB7-863F1233DA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Partei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12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Berücksichtig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Namen der entsprechenden Parteil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Zusatzstimmen auf Listen, welche eine Bezeichnung oder Ordnungsnummer tragen, das heis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ungültigen Kandidatenstim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inien mit gestrichenen Name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leere Lini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Unberücksichtigt bleib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Überzählige Stimmen für eine Kandidatin bzw. einen Kandidaten (überkumulier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timmen für überzählige Kandidatinnen bzw. Kandidaten (mehr Kandidatennamen als Mandate zu vergeben s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4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B409B-68DA-45B5-BADA-E4EDFF6F9E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 der Kandidatenstimm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7000" y="1471320"/>
            <a:ext cx="8389800" cy="4903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Kandidatenstimmen sind ungültig, wenn si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ie für eine nicht vorgeschlagene Person abgegeben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1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4E59-C03B-48F5-918D-AA5D9A0D90D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mell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Wahlvorschläge müssen auf den amtlichen Formularen eingereich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Die Wahlvorschläge müssen von mindestens      30 Stimmberechtigen unterzeichnet se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dddddd"/>
                </a:solidFill>
                <a:latin typeface="Arial"/>
              </a:rPr>
              <a:t>Vorgeschlagene dürfen ihren Wahlvorschlag nicht unterzeich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Pro Wahl (Regierungsrat und Regierungspräsident bzw. Regierungspräsidentin) darf nur ein Wahlvorschlag unterzeichnet wer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5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F8703-36A7-47C3-9D81-B85CCFB6B19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Anbringen einer geeigneten Listenbezeichnu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dddddd"/>
                </a:solidFill>
                <a:latin typeface="Arial"/>
              </a:rPr>
              <a:t>Es dürfen nicht mehr Personen vorgeschlagen werden, als Mandate zu vergeben s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orgeschlagene dürfen maximal einmal aufgeführt we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ls Regierungspräsidentin/Regierungspräsident kann nur vorgeschlagen werden, wer auch als Regierungsrätin bzw. Regierungsrat vorgeschlagen wi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Angabe von Namen/Vornamen, Geburtsjahr, </a:t>
            </a: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Beruf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 und Wohnadresse der Vorgeschlage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Der Wohnsitz der Vorgeschlagenen muss im Zeitpunkt der Einreichung des Wahlvorschlags im Kanton Basel-Stadt li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2B837-B3C7-418C-A8AA-574E550F07F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haltliches zu den Wahlvorschläge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Angabe von Namen/Vornamen, Geburtsjahr und Wohnadresse der Unterzeichne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Arial"/>
              </a:rPr>
              <a:t>Unwiderrufliche und unterschriftliche Zustimmungserklärung der Vorgeschlagenen zu ihrer Kandidat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ppelkandidaturen auf mehreren Wahlvorschlägen sind unzuläss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67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D2BB8-3789-4E27-9AEF-4D34A2DD9460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77800" y="984240"/>
            <a:ext cx="3948120" cy="526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4727520" y="977760"/>
            <a:ext cx="4208400" cy="528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172" name=""/>
          <p:cNvGrpSpPr/>
          <p:nvPr/>
        </p:nvGrpSpPr>
        <p:grpSpPr>
          <a:xfrm>
            <a:off x="7715880" y="143640"/>
            <a:ext cx="1140120" cy="763560"/>
            <a:chOff x="7715880" y="143640"/>
            <a:chExt cx="1140120" cy="763560"/>
          </a:xfrm>
        </p:grpSpPr>
        <p:sp>
          <p:nvSpPr>
            <p:cNvPr id="173" name=""/>
            <p:cNvSpPr/>
            <p:nvPr/>
          </p:nvSpPr>
          <p:spPr>
            <a:xfrm rot="629400">
              <a:off x="7858080" y="21888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629400">
              <a:off x="7748280" y="35424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046E-4BF8-45AB-B698-8A0042E0EB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immabgab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eines vorgedruckt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Unverändertes Einle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treichen/Ersetzen von Kandidatennam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 (sofern leere Linien vorhanden si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Verwendung des leeren Wahlzett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Namen wählbarer Kandidatinnen bzw. Kandidaten eintra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jemanden als Regierungspräsidentin bzw. Regierungspräsident wählt, muss diese Person auf dem selben Wahlzettel auch als Mitglied des Regierungsrates wäh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Wer an der Wahl für die Regierungspräsidentin bzw. den Regierungspräsidenten nicht teilnehmen will, kann den entsprechenden Wahlzettel abtrenn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78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48B5DD-9EEF-44B6-832D-C0304D1F650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uszäh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5275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Mitglieder des Regierungsra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Bei der Wahl der Regierungspräsidentin bzw. des Regierungspräsident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Eine Kandidatenstimme ist gültig, wenn sie für eine vorgeschlagene oder im Kanton Basel-Stadt stimmberechtigte Person abgegeben wurde, sofern diese Person auf dem selben Wahlzettel auch als Mitglied des Regierungsrates gewählt wi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Kandidatenstimmen sind ungültig, wenn sie den Willen der Wählerin/des Wählers nicht eindeutig erkennen las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absolute Mehr wird für die beiden Wahlen getrennt ermitt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7715880" y="562680"/>
            <a:ext cx="1140120" cy="763560"/>
            <a:chOff x="7715880" y="562680"/>
            <a:chExt cx="1140120" cy="763560"/>
          </a:xfrm>
        </p:grpSpPr>
        <p:sp>
          <p:nvSpPr>
            <p:cNvPr id="183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00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629400">
              <a:off x="7748280" y="773280"/>
              <a:ext cx="107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Regierungs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32FDFC-5B42-43F5-8A59-AA31366DD4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rungen im Überblick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700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s Verfahren zur Sitzverteilung auf die Parte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ue Quorumsregelu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2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DFE887-3D94-4F72-9F24-8D6ADDF261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uverteilung der Grossratssitze auf die Wahlkreis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360" y="1216080"/>
            <a:ext cx="8647200" cy="444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22280" y="2610000"/>
          <a:ext cx="8290080" cy="2950920"/>
        </p:xfrm>
        <a:graphic>
          <a:graphicData uri="http://schemas.openxmlformats.org/drawingml/2006/table">
            <a:tbl>
              <a:tblPr/>
              <a:tblGrid>
                <a:gridCol w="2127240"/>
                <a:gridCol w="2019240"/>
                <a:gridCol w="2070000"/>
                <a:gridCol w="2073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hlkreis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hn-bevölkerung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änderung zu 2008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O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‘37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ossbasel-West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‘82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leinbasel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‘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 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eh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‘60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tingen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‘13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in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" name=""/>
          <p:cNvSpPr/>
          <p:nvPr/>
        </p:nvSpPr>
        <p:spPr>
          <a:xfrm>
            <a:off x="287280" y="5641920"/>
            <a:ext cx="359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emäss Grossratsbeschluss vom 8.2.20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59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s: ständige Wohnbevölkerung gemäss eidgenössischer Volkszählung 20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617DE-4AAF-4F43-9BB2-D8957EF634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ues Verfahren zur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Sainte-Laguë-Verfahr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as Berechnungsverfahren verhält sich bezüglich der Parteigrössen neu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Die Benachteiligung der kleineren Parteien, welche dem alten Verfahren (Hagenbach-Bischoff) inhärent war, fällt w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6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CBBE9-2387-45F5-8013-2BC3F81A744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tzverteilung am Beispiel der Partei A (1‘000 Stimmen), der Partei B (1‘500 Stimmen) und der Partei C (2‘000 Stimmen), in einem Wahlkreis mit 20 Sitz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1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s Total der Parteistimmen pro Wahlkreis wird durch die Anzahl der zu verteilenden Mandate geteilt. Die auf den Quotienten folgende ganze Zahl ist die Wahlzahl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4‘500 Stimmen : 20 Sitze = 225 (Wahlzahl =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hritt 2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Parteien erhalten so viele Sitze, wie die Wahlzahl in ihrer Gesamtstimmenzahl enthalten 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A: 4 Sitze (1‘0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B: 6 Sitze (1‘500 : 226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artei C: 8 Sitze (2‘000 : 22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F5B6D-646E-487B-9ED6-2D58B65D27A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tzverteilung: Rechenbeispie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7000" y="1104840"/>
            <a:ext cx="8389800" cy="4903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 3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n 20 sind nun 18 Sitze verteilt. Die Verteilung der restlichen beiden Sitze geschieht wie folgt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e Gesamtstimmenzahl jeder Partei wird durch die verdoppelte und um 1 erhöhte Zahl der ihr bereits zugewiesenen Mandate geteilt. Die Partei mit dem grössten Quotienten erhält den nächsten offenen Sitz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 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17.64 (2‘000 : {8x2}+1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C erhält den 19. Sitz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ritt 3 wird wiederholt, bis alle Mandate zugeteilt sind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A: 111.11 (1‘000 : {4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B: 115.38 (1‘500 : {6x2}+1)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rtei C: 105.26 (2‘000 : {9x2}+1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tei B erhält den 20. Sit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7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858D4-3F8C-4166-82D0-BAEBD4DC72F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schaffung der Listenverbindunge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7000" y="1104480"/>
            <a:ext cx="8542440" cy="4017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ch das neue Sitzverteilungsverfahren fällt die Benachteiligung der kleineren Parteien weg, wodurch Listenverbindungen unnötig wer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de Stimme kommt somit direkt der von der Wählerin oder dem Wähler favorisierten Liste zugute (sofern die 4% Hürde im Wahlkreis genommen wir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ick über die Grenze: Die Kantone Aargau, Zürich und Zug haben die Listenverbindungen ebenfalls abgeschaf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0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17069-2D5B-48AE-9733-CA0344819E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387360" y="3440160"/>
          <a:ext cx="8389800" cy="2701800"/>
        </p:xfrm>
        <a:graphic>
          <a:graphicData uri="http://schemas.openxmlformats.org/drawingml/2006/table">
            <a:tbl>
              <a:tblPr/>
              <a:tblGrid>
                <a:gridCol w="1374840"/>
                <a:gridCol w="216000"/>
                <a:gridCol w="733320"/>
                <a:gridCol w="753840"/>
                <a:gridCol w="753840"/>
                <a:gridCol w="752040"/>
                <a:gridCol w="753840"/>
                <a:gridCol w="753840"/>
                <a:gridCol w="752400"/>
                <a:gridCol w="771480"/>
                <a:gridCol w="774360"/>
              </a:tblGrid>
              <a:tr h="66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D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SP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ähleranteil in 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genbach-Bischof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1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zahl Sitze nach Sainte- Laguë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87000" y="250560"/>
            <a:ext cx="8389800" cy="64116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rgleich Sitzverteilung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810200" y="562680"/>
            <a:ext cx="982080" cy="760680"/>
            <a:chOff x="7810200" y="562680"/>
            <a:chExt cx="982080" cy="760680"/>
          </a:xfrm>
        </p:grpSpPr>
        <p:sp>
          <p:nvSpPr>
            <p:cNvPr id="85" name=""/>
            <p:cNvSpPr/>
            <p:nvPr/>
          </p:nvSpPr>
          <p:spPr>
            <a:xfrm rot="629400">
              <a:off x="7858080" y="637920"/>
              <a:ext cx="885960" cy="609480"/>
            </a:xfrm>
            <a:prstGeom prst="flowChartAlternateProcess">
              <a:avLst/>
            </a:prstGeom>
            <a:noFill/>
            <a:ln cap="rnd" w="47520">
              <a:solidFill>
                <a:srgbClr val="008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rot="629400">
              <a:off x="7872120" y="731880"/>
              <a:ext cx="838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6600"/>
                  </a:solidFill>
                  <a:latin typeface="Arial"/>
                </a:rPr>
                <a:t>Grosser Ra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387360" y="1390680"/>
            <a:ext cx="838980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Hagenbach-Bischoff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und mit 5%-Quorum in einem Wahlkreis)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vs. </a:t>
            </a:r>
            <a:br>
              <a:rPr sz="2800"/>
            </a:br>
            <a:r>
              <a:rPr b="1" lang="de-CH" sz="2800" spc="-1" strike="noStrike">
                <a:solidFill>
                  <a:srgbClr val="000000"/>
                </a:solidFill>
                <a:latin typeface="Arial"/>
              </a:rPr>
              <a:t>„Sainte-Laguë“</a:t>
            </a:r>
            <a:r>
              <a:rPr b="0" lang="de-CH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(ohne Listenverbindungen u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de-CH" sz="2800" spc="-1" strike="noStrike">
                <a:solidFill>
                  <a:srgbClr val="000000"/>
                </a:solidFill>
                <a:latin typeface="Arial"/>
              </a:rPr>
              <a:t>mit 5%-Quorum in einem Wahlkre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taatskanzlei, Wahlen 2012, Information, 15.3.201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3EAD7-4024-4B6E-95B3-F32081A041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3:41:32Z</dcterms:created>
  <dc:creator>Gross Brigitte</dc:creator>
  <dc:description/>
  <dc:language>en-US</dc:language>
  <cp:lastModifiedBy>sslord</cp:lastModifiedBy>
  <dcterms:modified xsi:type="dcterms:W3CDTF">2012-03-15T15:24:20Z</dcterms:modified>
  <cp:revision>125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4332698</vt:r8>
  </property>
  <property fmtid="{D5CDD505-2E9C-101B-9397-08002B2CF9AE}" pid="3" name="_AuthorEmail">
    <vt:lpwstr>Daniel.Orsini@bs.ch</vt:lpwstr>
  </property>
  <property fmtid="{D5CDD505-2E9C-101B-9397-08002B2CF9AE}" pid="4" name="_AuthorEmailDisplayName">
    <vt:lpwstr>Orsini, Daniel</vt:lpwstr>
  </property>
  <property fmtid="{D5CDD505-2E9C-101B-9397-08002B2CF9AE}" pid="5" name="_EmailSubject">
    <vt:lpwstr/>
  </property>
  <property fmtid="{D5CDD505-2E9C-101B-9397-08002B2CF9AE}" pid="6" name="_NewReviewCycle">
    <vt:lpwstr/>
  </property>
  <property fmtid="{D5CDD505-2E9C-101B-9397-08002B2CF9AE}" pid="7" name="_PreviousAdHocReviewCycleID">
    <vt:r8>635825799</vt:r8>
  </property>
</Properties>
</file>