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wmf" ContentType="image/x-wmf"/>
  <Override PartName="/ppt/media/image14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8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29.png" ContentType="image/png"/>
  <Override PartName="/ppt/media/image17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5.png" ContentType="image/png"/>
  <Override PartName="/ppt/media/image28.png" ContentType="image/png"/>
  <Override PartName="/ppt/media/image18.png" ContentType="image/png"/>
  <Override PartName="/ppt/media/image15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ECC64-994F-4337-85D5-0A97C9BBC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DE1B3-B792-4C08-A0F0-A41D75D3CF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B87DA-E58D-4F24-9135-697DE2155A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98B3-928D-4FFA-B1DB-4AEAC2B6A2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7A2C9-CC16-4E7B-8FD4-DE6BE703A0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D2351-FBA2-486A-874B-94E9D640A57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362F4-12D1-4451-96FE-6BEFA7EED0A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D5D59-9B2E-41DA-8F81-9951E27896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3A463-4B34-41D7-BC21-78524937FE3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ECF14-04A6-4DAC-84B5-C7477AF558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B5B92-CFF3-49F4-9F0B-18916588D7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1E8AF-8FCD-4300-9139-41F254F19D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DA05B-79FF-45F0-8C29-116ED10BC8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85B1A-B946-4372-9A34-456DB173409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1715E-6FA4-4ACD-A78C-F471459915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32776-A172-473D-8196-D1AC32AFD2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748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06960" y="162828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3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748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06960" y="4111920"/>
            <a:ext cx="2637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79809-3707-40C1-AEA2-D347832AF2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11CF5-A65C-4C39-BA5B-5662B0C4B2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58853-D89C-4CCC-950B-468322F51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64F3B-C520-4393-B3FC-736E6B5E3F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692360" y="347760"/>
            <a:ext cx="6983280" cy="35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764C-3E4D-47ED-98FE-5A03B0BBEF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7C81-0114-4A53-AE05-B7D9CC8D7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411192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7DCB-73DE-401A-B019-6105C2D8B0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628280"/>
            <a:ext cx="399636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4111920"/>
            <a:ext cx="8190000" cy="22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95D6C-A421-48F4-9BEE-A479C0596E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" name="Grafik 10" descr="Nur Schweiz.jpg"/>
          <p:cNvPicPr/>
          <p:nvPr/>
        </p:nvPicPr>
        <p:blipFill>
          <a:blip r:embed="rId2"/>
          <a:stretch/>
        </p:blipFill>
        <p:spPr>
          <a:xfrm>
            <a:off x="468360" y="426960"/>
            <a:ext cx="1044360" cy="61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520B2-7E45-4EF1-B2DA-F633F2DD6DA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Umfrage"/>
          <p:cNvPicPr/>
          <p:nvPr/>
        </p:nvPicPr>
        <p:blipFill>
          <a:blip r:embed="rId2"/>
          <a:srcRect l="0" t="0" r="23632" b="0"/>
          <a:stretch/>
        </p:blipFill>
        <p:spPr>
          <a:xfrm>
            <a:off x="468360" y="907920"/>
            <a:ext cx="6551640" cy="9781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68360" y="1628280"/>
            <a:ext cx="8190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marL="343080" indent="-34308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2" marL="343080" indent="-343080">
              <a:spcBef>
                <a:spcPts val="400"/>
              </a:spcBef>
              <a:buClr>
                <a:srgbClr val="335fa8"/>
              </a:buClr>
              <a:buFont typeface="AkzidenzGrotes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3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4" marL="343080" indent="-343080">
              <a:spcBef>
                <a:spcPts val="400"/>
              </a:spcBef>
              <a:buClr>
                <a:srgbClr val="335fa8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kzidenzGrotes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5fa8"/>
                </a:solidFill>
                <a:latin typeface="AkzidenzGrotesk"/>
              </a:rPr>
              <a:t>Click to edit the title text format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59736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000000"/>
                </a:solidFill>
                <a:latin typeface="AkzidenzGrotesk-Ligh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B7AC6-931C-4866-888D-184D0FD0F0A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8.png"/><Relationship Id="rId5" Type="http://schemas.openxmlformats.org/officeDocument/2006/relationships/image" Target="../media/image28.png"/><Relationship Id="rId6" Type="http://schemas.openxmlformats.org/officeDocument/2006/relationships/image" Target="../media/image28.png"/><Relationship Id="rId7" Type="http://schemas.openxmlformats.org/officeDocument/2006/relationships/image" Target="../media/image28.png"/><Relationship Id="rId8" Type="http://schemas.openxmlformats.org/officeDocument/2006/relationships/image" Target="../media/image28.png"/><Relationship Id="rId9" Type="http://schemas.openxmlformats.org/officeDocument/2006/relationships/image" Target="../media/image28.png"/><Relationship Id="rId10" Type="http://schemas.openxmlformats.org/officeDocument/2006/relationships/image" Target="../media/image28.png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jpe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jpeg"/><Relationship Id="rId18" Type="http://schemas.openxmlformats.org/officeDocument/2006/relationships/image" Target="../media/image20.jpeg"/><Relationship Id="rId19" Type="http://schemas.openxmlformats.org/officeDocument/2006/relationships/image" Target="../media/image21.jpeg"/><Relationship Id="rId2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image" Target="../media/image2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40160"/>
            <a:ext cx="7772400" cy="52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Zusammenarbeit </a:t>
            </a:r>
            <a:br>
              <a:rPr sz="3000"/>
            </a:br>
            <a:r>
              <a:rPr b="1" lang="de-CH" sz="3000" spc="-1" strike="noStrike">
                <a:solidFill>
                  <a:srgbClr val="335fa8"/>
                </a:solidFill>
                <a:latin typeface="AkzidenzGrotesk"/>
              </a:rPr>
              <a:t>Piratenpartei – Vimentis</a:t>
            </a:r>
            <a:endParaRPr b="1" lang="en-US" sz="30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68360" y="422100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St.Gallen, November 2011</a:t>
            </a:r>
            <a:endParaRPr b="0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5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71E2C-9797-4251-9D03-B0AD71976DE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730872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Integrierte Lösung: Vimentis als einziger One-Stop-Shop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79" name="Text Placeholder 2"/>
          <p:cNvSpPr/>
          <p:nvPr/>
        </p:nvSpPr>
        <p:spPr>
          <a:xfrm>
            <a:off x="2322360" y="12924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: «Einfach Wählen» generiert Partei- und Kandidatenvorschläg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0" name="Text Placeholder 2"/>
          <p:cNvSpPr/>
          <p:nvPr/>
        </p:nvSpPr>
        <p:spPr>
          <a:xfrm>
            <a:off x="2314440" y="2889360"/>
            <a:ext cx="4373640" cy="10184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Parteiprofile: Informiert Wählen dank vertieften Partei- und Kandidatenprofi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1" name="Text Placeholder 2"/>
          <p:cNvSpPr/>
          <p:nvPr/>
        </p:nvSpPr>
        <p:spPr>
          <a:xfrm>
            <a:off x="2365200" y="4508640"/>
            <a:ext cx="4373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Blogs von Kandida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2" name="Plus 199"/>
          <p:cNvSpPr/>
          <p:nvPr/>
        </p:nvSpPr>
        <p:spPr>
          <a:xfrm>
            <a:off x="4238640" y="2214720"/>
            <a:ext cx="571320" cy="572760"/>
          </a:xfrm>
          <a:custGeom>
            <a:avLst/>
            <a:gdLst>
              <a:gd name="textAreaLeft" fmla="*/ 75600 w 571320"/>
              <a:gd name="textAreaRight" fmla="*/ 495720 w 571320"/>
              <a:gd name="textAreaTop" fmla="*/ 219240 h 572760"/>
              <a:gd name="textAreaBottom" fmla="*/ 353520 h 57276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3" name="Plus 200"/>
          <p:cNvSpPr/>
          <p:nvPr/>
        </p:nvSpPr>
        <p:spPr>
          <a:xfrm>
            <a:off x="4267080" y="383364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7">
                <a:moveTo>
                  <a:pt x="75752" y="219335"/>
                </a:moveTo>
                <a:lnTo>
                  <a:pt x="218542" y="219335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5"/>
                </a:lnTo>
                <a:lnTo>
                  <a:pt x="495748" y="219335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4"/>
                </a:lnTo>
                <a:lnTo>
                  <a:pt x="218542" y="497124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4" name="Foliennummernplatzhalter 6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FB9B-FE57-499A-9744-DF7973B8CE54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5" name="Plus 197"/>
          <p:cNvSpPr/>
          <p:nvPr/>
        </p:nvSpPr>
        <p:spPr>
          <a:xfrm>
            <a:off x="4267080" y="5184720"/>
            <a:ext cx="571680" cy="573120"/>
          </a:xfrm>
          <a:custGeom>
            <a:avLst/>
            <a:gdLst>
              <a:gd name="textAreaLeft" fmla="*/ 75600 w 571680"/>
              <a:gd name="textAreaRight" fmla="*/ 496080 w 571680"/>
              <a:gd name="textAreaTop" fmla="*/ 219240 h 573120"/>
              <a:gd name="textAreaBottom" fmla="*/ 353880 h 573120"/>
            </a:gdLst>
            <a:ahLst/>
            <a:rect l="textAreaLeft" t="textAreaTop" r="textAreaRight" b="textAreaBottom"/>
            <a:pathLst>
              <a:path w="571500" h="573088">
                <a:moveTo>
                  <a:pt x="75752" y="219336"/>
                </a:moveTo>
                <a:lnTo>
                  <a:pt x="218542" y="219336"/>
                </a:lnTo>
                <a:lnTo>
                  <a:pt x="218542" y="75963"/>
                </a:lnTo>
                <a:lnTo>
                  <a:pt x="352958" y="75963"/>
                </a:lnTo>
                <a:lnTo>
                  <a:pt x="352958" y="219336"/>
                </a:lnTo>
                <a:lnTo>
                  <a:pt x="495748" y="219336"/>
                </a:lnTo>
                <a:lnTo>
                  <a:pt x="495748" y="353752"/>
                </a:lnTo>
                <a:lnTo>
                  <a:pt x="352958" y="353752"/>
                </a:lnTo>
                <a:lnTo>
                  <a:pt x="352958" y="497125"/>
                </a:lnTo>
                <a:lnTo>
                  <a:pt x="218542" y="497125"/>
                </a:lnTo>
                <a:lnTo>
                  <a:pt x="218542" y="353752"/>
                </a:lnTo>
                <a:lnTo>
                  <a:pt x="75752" y="35375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6" name="Text Placeholder 2"/>
          <p:cNvSpPr/>
          <p:nvPr/>
        </p:nvSpPr>
        <p:spPr>
          <a:xfrm>
            <a:off x="2365200" y="590400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Starke Partner um Neuwähler zu akquirier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Unsere Vorteile sind ihre Vorteile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88" name="Text Placeholder 2"/>
          <p:cNvSpPr/>
          <p:nvPr/>
        </p:nvSpPr>
        <p:spPr>
          <a:xfrm>
            <a:off x="468360" y="1557360"/>
            <a:ext cx="381636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Was unterscheidet Vimentis «Einfach Wählen»?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rosser Nutzerstamm mit starkem Vertrauen in Vimentis als einzige integrierte Homepage mit Wahlhilfe, Blogs, Abstimmungsinfo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Be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Höhere Transparenz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Stärkere Einbindung der Parteien bei Fragebogen, Parteiportraits, etc.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Günstigerer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89" name="AutoShape 6"/>
          <p:cNvSpPr/>
          <p:nvPr/>
        </p:nvSpPr>
        <p:spPr>
          <a:xfrm rot="5400000">
            <a:off x="3055680" y="3040200"/>
            <a:ext cx="3090600" cy="3474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0" name="Text Placeholder 2"/>
          <p:cNvSpPr/>
          <p:nvPr/>
        </p:nvSpPr>
        <p:spPr>
          <a:xfrm>
            <a:off x="4941720" y="1557360"/>
            <a:ext cx="3745080" cy="3311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Sie und ihre Kandidaten profitieren durch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Weite Präsenz der Kandidaten 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Feedback–Möglichkeit auf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onkurrenz sichert langfristig Innovation, Kundenfokussierung und günstigeren Prei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AkzidenzGrotesk"/>
                <a:ea typeface="Arial"/>
              </a:rPr>
              <a:t>Kandidaten können mit Blogs Ihre Wahlkampf-Themen aktiv propag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 marL="225360" indent="-223920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1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D9C31-7E29-4F27-B5BA-0B8B3BF9014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0E30-45BA-4DBD-9D16-5F13563BBFE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ngebot an die Piratenpartei St.Gall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0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DBEB-639F-4F98-997E-6114025CA2F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1" name="Text Placeholder 2"/>
          <p:cNvSpPr/>
          <p:nvPr/>
        </p:nvSpPr>
        <p:spPr>
          <a:xfrm>
            <a:off x="442800" y="1179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Angebot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2" name="Text Placeholder 2"/>
          <p:cNvSpPr/>
          <p:nvPr/>
        </p:nvSpPr>
        <p:spPr>
          <a:xfrm>
            <a:off x="4572000" y="1187280"/>
            <a:ext cx="391464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Leistung  Piratenpartei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3" name="Text Placeholder 2"/>
          <p:cNvSpPr/>
          <p:nvPr/>
        </p:nvSpPr>
        <p:spPr>
          <a:xfrm>
            <a:off x="438120" y="1712880"/>
            <a:ext cx="3967200" cy="50403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72000" tIns="144000" bIns="144000" anchor="t">
            <a:spAutoFit/>
          </a:bodyPr>
          <a:p>
            <a:pPr marL="285840" indent="-285840">
              <a:buSzPct val="11297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Nutzung Vimentis Wahlen-Tool für alle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Kandidaten der Piratenpartei St.Gallen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ostenlo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Einbindung auf Vimentis.ch sowie allen Medienpartnern 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Gratis-Profil für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  <a:ea typeface="Arial"/>
              </a:rPr>
              <a:t>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lvl="1" marL="446040" indent="-144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Blogs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für alle Kandidat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ersönliche 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Kandidatenbetreuung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bis hin zu den Wah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Spider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 und politische Landkarte aller Kandidaten und Partei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Parteiportrait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 zur Einbindung von Blogs und Kandidatenprofile auf parteieigener Homepage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buSzPct val="11297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Möglichkeit</a:t>
            </a:r>
            <a:r>
              <a:rPr b="1" lang="de-CH" sz="1300" spc="-1" strike="noStrike">
                <a:solidFill>
                  <a:srgbClr val="000000"/>
                </a:solidFill>
                <a:latin typeface="AkzidenzGrotesk"/>
              </a:rPr>
              <a:t> Feedback zum Fragebogen </a:t>
            </a: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zu geb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4" name="Text Placeholder 2"/>
          <p:cNvSpPr/>
          <p:nvPr/>
        </p:nvSpPr>
        <p:spPr>
          <a:xfrm>
            <a:off x="4572000" y="1711440"/>
            <a:ext cx="3914640" cy="46926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noAutofit/>
          </a:bodyPr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Preis: 100 Fr. pro gewonnenem Sitz der Piratenpartei St.Ga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liefert Liste mit allen Kandidaten bis 05.12.2011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sendet eine personalisierte Nachricht an alle Ihre Kandidaten und fordert diese auf, den Fragebogen auszufüll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empfiehlt Ihren Kandidaten die Blog-Plattform von Vimentis zu nutzen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  <a:p>
            <a:pPr marL="285840" indent="-285840">
              <a:spcBef>
                <a:spcPts val="326"/>
              </a:spcBef>
              <a:buClr>
                <a:srgbClr val="335fa8"/>
              </a:buClr>
              <a:buSzPct val="11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300" spc="-1" strike="noStrike">
                <a:solidFill>
                  <a:srgbClr val="000000"/>
                </a:solidFill>
                <a:latin typeface="AkzidenzGrotesk"/>
              </a:rPr>
              <a:t>Die Piratenpartei St.Gallen beantwortet 10 Fragen zur Erstellung des Parteiportrait von Vimentis</a:t>
            </a:r>
            <a:endParaRPr b="1" i="1" lang="en-US" sz="13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09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B1AC-5778-41DC-B5E0-ABD55BA2CCD6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700280" y="522936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AkzidenzGrotesk"/>
              </a:rPr>
              <a:t>Zeitplan</a:t>
            </a: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 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Zeitpla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987F-21F0-4736-AA87-91C94ACF5C07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4" name="Text Placeholder 2"/>
          <p:cNvSpPr/>
          <p:nvPr/>
        </p:nvSpPr>
        <p:spPr>
          <a:xfrm>
            <a:off x="447840" y="2050920"/>
            <a:ext cx="8038800" cy="25905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12.2011 Vertrag unterzeichn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5.12.2011 Listen mit Kandidaten zuschick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3011 Feedback auf Fragebog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5.12.2011 Antworten für Fragen für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02.01.2011 Kandidaten auffordern, Fragebogen auszufü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13.01.2012 Feedback auf Parteiprofil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30.01.2012 Going-Liv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ragen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21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456F-E870-48D0-A59F-C4089E9E2B85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17" name="TextBox 23"/>
          <p:cNvSpPr/>
          <p:nvPr/>
        </p:nvSpPr>
        <p:spPr>
          <a:xfrm>
            <a:off x="468360" y="3203640"/>
            <a:ext cx="56404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Kontaktdaten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omana Brueggemann, Parteiverantwortlich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Brueggemann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8 742 85 55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Remo Dominioni, Projektverantwortlicher (GL)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Dominioni@vimentis.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079 452 75 77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anschrift: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Postfach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  <a:ea typeface="ＭＳ Ｐゴシック"/>
              </a:rPr>
              <a:t>9000 St. Gal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5520" y="347760"/>
            <a:ext cx="75484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ppendix: Bisherige Erfolge anderer Tätigkeiten von Vimentis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pic>
        <p:nvPicPr>
          <p:cNvPr id="219" name="Picture 24" descr=""/>
          <p:cNvPicPr/>
          <p:nvPr/>
        </p:nvPicPr>
        <p:blipFill>
          <a:blip r:embed="rId1"/>
          <a:stretch/>
        </p:blipFill>
        <p:spPr>
          <a:xfrm>
            <a:off x="357120" y="2565360"/>
            <a:ext cx="3494160" cy="2546280"/>
          </a:xfrm>
          <a:prstGeom prst="rect">
            <a:avLst/>
          </a:prstGeom>
          <a:ln w="0">
            <a:noFill/>
          </a:ln>
        </p:spPr>
      </p:pic>
      <p:grpSp>
        <p:nvGrpSpPr>
          <p:cNvPr id="220" name="Group 8"/>
          <p:cNvGrpSpPr/>
          <p:nvPr/>
        </p:nvGrpSpPr>
        <p:grpSpPr>
          <a:xfrm>
            <a:off x="4118040" y="1197000"/>
            <a:ext cx="4608000" cy="315720"/>
            <a:chOff x="4118040" y="1197000"/>
            <a:chExt cx="4608000" cy="315720"/>
          </a:xfrm>
        </p:grpSpPr>
        <p:sp>
          <p:nvSpPr>
            <p:cNvPr id="221" name="KMATable0TextBox2"/>
            <p:cNvSpPr/>
            <p:nvPr/>
          </p:nvSpPr>
          <p:spPr>
            <a:xfrm>
              <a:off x="4118040" y="119700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informiert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2" name="Line 10"/>
            <p:cNvSpPr/>
            <p:nvPr/>
          </p:nvSpPr>
          <p:spPr>
            <a:xfrm>
              <a:off x="4118040" y="151272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3" name="Rectangle 11"/>
          <p:cNvSpPr/>
          <p:nvPr/>
        </p:nvSpPr>
        <p:spPr>
          <a:xfrm>
            <a:off x="3924360" y="1533600"/>
            <a:ext cx="496872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ssendstes Politik Informationsportal der CH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Informationen über Abstimmungen und politisch interessante Themen (über 40’000 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Umfangreiches Lexikon zum leichteren Verständnis der Texte (über 20’000 Lexikonaufrufe pro Monat)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4" name="Group 12"/>
          <p:cNvGrpSpPr/>
          <p:nvPr/>
        </p:nvGrpSpPr>
        <p:grpSpPr>
          <a:xfrm>
            <a:off x="4118040" y="2852640"/>
            <a:ext cx="4608000" cy="315720"/>
            <a:chOff x="4118040" y="2852640"/>
            <a:chExt cx="4608000" cy="315720"/>
          </a:xfrm>
        </p:grpSpPr>
        <p:sp>
          <p:nvSpPr>
            <p:cNvPr id="225" name="KMATable0TextBox2"/>
            <p:cNvSpPr/>
            <p:nvPr/>
          </p:nvSpPr>
          <p:spPr>
            <a:xfrm>
              <a:off x="4118040" y="285264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Umfrage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26" name="Line 14"/>
            <p:cNvSpPr/>
            <p:nvPr/>
          </p:nvSpPr>
          <p:spPr>
            <a:xfrm>
              <a:off x="4118040" y="316836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27" name="Rectangle 15"/>
          <p:cNvSpPr/>
          <p:nvPr/>
        </p:nvSpPr>
        <p:spPr>
          <a:xfrm>
            <a:off x="3940200" y="3189240"/>
            <a:ext cx="475596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össte politische Online Umfrage der Schweiz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eschleunigung des politischen Prozesses durch Prüfung von Reformvorschlägen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Hohe Akzeptanz in Politik, da Repräsentativität gewährleistet (über 20’000 Teilnehmer jährlich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228" name="Group 16"/>
          <p:cNvGrpSpPr/>
          <p:nvPr/>
        </p:nvGrpSpPr>
        <p:grpSpPr>
          <a:xfrm>
            <a:off x="4118040" y="4581360"/>
            <a:ext cx="4608000" cy="315720"/>
            <a:chOff x="4118040" y="4581360"/>
            <a:chExt cx="4608000" cy="315720"/>
          </a:xfrm>
        </p:grpSpPr>
        <p:sp>
          <p:nvSpPr>
            <p:cNvPr id="229" name="KMATable0TextBox2"/>
            <p:cNvSpPr/>
            <p:nvPr/>
          </p:nvSpPr>
          <p:spPr>
            <a:xfrm>
              <a:off x="4118040" y="4581360"/>
              <a:ext cx="460800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38520" bIns="38520" anchor="ctr">
              <a:noAutofit/>
            </a:bodyPr>
            <a:p>
              <a:pPr>
                <a:tabLst>
                  <a:tab algn="l" pos="0"/>
                  <a:tab algn="l" pos="811080"/>
                  <a:tab algn="l" pos="1622520"/>
                  <a:tab algn="l" pos="2433600"/>
                  <a:tab algn="l" pos="3244680"/>
                  <a:tab algn="l" pos="4056120"/>
                  <a:tab algn="l" pos="4867200"/>
                  <a:tab algn="l" pos="5678640"/>
                  <a:tab algn="l" pos="6489720"/>
                  <a:tab algn="l" pos="7300800"/>
                  <a:tab algn="l" pos="8112240"/>
                  <a:tab algn="l" pos="8923320"/>
                  <a:tab algn="l" pos="9734400"/>
                  <a:tab algn="l" pos="1054584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kzidenzGrotesk"/>
                </a:rPr>
                <a:t>Vimentis Dialog</a:t>
              </a:r>
              <a:endParaRPr b="1" i="1" lang="en-US" sz="14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  <p:sp>
          <p:nvSpPr>
            <p:cNvPr id="230" name="Line 18"/>
            <p:cNvSpPr/>
            <p:nvPr/>
          </p:nvSpPr>
          <p:spPr>
            <a:xfrm>
              <a:off x="4118040" y="4897080"/>
              <a:ext cx="4608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8520" rIns="38520" tIns="-38520" bIns="-38520" anchor="t">
              <a:noAutofit/>
            </a:bodyPr>
            <a:p>
              <a:endParaRPr b="1" i="1" lang="en-US" sz="1200" spc="-1" strike="noStrike">
                <a:solidFill>
                  <a:srgbClr val="000000"/>
                </a:solidFill>
                <a:latin typeface="AkzidenzGrotesk"/>
              </a:endParaRPr>
            </a:p>
          </p:txBody>
        </p:sp>
      </p:grpSp>
      <p:sp>
        <p:nvSpPr>
          <p:cNvPr id="231" name="Rectangle 19"/>
          <p:cNvSpPr/>
          <p:nvPr/>
        </p:nvSpPr>
        <p:spPr>
          <a:xfrm>
            <a:off x="3940200" y="4917960"/>
            <a:ext cx="4755960" cy="184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 lvl="1" marL="289080" indent="-174600">
              <a:lnSpc>
                <a:spcPct val="130000"/>
              </a:lnSpc>
              <a:tabLst>
                <a:tab algn="l" pos="0"/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og-Plattform für Schweizer Politik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ufbau der Plattform seit April 2010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-übergreifende Plattform mit Teilnehmenden aus allen 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289080" indent="-174600">
              <a:lnSpc>
                <a:spcPct val="130000"/>
              </a:lnSpc>
              <a:buClr>
                <a:srgbClr val="000000"/>
              </a:buClr>
              <a:buFont typeface="AkzidenzGrotesk"/>
              <a:buChar char="•"/>
              <a:tabLst>
                <a:tab algn="ctr" pos="511488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Während Wahlkampf bereits rund 120 aktive Blogger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232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BC0B-4AD6-4697-907F-452165AB407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A173-C9E6-4C10-8F4C-448EB156349A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5160" y="347760"/>
            <a:ext cx="7334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möchte eine bessere Schweiz durch bessere politische Entscheidungen  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90" name="Foliennummernplatzhalter 3"/>
          <p:cNvSpPr/>
          <p:nvPr/>
        </p:nvSpPr>
        <p:spPr>
          <a:xfrm>
            <a:off x="6553080" y="6375240"/>
            <a:ext cx="213372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D8D3-D48E-4398-BA31-E42CB55B3C84}" type="slidenum">
              <a:rPr b="0" i="1" lang="de-CH" sz="1200" spc="-1" strike="noStrike">
                <a:solidFill>
                  <a:srgbClr val="000000"/>
                </a:solidFill>
                <a:latin typeface="AkzidenzGrotesk"/>
                <a:ea typeface="MS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1" name="Rectangle 11"/>
          <p:cNvSpPr/>
          <p:nvPr/>
        </p:nvSpPr>
        <p:spPr>
          <a:xfrm>
            <a:off x="1247760" y="4702320"/>
            <a:ext cx="77184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Neutr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1246320" y="51768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Hohe Qu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5292720" y="51768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Leser-/Nutzerfreundlichkei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4" name="Isosceles Triangle 3"/>
          <p:cNvSpPr/>
          <p:nvPr/>
        </p:nvSpPr>
        <p:spPr>
          <a:xfrm>
            <a:off x="1247760" y="1628640"/>
            <a:ext cx="7718400" cy="1482840"/>
          </a:xfrm>
          <a:prstGeom prst="triangle">
            <a:avLst>
              <a:gd name="adj" fmla="val 50000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600" spc="-1" strike="noStrike">
                <a:solidFill>
                  <a:srgbClr val="ffffff"/>
                </a:solidFill>
                <a:latin typeface="AkzidenzGrotesk-Light"/>
                <a:ea typeface="MS Gothic"/>
              </a:rPr>
              <a:t>Verbesserung der politischen Entscheidungsfindung zur Erhöhung der Lebensqualität in der Schweiz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5" name="TextBox 20"/>
          <p:cNvSpPr/>
          <p:nvPr/>
        </p:nvSpPr>
        <p:spPr>
          <a:xfrm>
            <a:off x="158760" y="23716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Ziel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165240" y="47023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Wer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7" name="TextBox 22"/>
          <p:cNvSpPr/>
          <p:nvPr/>
        </p:nvSpPr>
        <p:spPr>
          <a:xfrm>
            <a:off x="142920" y="3284640"/>
            <a:ext cx="1044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Projekt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1258920" y="3186000"/>
            <a:ext cx="205272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informier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Sich einfach, schnell und neutral zu Abstimmungen und weiteren Themen inform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416400" y="3186000"/>
            <a:ext cx="192888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Umfrag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Abstimmen wie wichtigste Probleme der Schweiz gelöst werden sol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5451480" y="3186000"/>
            <a:ext cx="17636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Dialo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Mit Politikern und anderen Bürgern diskutier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7323120" y="3186000"/>
            <a:ext cx="1643040" cy="1440000"/>
          </a:xfrm>
          <a:prstGeom prst="rect">
            <a:avLst/>
          </a:prstGeom>
          <a:solidFill>
            <a:srgbClr val="cfd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46800" anchor="t">
            <a:noAutofit/>
          </a:bodyPr>
          <a:p>
            <a:pPr>
              <a:lnSpc>
                <a:spcPct val="100000"/>
              </a:lnSpc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Vimentis Wa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AkzidenzGrotesk-Light"/>
                <a:ea typeface="MS Gothic"/>
              </a:rPr>
              <a:t>Einfacher und präziser wähl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2" name="Rectangle 15"/>
          <p:cNvSpPr/>
          <p:nvPr/>
        </p:nvSpPr>
        <p:spPr>
          <a:xfrm>
            <a:off x="1246320" y="5661000"/>
            <a:ext cx="389736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Diskussions- &amp; Feedback-Kultur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5292720" y="5661000"/>
            <a:ext cx="3672000" cy="414360"/>
          </a:xfrm>
          <a:prstGeom prst="rect">
            <a:avLst/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ffffff"/>
                </a:solidFill>
                <a:latin typeface="AkzidenzGrotesk-Light"/>
              </a:rPr>
              <a:t>Professionalität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Wieso Wahlhilfe von Vimentis?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05" name="Foliennummernplatzhalter 3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4F78-C025-440B-AD73-4C9EADE81E8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6" name="Text Placeholder 2"/>
          <p:cNvSpPr/>
          <p:nvPr/>
        </p:nvSpPr>
        <p:spPr>
          <a:xfrm>
            <a:off x="468360" y="2050920"/>
            <a:ext cx="3962520" cy="2093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Die meisten unentschlossenen Wähler entscheiden mit einer Wahlhilfe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ten geben ca. 1 Mio. Wahl-empfehlungen ab </a:t>
            </a:r>
            <a:br>
              <a:rPr sz="1600"/>
            </a:br>
            <a:r>
              <a:rPr b="0" lang="de-CH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 Immenser Impact auf Ergebn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7" name="Text Placeholder 2"/>
          <p:cNvSpPr/>
          <p:nvPr/>
        </p:nvSpPr>
        <p:spPr>
          <a:xfrm>
            <a:off x="468360" y="5622840"/>
            <a:ext cx="820728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imentis als bekannter, vertrauenswürdiger Partner für einen Stimmenzuwach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8" name="Right Arrow 119"/>
          <p:cNvSpPr/>
          <p:nvPr/>
        </p:nvSpPr>
        <p:spPr>
          <a:xfrm rot="5400000">
            <a:off x="4146840" y="2865960"/>
            <a:ext cx="877680" cy="371484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09" name="Text Placeholder 2"/>
          <p:cNvSpPr/>
          <p:nvPr/>
        </p:nvSpPr>
        <p:spPr>
          <a:xfrm>
            <a:off x="4713120" y="2050920"/>
            <a:ext cx="3962520" cy="179928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Konkurrenz ignoriert Kritik der Parteien, welche den Markeintritt von Vimentis wünscht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marL="266760" indent="-266760"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AkzidenzGrotesk"/>
              </a:rPr>
              <a:t>Vimentis einzige vollständig integrierte Plattform in Form eines One-Stop-Shop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0" name="Text Placeholder 2"/>
          <p:cNvSpPr/>
          <p:nvPr/>
        </p:nvSpPr>
        <p:spPr>
          <a:xfrm>
            <a:off x="468360" y="156672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Wahlhilfen entscheiden die Wahlen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1" name="Text Placeholder 2"/>
          <p:cNvSpPr/>
          <p:nvPr/>
        </p:nvSpPr>
        <p:spPr>
          <a:xfrm>
            <a:off x="4713120" y="1557360"/>
            <a:ext cx="3962520" cy="531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Mission von Vimentis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692360" y="38592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Agenda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692360" y="2714760"/>
            <a:ext cx="5613480" cy="7207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Bisheriger Erfolg: Vimentis – «Einfach Wählen»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692360" y="43736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Angebo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1692360" y="187812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pdate über Vimentis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6" name="Slide Number Placeholder 1"/>
          <p:cNvSpPr/>
          <p:nvPr/>
        </p:nvSpPr>
        <p:spPr>
          <a:xfrm>
            <a:off x="6553080" y="652464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D9124-25C8-4AC8-BE97-1D900BE0AD7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1692360" y="352584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Unser Produkt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1692360" y="5229360"/>
            <a:ext cx="5613480" cy="72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kzidenzGrotesk"/>
              </a:rPr>
              <a:t>Zeitpla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Erfolg: Vimentis «Einfach Wählen» an nationalen Wahlen 2011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0" name="Text Placeholder 2"/>
          <p:cNvSpPr/>
          <p:nvPr/>
        </p:nvSpPr>
        <p:spPr>
          <a:xfrm>
            <a:off x="468360" y="1224000"/>
            <a:ext cx="4013280" cy="53100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Medienpartn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lick (blick.ch, Blick am Abend, Sonntagsblick)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Aargauer Zeitun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100000"/>
              </a:lnSpc>
              <a:spcBef>
                <a:spcPts val="400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Zürcher Oberländer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AkzidenzGrotesk"/>
              </a:rPr>
              <a:t>Partei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Basellandschaft, Bern, Fribourg und Thu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VP 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SVP 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F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C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Grünliberal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BD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VP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ED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irate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arteifrei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SLB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Ja!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Pda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kzidenzGrotesk"/>
                <a:ea typeface="Arial"/>
              </a:rPr>
              <a:t>Konfessionslose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 lvl="1" marL="358920" indent="-179640">
              <a:lnSpc>
                <a:spcPct val="80000"/>
              </a:lnSpc>
              <a:spcBef>
                <a:spcPts val="601"/>
              </a:spcBef>
              <a:buClr>
                <a:srgbClr val="335fa8"/>
              </a:buClr>
              <a:buSzPct val="110000"/>
              <a:buFont typeface="AkzidenzGrotes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1" name="AutoShape 6"/>
          <p:cNvSpPr/>
          <p:nvPr/>
        </p:nvSpPr>
        <p:spPr>
          <a:xfrm rot="5400000">
            <a:off x="3213000" y="37926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2" name="Text Placeholder 2"/>
          <p:cNvSpPr/>
          <p:nvPr/>
        </p:nvSpPr>
        <p:spPr>
          <a:xfrm>
            <a:off x="5157720" y="3406680"/>
            <a:ext cx="3384720" cy="11192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kzidenzGrotesk"/>
                <a:ea typeface="Arial"/>
              </a:rPr>
              <a:t>~ 75’000 Wahlempfehlungen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335fa8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3" name="Text Placeholder 2"/>
          <p:cNvSpPr/>
          <p:nvPr/>
        </p:nvSpPr>
        <p:spPr>
          <a:xfrm>
            <a:off x="5148360" y="1879560"/>
            <a:ext cx="3384360" cy="5414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 </a:t>
            </a: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8 Medienmitteilungen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4" name="Text Placeholder 2"/>
          <p:cNvSpPr/>
          <p:nvPr/>
        </p:nvSpPr>
        <p:spPr>
          <a:xfrm>
            <a:off x="5148360" y="5511960"/>
            <a:ext cx="3384360" cy="70776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08000" bIns="180000" anchor="t">
            <a:noAutofit/>
          </a:bodyPr>
          <a:p>
            <a:pPr lvl="1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kzidenzGrotesk"/>
                <a:ea typeface="Arial"/>
              </a:rPr>
              <a:t>Wissenschaftlich fundierte Methodik</a:t>
            </a: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  <a:p>
            <a:pPr lvl="1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25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65C4C-BFC9-41EF-958B-5AF49A8F34D9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Fast alle Parteien arbeiteten eng mit Vimentis zusamm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27" name="Right Arrow 119"/>
          <p:cNvSpPr/>
          <p:nvPr/>
        </p:nvSpPr>
        <p:spPr>
          <a:xfrm>
            <a:off x="4616280" y="982800"/>
            <a:ext cx="1644840" cy="5541840"/>
          </a:xfrm>
          <a:prstGeom prst="rightArrow">
            <a:avLst>
              <a:gd name="adj1" fmla="val 40944"/>
              <a:gd name="adj2" fmla="val 58014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Kandidaten-Infos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Fragebogen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kzidenzGrotesk"/>
              </a:rPr>
              <a:t>Feedback Parteiprofile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28" name="Grafik 10" descr="Nur Schweiz.jpg"/>
          <p:cNvPicPr/>
          <p:nvPr/>
        </p:nvPicPr>
        <p:blipFill>
          <a:blip r:embed="rId1"/>
          <a:stretch/>
        </p:blipFill>
        <p:spPr>
          <a:xfrm>
            <a:off x="6683400" y="2624040"/>
            <a:ext cx="1928880" cy="1143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72" descr="einfach wählen ohne signet_4c.png"/>
          <p:cNvPicPr/>
          <p:nvPr/>
        </p:nvPicPr>
        <p:blipFill>
          <a:blip r:embed="rId2"/>
          <a:srcRect l="10143" t="0" r="0" b="0"/>
          <a:stretch/>
        </p:blipFill>
        <p:spPr>
          <a:xfrm>
            <a:off x="6413400" y="3909960"/>
            <a:ext cx="2413080" cy="596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4" descr="LogoCVP05d"/>
          <p:cNvPicPr/>
          <p:nvPr/>
        </p:nvPicPr>
        <p:blipFill>
          <a:blip r:embed="rId3"/>
          <a:stretch/>
        </p:blipFill>
        <p:spPr>
          <a:xfrm>
            <a:off x="325440" y="2859120"/>
            <a:ext cx="752400" cy="601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logo_deutsch"/>
          <p:cNvPicPr/>
          <p:nvPr/>
        </p:nvPicPr>
        <p:blipFill>
          <a:blip r:embed="rId4"/>
          <a:stretch/>
        </p:blipFill>
        <p:spPr>
          <a:xfrm>
            <a:off x="1887480" y="1325520"/>
            <a:ext cx="113364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6" descr="sp"/>
          <p:cNvPicPr/>
          <p:nvPr/>
        </p:nvPicPr>
        <p:blipFill>
          <a:blip r:embed="rId5"/>
          <a:stretch/>
        </p:blipFill>
        <p:spPr>
          <a:xfrm>
            <a:off x="333360" y="3807000"/>
            <a:ext cx="907920" cy="401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3" descr="107"/>
          <p:cNvPicPr/>
          <p:nvPr/>
        </p:nvPicPr>
        <p:blipFill>
          <a:blip r:embed="rId6"/>
          <a:stretch/>
        </p:blipFill>
        <p:spPr>
          <a:xfrm>
            <a:off x="333360" y="4357800"/>
            <a:ext cx="1190520" cy="952560"/>
          </a:xfrm>
          <a:prstGeom prst="rect">
            <a:avLst/>
          </a:prstGeom>
          <a:ln w="0">
            <a:noFill/>
          </a:ln>
        </p:spPr>
      </p:pic>
      <p:pic>
        <p:nvPicPr>
          <p:cNvPr id="134" name="Grafik 4" descr=""/>
          <p:cNvPicPr/>
          <p:nvPr/>
        </p:nvPicPr>
        <p:blipFill>
          <a:blip r:embed="rId7"/>
          <a:stretch/>
        </p:blipFill>
        <p:spPr>
          <a:xfrm>
            <a:off x="3311640" y="5119560"/>
            <a:ext cx="1369800" cy="532080"/>
          </a:xfrm>
          <a:prstGeom prst="rect">
            <a:avLst/>
          </a:prstGeom>
          <a:ln w="0">
            <a:noFill/>
          </a:ln>
        </p:spPr>
      </p:pic>
      <p:pic>
        <p:nvPicPr>
          <p:cNvPr id="135" name="Grafik 5" descr=""/>
          <p:cNvPicPr/>
          <p:nvPr/>
        </p:nvPicPr>
        <p:blipFill>
          <a:blip r:embed="rId8"/>
          <a:stretch/>
        </p:blipFill>
        <p:spPr>
          <a:xfrm>
            <a:off x="258840" y="1338120"/>
            <a:ext cx="901800" cy="574920"/>
          </a:xfrm>
          <a:prstGeom prst="rect">
            <a:avLst/>
          </a:prstGeom>
          <a:ln w="0">
            <a:noFill/>
          </a:ln>
        </p:spPr>
      </p:pic>
      <p:pic>
        <p:nvPicPr>
          <p:cNvPr id="136" name="Grafik 6" descr=""/>
          <p:cNvPicPr/>
          <p:nvPr/>
        </p:nvPicPr>
        <p:blipFill>
          <a:blip r:embed="rId9"/>
          <a:stretch/>
        </p:blipFill>
        <p:spPr>
          <a:xfrm>
            <a:off x="3664080" y="1535040"/>
            <a:ext cx="974520" cy="390600"/>
          </a:xfrm>
          <a:prstGeom prst="rect">
            <a:avLst/>
          </a:prstGeom>
          <a:ln w="0">
            <a:noFill/>
          </a:ln>
        </p:spPr>
      </p:pic>
      <p:pic>
        <p:nvPicPr>
          <p:cNvPr id="137" name="Grafik 7" descr=""/>
          <p:cNvPicPr/>
          <p:nvPr/>
        </p:nvPicPr>
        <p:blipFill>
          <a:blip r:embed="rId10"/>
          <a:stretch/>
        </p:blipFill>
        <p:spPr>
          <a:xfrm>
            <a:off x="2862360" y="2803680"/>
            <a:ext cx="1504800" cy="331560"/>
          </a:xfrm>
          <a:prstGeom prst="rect">
            <a:avLst/>
          </a:prstGeom>
          <a:ln w="0">
            <a:noFill/>
          </a:ln>
        </p:spPr>
      </p:pic>
      <p:pic>
        <p:nvPicPr>
          <p:cNvPr id="138" name="Grafik 8" descr=""/>
          <p:cNvPicPr/>
          <p:nvPr/>
        </p:nvPicPr>
        <p:blipFill>
          <a:blip r:embed="rId11"/>
          <a:stretch/>
        </p:blipFill>
        <p:spPr>
          <a:xfrm>
            <a:off x="333360" y="5335560"/>
            <a:ext cx="140184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Grafik 9" descr=""/>
          <p:cNvPicPr/>
          <p:nvPr/>
        </p:nvPicPr>
        <p:blipFill>
          <a:blip r:embed="rId12"/>
          <a:stretch/>
        </p:blipFill>
        <p:spPr>
          <a:xfrm>
            <a:off x="473040" y="6091200"/>
            <a:ext cx="1376280" cy="433440"/>
          </a:xfrm>
          <a:prstGeom prst="rect">
            <a:avLst/>
          </a:prstGeom>
          <a:ln w="0">
            <a:noFill/>
          </a:ln>
        </p:spPr>
      </p:pic>
      <p:pic>
        <p:nvPicPr>
          <p:cNvPr id="140" name="Grafik 1" descr=""/>
          <p:cNvPicPr/>
          <p:nvPr/>
        </p:nvPicPr>
        <p:blipFill>
          <a:blip r:embed="rId13"/>
          <a:stretch/>
        </p:blipFill>
        <p:spPr>
          <a:xfrm>
            <a:off x="2454120" y="6039000"/>
            <a:ext cx="1729080" cy="537840"/>
          </a:xfrm>
          <a:prstGeom prst="rect">
            <a:avLst/>
          </a:prstGeom>
          <a:ln w="0">
            <a:noFill/>
          </a:ln>
        </p:spPr>
      </p:pic>
      <p:pic>
        <p:nvPicPr>
          <p:cNvPr id="141" name="Grafik 2" descr=""/>
          <p:cNvPicPr/>
          <p:nvPr/>
        </p:nvPicPr>
        <p:blipFill>
          <a:blip r:embed="rId14"/>
          <a:stretch/>
        </p:blipFill>
        <p:spPr>
          <a:xfrm>
            <a:off x="325440" y="1730520"/>
            <a:ext cx="1138320" cy="1137960"/>
          </a:xfrm>
          <a:prstGeom prst="rect">
            <a:avLst/>
          </a:prstGeom>
          <a:ln w="0">
            <a:noFill/>
          </a:ln>
        </p:spPr>
      </p:pic>
      <p:pic>
        <p:nvPicPr>
          <p:cNvPr id="142" name="Grafik 4" descr=""/>
          <p:cNvPicPr/>
          <p:nvPr/>
        </p:nvPicPr>
        <p:blipFill>
          <a:blip r:embed="rId15"/>
          <a:stretch/>
        </p:blipFill>
        <p:spPr>
          <a:xfrm>
            <a:off x="3176640" y="2179800"/>
            <a:ext cx="1338120" cy="239400"/>
          </a:xfrm>
          <a:prstGeom prst="rect">
            <a:avLst/>
          </a:prstGeom>
          <a:ln w="0">
            <a:noFill/>
          </a:ln>
        </p:spPr>
      </p:pic>
      <p:pic>
        <p:nvPicPr>
          <p:cNvPr id="143" name="Grafik 5" descr=""/>
          <p:cNvPicPr/>
          <p:nvPr/>
        </p:nvPicPr>
        <p:blipFill>
          <a:blip r:embed="rId16"/>
          <a:stretch/>
        </p:blipFill>
        <p:spPr>
          <a:xfrm>
            <a:off x="3665520" y="3706920"/>
            <a:ext cx="627120" cy="603000"/>
          </a:xfrm>
          <a:prstGeom prst="rect">
            <a:avLst/>
          </a:prstGeom>
          <a:ln w="0">
            <a:noFill/>
          </a:ln>
        </p:spPr>
      </p:pic>
      <p:pic>
        <p:nvPicPr>
          <p:cNvPr id="144" name="Grafik 6" descr=""/>
          <p:cNvPicPr/>
          <p:nvPr/>
        </p:nvPicPr>
        <p:blipFill>
          <a:blip r:embed="rId17"/>
          <a:stretch/>
        </p:blipFill>
        <p:spPr>
          <a:xfrm>
            <a:off x="1932120" y="4165560"/>
            <a:ext cx="1353960" cy="507960"/>
          </a:xfrm>
          <a:prstGeom prst="rect">
            <a:avLst/>
          </a:prstGeom>
          <a:ln w="0">
            <a:noFill/>
          </a:ln>
        </p:spPr>
      </p:pic>
      <p:sp>
        <p:nvSpPr>
          <p:cNvPr id="145" name="Foliennummernplatzhalter 7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D07F-FA65-421A-86D4-BB067679B99B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46" name="Textfeld 10"/>
          <p:cNvSpPr/>
          <p:nvPr/>
        </p:nvSpPr>
        <p:spPr>
          <a:xfrm rot="1357800">
            <a:off x="6112440" y="1420920"/>
            <a:ext cx="2430720" cy="7786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500" spc="-1" strike="noStrike">
                <a:solidFill>
                  <a:srgbClr val="000000"/>
                </a:solidFill>
                <a:latin typeface="AkzidenzGrotesk"/>
              </a:rPr>
              <a:t>«Wir würden am liebsten nur bei Vimentis mitmachen!»</a:t>
            </a:r>
            <a:endParaRPr b="1" i="1" lang="en-US" sz="15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7" name="Grafik 2" descr=""/>
          <p:cNvPicPr/>
          <p:nvPr/>
        </p:nvPicPr>
        <p:blipFill>
          <a:blip r:embed="rId18"/>
          <a:stretch/>
        </p:blipFill>
        <p:spPr>
          <a:xfrm>
            <a:off x="2289240" y="5099040"/>
            <a:ext cx="731880" cy="573120"/>
          </a:xfrm>
          <a:prstGeom prst="rect">
            <a:avLst/>
          </a:prstGeom>
          <a:ln w="0">
            <a:noFill/>
          </a:ln>
        </p:spPr>
      </p:pic>
      <p:sp>
        <p:nvSpPr>
          <p:cNvPr id="148" name="Textfeld 2"/>
          <p:cNvSpPr/>
          <p:nvPr/>
        </p:nvSpPr>
        <p:spPr>
          <a:xfrm>
            <a:off x="2289240" y="5672160"/>
            <a:ext cx="73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Aargau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49" name="Grafik 3" descr=""/>
          <p:cNvPicPr/>
          <p:nvPr/>
        </p:nvPicPr>
        <p:blipFill>
          <a:blip r:embed="rId19"/>
          <a:stretch/>
        </p:blipFill>
        <p:spPr>
          <a:xfrm>
            <a:off x="1523880" y="2251080"/>
            <a:ext cx="1038240" cy="554040"/>
          </a:xfrm>
          <a:prstGeom prst="rect">
            <a:avLst/>
          </a:prstGeom>
          <a:ln w="0">
            <a:noFill/>
          </a:ln>
        </p:spPr>
      </p:pic>
      <p:sp>
        <p:nvSpPr>
          <p:cNvPr id="150" name="Textfeld 5"/>
          <p:cNvSpPr/>
          <p:nvPr/>
        </p:nvSpPr>
        <p:spPr>
          <a:xfrm>
            <a:off x="1562040" y="2768760"/>
            <a:ext cx="1125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International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aselland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Bern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Fribourg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Thurgau 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Starke Medienpartnerschaften für starke Präsenz Ihrer Kandidaten</a:t>
            </a:r>
            <a:endParaRPr b="1" lang="en-US" sz="2400" spc="-1" strike="noStrike">
              <a:solidFill>
                <a:srgbClr val="335fa8"/>
              </a:solidFill>
              <a:latin typeface="AkzidenzGrotesk"/>
            </a:endParaRPr>
          </a:p>
        </p:txBody>
      </p:sp>
      <p:sp>
        <p:nvSpPr>
          <p:cNvPr id="152" name="Right Arrow 119"/>
          <p:cNvSpPr/>
          <p:nvPr/>
        </p:nvSpPr>
        <p:spPr>
          <a:xfrm>
            <a:off x="2997360" y="1474920"/>
            <a:ext cx="1182600" cy="3714480"/>
          </a:xfrm>
          <a:prstGeom prst="rightArrow">
            <a:avLst>
              <a:gd name="adj1" fmla="val 24250"/>
              <a:gd name="adj2" fmla="val 58889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grpSp>
        <p:nvGrpSpPr>
          <p:cNvPr id="153" name="Gruppieren 19"/>
          <p:cNvGrpSpPr/>
          <p:nvPr/>
        </p:nvGrpSpPr>
        <p:grpSpPr>
          <a:xfrm>
            <a:off x="293760" y="2282760"/>
            <a:ext cx="2531880" cy="1882800"/>
            <a:chOff x="293760" y="2282760"/>
            <a:chExt cx="2531880" cy="1882800"/>
          </a:xfrm>
        </p:grpSpPr>
        <p:pic>
          <p:nvPicPr>
            <p:cNvPr id="154" name="Grafik 10" descr="Nur Schweiz.jpg"/>
            <p:cNvPicPr/>
            <p:nvPr/>
          </p:nvPicPr>
          <p:blipFill>
            <a:blip r:embed="rId1"/>
            <a:stretch/>
          </p:blipFill>
          <p:spPr>
            <a:xfrm>
              <a:off x="579240" y="2282760"/>
              <a:ext cx="192888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5" name="Picture 272" descr="einfach wählen ohne signet_4c.png"/>
            <p:cNvPicPr/>
            <p:nvPr/>
          </p:nvPicPr>
          <p:blipFill>
            <a:blip r:embed="rId2"/>
            <a:srcRect l="10138" t="0" r="0" b="0"/>
            <a:stretch/>
          </p:blipFill>
          <p:spPr>
            <a:xfrm>
              <a:off x="293760" y="3568680"/>
              <a:ext cx="2531880" cy="59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Grafik 21" descr=""/>
          <p:cNvPicPr/>
          <p:nvPr/>
        </p:nvPicPr>
        <p:blipFill>
          <a:blip r:embed="rId3"/>
          <a:stretch/>
        </p:blipFill>
        <p:spPr>
          <a:xfrm>
            <a:off x="6275520" y="2324160"/>
            <a:ext cx="1349280" cy="774720"/>
          </a:xfrm>
          <a:prstGeom prst="rect">
            <a:avLst/>
          </a:prstGeom>
          <a:ln w="0">
            <a:noFill/>
          </a:ln>
        </p:spPr>
      </p:pic>
      <p:pic>
        <p:nvPicPr>
          <p:cNvPr id="157" name="Grafik 239" descr=""/>
          <p:cNvPicPr/>
          <p:nvPr/>
        </p:nvPicPr>
        <p:blipFill>
          <a:blip r:embed="rId4"/>
          <a:stretch/>
        </p:blipFill>
        <p:spPr>
          <a:xfrm>
            <a:off x="4911840" y="4160880"/>
            <a:ext cx="3362040" cy="390600"/>
          </a:xfrm>
          <a:prstGeom prst="rect">
            <a:avLst/>
          </a:prstGeom>
          <a:ln w="0">
            <a:noFill/>
          </a:ln>
        </p:spPr>
      </p:pic>
      <p:sp>
        <p:nvSpPr>
          <p:cNvPr id="158" name="Abgerundetes Rechteck 13"/>
          <p:cNvSpPr/>
          <p:nvPr/>
        </p:nvSpPr>
        <p:spPr>
          <a:xfrm>
            <a:off x="3807000" y="5587920"/>
            <a:ext cx="2387520" cy="77940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-Partnerschaften für Kantonsratswahlen in Verhandlung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59" name="Abgerundetes Rechteck 13"/>
          <p:cNvSpPr/>
          <p:nvPr/>
        </p:nvSpPr>
        <p:spPr>
          <a:xfrm>
            <a:off x="3807000" y="1224000"/>
            <a:ext cx="2387520" cy="585720"/>
          </a:xfrm>
          <a:prstGeom prst="roundRect">
            <a:avLst>
              <a:gd name="adj" fmla="val 16667"/>
            </a:avLst>
          </a:prstGeom>
          <a:solidFill>
            <a:srgbClr val="335f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AkzidenzGrotesk"/>
              </a:rPr>
              <a:t>Medienpartner der nationalen Wahlen:</a:t>
            </a:r>
            <a:endParaRPr b="1" i="1" lang="en-US" sz="1400" spc="-1" strike="noStrike">
              <a:solidFill>
                <a:srgbClr val="000000"/>
              </a:solidFill>
              <a:latin typeface="AkzidenzGrotesk"/>
            </a:endParaRPr>
          </a:p>
        </p:txBody>
      </p:sp>
      <p:pic>
        <p:nvPicPr>
          <p:cNvPr id="160" name="Picture 16" descr=""/>
          <p:cNvPicPr/>
          <p:nvPr/>
        </p:nvPicPr>
        <p:blipFill>
          <a:blip r:embed="rId5"/>
          <a:stretch/>
        </p:blipFill>
        <p:spPr>
          <a:xfrm>
            <a:off x="6440400" y="3292560"/>
            <a:ext cx="1974960" cy="676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7" descr=""/>
          <p:cNvPicPr/>
          <p:nvPr/>
        </p:nvPicPr>
        <p:blipFill>
          <a:blip r:embed="rId6"/>
          <a:stretch/>
        </p:blipFill>
        <p:spPr>
          <a:xfrm>
            <a:off x="4859280" y="2325600"/>
            <a:ext cx="1393920" cy="816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4849920" y="3168720"/>
            <a:ext cx="1363680" cy="799920"/>
          </a:xfrm>
          <a:prstGeom prst="rect">
            <a:avLst/>
          </a:prstGeom>
          <a:ln w="0">
            <a:noFill/>
          </a:ln>
        </p:spPr>
      </p:pic>
      <p:sp>
        <p:nvSpPr>
          <p:cNvPr id="163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A724-C368-4178-BFF1-87ABC15E6BE3}" type="slidenum">
              <a:rPr b="0" lang="de-CH" sz="1000" spc="-1" strike="noStrike">
                <a:solidFill>
                  <a:srgbClr val="000000"/>
                </a:solidFill>
                <a:latin typeface="AkzidenzGrotesk-Light"/>
                <a:ea typeface="ＭＳ Ｐゴシック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4" name="Textfeld 239"/>
          <p:cNvSpPr/>
          <p:nvPr/>
        </p:nvSpPr>
        <p:spPr>
          <a:xfrm rot="1357800">
            <a:off x="6593040" y="1808280"/>
            <a:ext cx="2430360" cy="459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Wir arbeiten immer wieder gern mit Vimentis zusammen.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5" name="Textfeld 240"/>
          <p:cNvSpPr/>
          <p:nvPr/>
        </p:nvSpPr>
        <p:spPr>
          <a:xfrm rot="20626200">
            <a:off x="6378480" y="4779000"/>
            <a:ext cx="2527200" cy="64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200" spc="-1" strike="noStrike">
                <a:solidFill>
                  <a:srgbClr val="000000"/>
                </a:solidFill>
                <a:latin typeface="AkzidenzGrotesk"/>
              </a:rPr>
              <a:t>«Die Mit-Gestaltung des Fragebogens schätzten wir sehr»</a:t>
            </a: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liennummernplatzhalter 1"/>
          <p:cNvSpPr/>
          <p:nvPr/>
        </p:nvSpPr>
        <p:spPr>
          <a:xfrm>
            <a:off x="6553080" y="659772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DAA4-9EE3-49C8-89F0-32953D792ADE}" type="slidenum">
              <a:rPr b="0" lang="de-CH" sz="1000" spc="-1" strike="noStrike">
                <a:solidFill>
                  <a:srgbClr val="000000"/>
                </a:solidFill>
                <a:latin typeface="AkzidenzGrotesk-Light"/>
              </a:rPr>
              <a:t>&lt;number&gt;</a:t>
            </a:fld>
            <a:endParaRPr b="1" i="1" lang="en-US" sz="10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692360" y="347760"/>
            <a:ext cx="69832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335fa8"/>
                </a:solidFill>
                <a:latin typeface="AkzidenzGrotesk"/>
              </a:rPr>
              <a:t>Vimentis «Einfach Wählen» als notwendiger Faktor für Wiederwahl an nationalen Wahlen 2011</a:t>
            </a: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8" name="Text Placeholder 2"/>
          <p:cNvSpPr/>
          <p:nvPr/>
        </p:nvSpPr>
        <p:spPr>
          <a:xfrm>
            <a:off x="2386080" y="1854360"/>
            <a:ext cx="4373640" cy="1555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Von den bisherigen, nicht mehr gewählten Kandidaten haben nur 50%  den Fragebogen ausgefüllt, bei den neu gewählten waren es 80%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69" name="AutoShape 6"/>
          <p:cNvSpPr/>
          <p:nvPr/>
        </p:nvSpPr>
        <p:spPr>
          <a:xfrm rot="10800000">
            <a:off x="3027240" y="3778200"/>
            <a:ext cx="3090960" cy="347760"/>
          </a:xfrm>
          <a:prstGeom prst="triangle">
            <a:avLst>
              <a:gd name="adj" fmla="val 5000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200" spc="-1" strike="noStrike">
              <a:solidFill>
                <a:srgbClr val="000000"/>
              </a:solidFill>
              <a:latin typeface="AkzidenzGrotesk"/>
            </a:endParaRPr>
          </a:p>
        </p:txBody>
      </p:sp>
      <p:sp>
        <p:nvSpPr>
          <p:cNvPr id="170" name="Text Placeholder 2"/>
          <p:cNvSpPr/>
          <p:nvPr/>
        </p:nvSpPr>
        <p:spPr>
          <a:xfrm>
            <a:off x="2414520" y="4417920"/>
            <a:ext cx="4373640" cy="77508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44000" tIns="144000" bIns="144000" anchor="t">
            <a:spAutoFit/>
          </a:bodyPr>
          <a:p>
            <a:pPr lvl="1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ffffff"/>
                </a:solidFill>
                <a:latin typeface="AkzidenzGrotesk"/>
                <a:ea typeface="Arial"/>
              </a:rPr>
              <a:t>Teilnahme bei Vimentis erhöht die Chance zur (Wieder-) Wahl </a:t>
            </a:r>
            <a:endParaRPr b="1" i="1" lang="en-US" sz="1600" spc="-1" strike="noStrike">
              <a:solidFill>
                <a:srgbClr val="000000"/>
              </a:solidFill>
              <a:latin typeface="AkzidenzGrotes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16:51:52Z</dcterms:created>
  <dc:creator>master</dc:creator>
  <dc:description/>
  <dc:language>en-US</dc:language>
  <cp:lastModifiedBy>Romana</cp:lastModifiedBy>
  <cp:lastPrinted>2011-11-18T14:16:01Z</cp:lastPrinted>
  <dcterms:modified xsi:type="dcterms:W3CDTF">2011-11-22T19:29:37Z</dcterms:modified>
  <cp:revision>2448</cp:revision>
  <dc:subject/>
  <dc:title>5. ordentlichen Generalversammlu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elivery Date">
    <vt:lpwstr/>
  </property>
  <property fmtid="{D5CDD505-2E9C-101B-9397-08002B2CF9AE}" pid="3" name="Event">
    <vt:lpwstr/>
  </property>
  <property fmtid="{D5CDD505-2E9C-101B-9397-08002B2CF9AE}" pid="4" name="Final">
    <vt:bool>1</vt:bool>
  </property>
  <property fmtid="{D5CDD505-2E9C-101B-9397-08002B2CF9AE}" pid="5" name="NotesPageLayout">
    <vt:lpwstr>Message</vt:lpwstr>
  </property>
  <property fmtid="{D5CDD505-2E9C-101B-9397-08002B2CF9AE}" pid="6" name="Title">
    <vt:lpwstr>5. ordentlichen Generalversammlung</vt:lpwstr>
  </property>
  <property fmtid="{D5CDD505-2E9C-101B-9397-08002B2CF9AE}" pid="7" name="docid">
    <vt:lpwstr/>
  </property>
</Properties>
</file>