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9.wmf" ContentType="image/x-wmf"/>
  <Override PartName="/ppt/media/image14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29.png" ContentType="image/png"/>
  <Override PartName="/ppt/media/image17.png" ContentType="image/png"/>
  <Override PartName="/ppt/media/image26.png" ContentType="image/png"/>
  <Override PartName="/ppt/media/image25.png" ContentType="image/png"/>
  <Override PartName="/ppt/media/image24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5.png" ContentType="image/png"/>
  <Override PartName="/ppt/media/image28.png" ContentType="image/png"/>
  <Override PartName="/ppt/media/image18.png" ContentType="image/png"/>
  <Override PartName="/ppt/media/image15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DC5CF-3D3D-4730-8D3E-3BC89D9373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" y="411192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73A12-4C4D-4959-814A-E20F16F547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488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83632-FA3D-4F57-BF9C-F86534A2C6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748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0696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36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748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0696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93B6C-32FE-4D5F-A437-162D04E50C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53F0E-CB59-4BAD-BC4A-3B775F6937F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E689A-9CA2-4324-B054-37EC79F23CC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095A3-F57F-4E70-9426-77590AB6ABE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15270-962E-42EB-9B97-F31F31FCBF1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50866-C683-4C0D-A9B4-B1DAA517FEF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692360" y="347760"/>
            <a:ext cx="6983280" cy="35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AE04B-08B6-4648-A530-E8C64E45AD0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5C908-49E7-4E9F-BECE-09D4063598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20F4E-42BF-43EF-B3FD-0302D38CB8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488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3E08A-62E0-4437-8235-02BF2E8E127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A1004-492E-4ED2-9C88-1A1E266B229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360" y="411192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62622-66BE-49FF-A808-91A33838554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488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9F110-8680-473E-955D-1C961E2C13A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748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0696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36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748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0696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02EF0-4F4F-4E7B-814A-EFAC7BCFF2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FAAF9-AA8D-43E0-AFB5-D1A144DF6B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8467C-9574-431B-85D4-00B021220B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64198-B71E-4523-98E9-017623795B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692360" y="347760"/>
            <a:ext cx="6983280" cy="35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30CB8-5DE8-4C18-8B59-A5EBF3867F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40D49-1642-43FF-A7F5-E109FFC895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488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4610C-4416-4B64-8EAD-57539A6D0F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BF1AF-0453-4987-95E8-3D688AA296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1" marL="343080" indent="-34308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2" marL="343080" indent="-343080">
              <a:spcBef>
                <a:spcPts val="400"/>
              </a:spcBef>
              <a:buClr>
                <a:srgbClr val="335fa8"/>
              </a:buClr>
              <a:buFont typeface="AkzidenzGrotes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3" marL="343080" indent="-343080">
              <a:spcBef>
                <a:spcPts val="400"/>
              </a:spcBef>
              <a:buClr>
                <a:srgbClr val="335fa8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4" marL="343080" indent="-343080">
              <a:spcBef>
                <a:spcPts val="400"/>
              </a:spcBef>
              <a:buClr>
                <a:srgbClr val="335fa8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5fa8"/>
                </a:solidFill>
                <a:latin typeface="AkzidenzGrotesk"/>
              </a:rPr>
              <a:t>Click to edit the title text format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pic>
        <p:nvPicPr>
          <p:cNvPr id="2" name="Grafik 10" descr="Nur Schweiz.jpg"/>
          <p:cNvPicPr/>
          <p:nvPr/>
        </p:nvPicPr>
        <p:blipFill>
          <a:blip r:embed="rId2"/>
          <a:stretch/>
        </p:blipFill>
        <p:spPr>
          <a:xfrm>
            <a:off x="468360" y="426960"/>
            <a:ext cx="1044360" cy="61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59736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000000"/>
                </a:solidFill>
                <a:latin typeface="AkzidenzGrotesk-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CFD5F-FEE8-4F50-9717-5855AAA01E7B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7" descr="Umfrage"/>
          <p:cNvPicPr/>
          <p:nvPr/>
        </p:nvPicPr>
        <p:blipFill>
          <a:blip r:embed="rId2"/>
          <a:srcRect l="0" t="0" r="23632" b="0"/>
          <a:stretch/>
        </p:blipFill>
        <p:spPr>
          <a:xfrm>
            <a:off x="468360" y="907920"/>
            <a:ext cx="6551640" cy="97812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1" marL="343080" indent="-34308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2" marL="343080" indent="-343080">
              <a:spcBef>
                <a:spcPts val="400"/>
              </a:spcBef>
              <a:buClr>
                <a:srgbClr val="335fa8"/>
              </a:buClr>
              <a:buFont typeface="AkzidenzGrotes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3" marL="343080" indent="-343080">
              <a:spcBef>
                <a:spcPts val="400"/>
              </a:spcBef>
              <a:buClr>
                <a:srgbClr val="335fa8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4" marL="343080" indent="-343080">
              <a:spcBef>
                <a:spcPts val="400"/>
              </a:spcBef>
              <a:buClr>
                <a:srgbClr val="335fa8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5fa8"/>
                </a:solidFill>
                <a:latin typeface="AkzidenzGrotesk"/>
              </a:rPr>
              <a:t>Click to edit the title text format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2"/>
          </p:nvPr>
        </p:nvSpPr>
        <p:spPr>
          <a:xfrm>
            <a:off x="6552720" y="659736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000000"/>
                </a:solidFill>
                <a:latin typeface="AkzidenzGrotesk-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8EB58-4A84-4A07-8C04-0BF266C5420B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image" Target="../media/image28.png"/><Relationship Id="rId9" Type="http://schemas.openxmlformats.org/officeDocument/2006/relationships/image" Target="../media/image28.png"/><Relationship Id="rId10" Type="http://schemas.openxmlformats.org/officeDocument/2006/relationships/image" Target="../media/image28.pn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wmf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jpe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jpeg"/><Relationship Id="rId18" Type="http://schemas.openxmlformats.org/officeDocument/2006/relationships/image" Target="../media/image20.jpeg"/><Relationship Id="rId19" Type="http://schemas.openxmlformats.org/officeDocument/2006/relationships/image" Target="../media/image21.jpeg"/><Relationship Id="rId2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2540160"/>
            <a:ext cx="77724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000" spc="-1" strike="noStrike">
                <a:solidFill>
                  <a:srgbClr val="335fa8"/>
                </a:solidFill>
                <a:latin typeface="AkzidenzGrotesk"/>
              </a:rPr>
              <a:t>Zusammenarbeit </a:t>
            </a:r>
            <a:br>
              <a:rPr sz="3000"/>
            </a:br>
            <a:r>
              <a:rPr b="1" lang="de-CH" sz="3000" spc="-1" strike="noStrike">
                <a:solidFill>
                  <a:srgbClr val="335fa8"/>
                </a:solidFill>
                <a:latin typeface="AkzidenzGrotesk"/>
              </a:rPr>
              <a:t>Piratenpartei – Vimentis</a:t>
            </a:r>
            <a:endParaRPr b="1" lang="en-US" sz="30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68360" y="422100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St.Gallen, November 2011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92360" y="38592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genda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1692360" y="27147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Bisheriger Erfolg: Vimentis – «Einfach Wählen»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1692360" y="43736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Angebo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1692360" y="187812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pdate über Vimentis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5" name="Slide Number Placeholder 1"/>
          <p:cNvSpPr/>
          <p:nvPr/>
        </p:nvSpPr>
        <p:spPr>
          <a:xfrm>
            <a:off x="6553080" y="652464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2E4CC-D490-4E44-AE42-1AB3247CE01C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1692360" y="3525840"/>
            <a:ext cx="561348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AkzidenzGrotesk"/>
              </a:rPr>
              <a:t>Unser Produk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1692360" y="52293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Zeitplan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730872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Integrierte Lösung: Vimentis als einziger One-Stop-Shop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79" name="Text Placeholder 2"/>
          <p:cNvSpPr/>
          <p:nvPr/>
        </p:nvSpPr>
        <p:spPr>
          <a:xfrm>
            <a:off x="2322360" y="1292400"/>
            <a:ext cx="4373640" cy="7750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Wahlhilfe: «Einfach Wählen» generiert Partei- und Kandidatenvorschläg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0" name="Text Placeholder 2"/>
          <p:cNvSpPr/>
          <p:nvPr/>
        </p:nvSpPr>
        <p:spPr>
          <a:xfrm>
            <a:off x="2314440" y="2889360"/>
            <a:ext cx="4373640" cy="10184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Parteiprofile: Informiert Wählen dank vertieften Partei- und Kandidatenprofil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1" name="Text Placeholder 2"/>
          <p:cNvSpPr/>
          <p:nvPr/>
        </p:nvSpPr>
        <p:spPr>
          <a:xfrm>
            <a:off x="2365200" y="4508640"/>
            <a:ext cx="4373640" cy="531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Blogs von Kandidat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2" name="Plus 199"/>
          <p:cNvSpPr/>
          <p:nvPr/>
        </p:nvSpPr>
        <p:spPr>
          <a:xfrm>
            <a:off x="4238640" y="2214720"/>
            <a:ext cx="571320" cy="572760"/>
          </a:xfrm>
          <a:custGeom>
            <a:avLst/>
            <a:gdLst>
              <a:gd name="textAreaLeft" fmla="*/ 75600 w 571320"/>
              <a:gd name="textAreaRight" fmla="*/ 495720 w 571320"/>
              <a:gd name="textAreaTop" fmla="*/ 219240 h 572760"/>
              <a:gd name="textAreaBottom" fmla="*/ 353520 h 572760"/>
            </a:gdLst>
            <a:ahLst/>
            <a:rect l="textAreaLeft" t="textAreaTop" r="textAreaRight" b="textAreaBottom"/>
            <a:pathLst>
              <a:path w="571500" h="573087">
                <a:moveTo>
                  <a:pt x="75752" y="219335"/>
                </a:moveTo>
                <a:lnTo>
                  <a:pt x="218542" y="219335"/>
                </a:lnTo>
                <a:lnTo>
                  <a:pt x="218542" y="75963"/>
                </a:lnTo>
                <a:lnTo>
                  <a:pt x="352958" y="75963"/>
                </a:lnTo>
                <a:lnTo>
                  <a:pt x="352958" y="219335"/>
                </a:lnTo>
                <a:lnTo>
                  <a:pt x="495748" y="219335"/>
                </a:lnTo>
                <a:lnTo>
                  <a:pt x="495748" y="353752"/>
                </a:lnTo>
                <a:lnTo>
                  <a:pt x="352958" y="353752"/>
                </a:lnTo>
                <a:lnTo>
                  <a:pt x="352958" y="497124"/>
                </a:lnTo>
                <a:lnTo>
                  <a:pt x="218542" y="497124"/>
                </a:lnTo>
                <a:lnTo>
                  <a:pt x="218542" y="353752"/>
                </a:lnTo>
                <a:lnTo>
                  <a:pt x="75752" y="35375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3" name="Plus 200"/>
          <p:cNvSpPr/>
          <p:nvPr/>
        </p:nvSpPr>
        <p:spPr>
          <a:xfrm>
            <a:off x="4267080" y="3833640"/>
            <a:ext cx="571680" cy="573120"/>
          </a:xfrm>
          <a:custGeom>
            <a:avLst/>
            <a:gdLst>
              <a:gd name="textAreaLeft" fmla="*/ 75600 w 571680"/>
              <a:gd name="textAreaRight" fmla="*/ 496080 w 571680"/>
              <a:gd name="textAreaTop" fmla="*/ 219240 h 573120"/>
              <a:gd name="textAreaBottom" fmla="*/ 353880 h 573120"/>
            </a:gdLst>
            <a:ahLst/>
            <a:rect l="textAreaLeft" t="textAreaTop" r="textAreaRight" b="textAreaBottom"/>
            <a:pathLst>
              <a:path w="571500" h="573087">
                <a:moveTo>
                  <a:pt x="75752" y="219335"/>
                </a:moveTo>
                <a:lnTo>
                  <a:pt x="218542" y="219335"/>
                </a:lnTo>
                <a:lnTo>
                  <a:pt x="218542" y="75963"/>
                </a:lnTo>
                <a:lnTo>
                  <a:pt x="352958" y="75963"/>
                </a:lnTo>
                <a:lnTo>
                  <a:pt x="352958" y="219335"/>
                </a:lnTo>
                <a:lnTo>
                  <a:pt x="495748" y="219335"/>
                </a:lnTo>
                <a:lnTo>
                  <a:pt x="495748" y="353752"/>
                </a:lnTo>
                <a:lnTo>
                  <a:pt x="352958" y="353752"/>
                </a:lnTo>
                <a:lnTo>
                  <a:pt x="352958" y="497124"/>
                </a:lnTo>
                <a:lnTo>
                  <a:pt x="218542" y="497124"/>
                </a:lnTo>
                <a:lnTo>
                  <a:pt x="218542" y="353752"/>
                </a:lnTo>
                <a:lnTo>
                  <a:pt x="75752" y="35375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4" name="Foliennummernplatzhalter 6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3565A-E74D-4A1F-A6F6-3C1809895D76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5" name="Plus 197"/>
          <p:cNvSpPr/>
          <p:nvPr/>
        </p:nvSpPr>
        <p:spPr>
          <a:xfrm>
            <a:off x="4267080" y="5184720"/>
            <a:ext cx="571680" cy="573120"/>
          </a:xfrm>
          <a:custGeom>
            <a:avLst/>
            <a:gdLst>
              <a:gd name="textAreaLeft" fmla="*/ 75600 w 571680"/>
              <a:gd name="textAreaRight" fmla="*/ 496080 w 571680"/>
              <a:gd name="textAreaTop" fmla="*/ 219240 h 573120"/>
              <a:gd name="textAreaBottom" fmla="*/ 353880 h 573120"/>
            </a:gdLst>
            <a:ahLst/>
            <a:rect l="textAreaLeft" t="textAreaTop" r="textAreaRight" b="textAreaBottom"/>
            <a:pathLst>
              <a:path w="571500" h="573088">
                <a:moveTo>
                  <a:pt x="75752" y="219336"/>
                </a:moveTo>
                <a:lnTo>
                  <a:pt x="218542" y="219336"/>
                </a:lnTo>
                <a:lnTo>
                  <a:pt x="218542" y="75963"/>
                </a:lnTo>
                <a:lnTo>
                  <a:pt x="352958" y="75963"/>
                </a:lnTo>
                <a:lnTo>
                  <a:pt x="352958" y="219336"/>
                </a:lnTo>
                <a:lnTo>
                  <a:pt x="495748" y="219336"/>
                </a:lnTo>
                <a:lnTo>
                  <a:pt x="495748" y="353752"/>
                </a:lnTo>
                <a:lnTo>
                  <a:pt x="352958" y="353752"/>
                </a:lnTo>
                <a:lnTo>
                  <a:pt x="352958" y="497125"/>
                </a:lnTo>
                <a:lnTo>
                  <a:pt x="218542" y="497125"/>
                </a:lnTo>
                <a:lnTo>
                  <a:pt x="218542" y="353752"/>
                </a:lnTo>
                <a:lnTo>
                  <a:pt x="75752" y="35375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6" name="Text Placeholder 2"/>
          <p:cNvSpPr/>
          <p:nvPr/>
        </p:nvSpPr>
        <p:spPr>
          <a:xfrm>
            <a:off x="2365200" y="5904000"/>
            <a:ext cx="4373640" cy="7750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Starke Partner um Neuwähler zu akquirier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Unsere Vorteile sind ihre Vorteile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88" name="Text Placeholder 2"/>
          <p:cNvSpPr/>
          <p:nvPr/>
        </p:nvSpPr>
        <p:spPr>
          <a:xfrm>
            <a:off x="468360" y="1557360"/>
            <a:ext cx="3816360" cy="33116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kzidenzGrotesk"/>
              </a:rPr>
              <a:t>Was unterscheidet Vimentis «Einfach Wählen»?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Grosser Nutzerstamm mit starkem Vertrauen in Vimentis als einzige integrierte Homepage mit Wahlhilfe, Blogs, Abstimmungsinfos, etc.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Höhere Benutzerfreundlichkei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Höhere Transparenz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Stärkere Einbindung der Parteien bei Fragebogen, Parteiportraits, etc.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Günstigerer Preis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9" name="AutoShape 6"/>
          <p:cNvSpPr/>
          <p:nvPr/>
        </p:nvSpPr>
        <p:spPr>
          <a:xfrm rot="5400000">
            <a:off x="3055680" y="3040200"/>
            <a:ext cx="3090600" cy="3474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0" name="Text Placeholder 2"/>
          <p:cNvSpPr/>
          <p:nvPr/>
        </p:nvSpPr>
        <p:spPr>
          <a:xfrm>
            <a:off x="4941720" y="1557360"/>
            <a:ext cx="3745080" cy="33116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kzidenzGrotesk"/>
              </a:rPr>
              <a:t>Sie und ihre Kandidaten profitieren durch: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225360" indent="-22392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Weite Präsenz der Kandidaten 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225360" indent="-22392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Feedback–Möglichkeit auf Fragebog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225360" indent="-22392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Konkurrenz sichert langfristig Innovation, Kundenfokussierung und günstigeren Preis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225360" indent="-22392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Kandidaten können mit Blogs Ihre Wahlkampf-Themen aktiv propagier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225360" indent="-22392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1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D3093-A295-4E75-A3E6-66BC1E769596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92360" y="38592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genda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1692360" y="27147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Bisheriger Erfolg: Vimentis – «Einfach Wählen»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1692360" y="4373640"/>
            <a:ext cx="561348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AkzidenzGrotesk"/>
              </a:rPr>
              <a:t>Unser Angebo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1692360" y="187812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pdate über Vimentis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6" name="Slide Number Placeholder 1"/>
          <p:cNvSpPr/>
          <p:nvPr/>
        </p:nvSpPr>
        <p:spPr>
          <a:xfrm>
            <a:off x="6553080" y="652464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7EE88-9D1E-4E91-8E18-83564DE5B79A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1692360" y="35258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Produk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1692360" y="52293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Zeitplan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ngebot an die Piratenpartei St.Gallen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00" name="Foliennummernplatzhalter 3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17BEF-EB17-4457-87AC-EC1F1020E43C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1" name="Text Placeholder 2"/>
          <p:cNvSpPr/>
          <p:nvPr/>
        </p:nvSpPr>
        <p:spPr>
          <a:xfrm>
            <a:off x="442800" y="1179360"/>
            <a:ext cx="3962520" cy="531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Angebot Vimenti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2" name="Text Placeholder 2"/>
          <p:cNvSpPr/>
          <p:nvPr/>
        </p:nvSpPr>
        <p:spPr>
          <a:xfrm>
            <a:off x="4572000" y="1187280"/>
            <a:ext cx="3914640" cy="531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Leistung  Piratenpartei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3" name="Text Placeholder 2"/>
          <p:cNvSpPr/>
          <p:nvPr/>
        </p:nvSpPr>
        <p:spPr>
          <a:xfrm>
            <a:off x="438120" y="1712880"/>
            <a:ext cx="3967200" cy="50403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72000" tIns="144000" bIns="144000" anchor="t">
            <a:spAutoFit/>
          </a:bodyPr>
          <a:p>
            <a:pPr marL="285840" indent="-285840">
              <a:buSzPct val="1129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Nutzung Vimentis Wahlen-Tool für alle</a:t>
            </a: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 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Kandidaten der Piratenpartei St.Gallen </a:t>
            </a: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kostenlos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 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lvl="1" marL="446040" indent="-144360">
              <a:lnSpc>
                <a:spcPct val="100000"/>
              </a:lnSpc>
              <a:buClr>
                <a:srgbClr val="335fa8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  <a:ea typeface="Arial"/>
              </a:rPr>
              <a:t>Einbindung auf Vimentis.ch sowie allen Medienpartnern 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lvl="1" marL="446040" indent="-144360">
              <a:lnSpc>
                <a:spcPct val="100000"/>
              </a:lnSpc>
              <a:buClr>
                <a:srgbClr val="335fa8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  <a:ea typeface="Arial"/>
              </a:rPr>
              <a:t>Gratis-Profil für </a:t>
            </a:r>
            <a:r>
              <a:rPr b="1" lang="de-CH" sz="1300" spc="-1" strike="noStrike">
                <a:solidFill>
                  <a:srgbClr val="000000"/>
                </a:solidFill>
                <a:latin typeface="AkzidenzGrotesk"/>
                <a:ea typeface="Arial"/>
              </a:rPr>
              <a:t>alle Kandidat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lvl="1" marL="446040" indent="-144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Blogs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 für alle Kandidat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Persönliche </a:t>
            </a: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Kandidatenbetreuung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 bis hin zu den Wahl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Spider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 und politische Landkarte aller Kandidaten und Partei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Parteiportrait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Möglichkeit zur Einbindung von Blogs und Kandidatenprofile auf parteieigener Homepage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Möglichkeit</a:t>
            </a: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 Feedback zum Fragebogen 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zu geb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4" name="Text Placeholder 2"/>
          <p:cNvSpPr/>
          <p:nvPr/>
        </p:nvSpPr>
        <p:spPr>
          <a:xfrm>
            <a:off x="4572000" y="1711440"/>
            <a:ext cx="3914640" cy="46926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noAutofit/>
          </a:bodyPr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Preis: 100 Fr. pro gewonnenem Sitz der Piratenpartei St.Gall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Die Piratenpartei St.Gallen liefert Liste mit allen Kandidaten bis 05.12.2011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Die Piratenpartei St.Gallen sendet eine personalisierte Nachricht an alle Ihre Kandidaten und fordert diese auf, den Fragebogen auszufüll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Die Piratenpartei St.Gallen empfiehlt Ihren Kandidaten die Blog-Plattform von Vimentis zu nutz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Die Piratenpartei St.Gallen beantwortet 10 Fragen zur Erstellung des Parteiportrait von Vimentis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92360" y="38592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genda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1692360" y="27147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Bisheriger Erfolg: Vimentis – «Einfach Wählen»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1692360" y="43736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Angebo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1692360" y="187812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pdate über Vimentis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9" name="Slide Number Placeholder 1"/>
          <p:cNvSpPr/>
          <p:nvPr/>
        </p:nvSpPr>
        <p:spPr>
          <a:xfrm>
            <a:off x="6553080" y="652464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971B9-EE71-4A34-8013-B3A238C7EBA9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1692360" y="35258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Produk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1700280" y="5229360"/>
            <a:ext cx="5613480" cy="72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AkzidenzGrotesk"/>
              </a:rPr>
              <a:t>Zeitplan</a:t>
            </a: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 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Zeitplan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13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7E117-ED83-484E-9FAA-4C649D6ECB8A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14" name="Text Placeholder 2"/>
          <p:cNvSpPr/>
          <p:nvPr/>
        </p:nvSpPr>
        <p:spPr>
          <a:xfrm>
            <a:off x="447840" y="2050920"/>
            <a:ext cx="8038800" cy="25905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02.12.2011 Vertrag unterzeichn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05.12.2011 Listen mit Kandidaten zuschick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15.12.3011 Feedback auf Fragebog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15.12.2011 Antworten für Fragen für Parteiprofil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02.01.2011 Kandidaten auffordern, Fragebogen auszufüll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13.01.2012 Feedback auf Parteiprofil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30.01.2012 Going-Liv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Fragen 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16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FEDA8-240F-40AE-88DB-87D53F5B7085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17" name="TextBox 23"/>
          <p:cNvSpPr/>
          <p:nvPr/>
        </p:nvSpPr>
        <p:spPr>
          <a:xfrm>
            <a:off x="468360" y="3203640"/>
            <a:ext cx="56404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Kontaktdaten: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Romana Brueggemann, Parteiverantwortlich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Brueggemann@vimentis.ch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078 742 85 55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Remo Dominioni, Projektverantwortlicher (GL)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Dominioni@vimentis.ch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079 452 75 77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Postanschrift: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Vimenti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Postfach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9000 St. Gall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95520" y="347760"/>
            <a:ext cx="75484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ppendix: Bisherige Erfolge anderer Tätigkeiten von Vimentis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pic>
        <p:nvPicPr>
          <p:cNvPr id="219" name="Picture 24" descr=""/>
          <p:cNvPicPr/>
          <p:nvPr/>
        </p:nvPicPr>
        <p:blipFill>
          <a:blip r:embed="rId1"/>
          <a:stretch/>
        </p:blipFill>
        <p:spPr>
          <a:xfrm>
            <a:off x="357120" y="2565360"/>
            <a:ext cx="3494160" cy="2546280"/>
          </a:xfrm>
          <a:prstGeom prst="rect">
            <a:avLst/>
          </a:prstGeom>
          <a:ln w="0">
            <a:noFill/>
          </a:ln>
        </p:spPr>
      </p:pic>
      <p:grpSp>
        <p:nvGrpSpPr>
          <p:cNvPr id="220" name="Group 8"/>
          <p:cNvGrpSpPr/>
          <p:nvPr/>
        </p:nvGrpSpPr>
        <p:grpSpPr>
          <a:xfrm>
            <a:off x="4118040" y="1197000"/>
            <a:ext cx="4608000" cy="315720"/>
            <a:chOff x="4118040" y="1197000"/>
            <a:chExt cx="4608000" cy="315720"/>
          </a:xfrm>
        </p:grpSpPr>
        <p:sp>
          <p:nvSpPr>
            <p:cNvPr id="221" name="KMATable0TextBox2"/>
            <p:cNvSpPr/>
            <p:nvPr/>
          </p:nvSpPr>
          <p:spPr>
            <a:xfrm>
              <a:off x="4118040" y="1197000"/>
              <a:ext cx="460800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38520" bIns="38520" anchor="ctr">
              <a:noAutofit/>
            </a:bodyPr>
            <a:p>
              <a:pPr>
                <a:tabLst>
                  <a:tab algn="l" pos="0"/>
                  <a:tab algn="l" pos="811080"/>
                  <a:tab algn="l" pos="1622520"/>
                  <a:tab algn="l" pos="2433600"/>
                  <a:tab algn="l" pos="3244680"/>
                  <a:tab algn="l" pos="4056120"/>
                  <a:tab algn="l" pos="4867200"/>
                  <a:tab algn="l" pos="5678640"/>
                  <a:tab algn="l" pos="6489720"/>
                  <a:tab algn="l" pos="7300800"/>
                  <a:tab algn="l" pos="8112240"/>
                  <a:tab algn="l" pos="8923320"/>
                  <a:tab algn="l" pos="9734400"/>
                  <a:tab algn="l" pos="105458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kzidenzGrotesk"/>
                </a:rPr>
                <a:t>Vimentis informiert</a:t>
              </a:r>
              <a:endParaRPr b="1" i="1" lang="en-US" sz="14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  <p:sp>
          <p:nvSpPr>
            <p:cNvPr id="222" name="Line 10"/>
            <p:cNvSpPr/>
            <p:nvPr/>
          </p:nvSpPr>
          <p:spPr>
            <a:xfrm>
              <a:off x="4118040" y="1512720"/>
              <a:ext cx="460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-38520" bIns="-38520" anchor="t">
              <a:noAutofit/>
            </a:bodyPr>
            <a:p>
              <a:endParaRPr b="1" i="1" lang="en-US" sz="12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</p:grpSp>
      <p:sp>
        <p:nvSpPr>
          <p:cNvPr id="223" name="Rectangle 11"/>
          <p:cNvSpPr/>
          <p:nvPr/>
        </p:nvSpPr>
        <p:spPr>
          <a:xfrm>
            <a:off x="3924360" y="1533600"/>
            <a:ext cx="496872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lvl="1" marL="289080" indent="-174600">
              <a:lnSpc>
                <a:spcPct val="130000"/>
              </a:lnSpc>
              <a:tabLst>
                <a:tab algn="l" pos="0"/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Umfassendstes Politik Informationsportal der CH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Informationen über Abstimmungen und politisch interessante Themen (über 40’000 Aufrufe pro Monat) 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Umfangreiches Lexikon zum leichteren Verständnis der Texte (über 20’000 Lexikonaufrufe pro Monat) 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tabLst>
                <a:tab algn="l" pos="0"/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grpSp>
        <p:nvGrpSpPr>
          <p:cNvPr id="224" name="Group 12"/>
          <p:cNvGrpSpPr/>
          <p:nvPr/>
        </p:nvGrpSpPr>
        <p:grpSpPr>
          <a:xfrm>
            <a:off x="4118040" y="2852640"/>
            <a:ext cx="4608000" cy="315720"/>
            <a:chOff x="4118040" y="2852640"/>
            <a:chExt cx="4608000" cy="315720"/>
          </a:xfrm>
        </p:grpSpPr>
        <p:sp>
          <p:nvSpPr>
            <p:cNvPr id="225" name="KMATable0TextBox2"/>
            <p:cNvSpPr/>
            <p:nvPr/>
          </p:nvSpPr>
          <p:spPr>
            <a:xfrm>
              <a:off x="4118040" y="2852640"/>
              <a:ext cx="460800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38520" bIns="38520" anchor="ctr">
              <a:noAutofit/>
            </a:bodyPr>
            <a:p>
              <a:pPr>
                <a:tabLst>
                  <a:tab algn="l" pos="0"/>
                  <a:tab algn="l" pos="811080"/>
                  <a:tab algn="l" pos="1622520"/>
                  <a:tab algn="l" pos="2433600"/>
                  <a:tab algn="l" pos="3244680"/>
                  <a:tab algn="l" pos="4056120"/>
                  <a:tab algn="l" pos="4867200"/>
                  <a:tab algn="l" pos="5678640"/>
                  <a:tab algn="l" pos="6489720"/>
                  <a:tab algn="l" pos="7300800"/>
                  <a:tab algn="l" pos="8112240"/>
                  <a:tab algn="l" pos="8923320"/>
                  <a:tab algn="l" pos="9734400"/>
                  <a:tab algn="l" pos="105458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kzidenzGrotesk"/>
                </a:rPr>
                <a:t>Vimentis Umfrage</a:t>
              </a:r>
              <a:endParaRPr b="1" i="1" lang="en-US" sz="14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  <p:sp>
          <p:nvSpPr>
            <p:cNvPr id="226" name="Line 14"/>
            <p:cNvSpPr/>
            <p:nvPr/>
          </p:nvSpPr>
          <p:spPr>
            <a:xfrm>
              <a:off x="4118040" y="3168360"/>
              <a:ext cx="460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-38520" bIns="-38520" anchor="t">
              <a:noAutofit/>
            </a:bodyPr>
            <a:p>
              <a:endParaRPr b="1" i="1" lang="en-US" sz="12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</p:grpSp>
      <p:sp>
        <p:nvSpPr>
          <p:cNvPr id="227" name="Rectangle 15"/>
          <p:cNvSpPr/>
          <p:nvPr/>
        </p:nvSpPr>
        <p:spPr>
          <a:xfrm>
            <a:off x="3940200" y="3189240"/>
            <a:ext cx="475596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lvl="1" marL="289080" indent="-174600">
              <a:lnSpc>
                <a:spcPct val="130000"/>
              </a:lnSpc>
              <a:tabLst>
                <a:tab algn="l" pos="0"/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Grösste politische Online Umfrage der Schweiz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Beschleunigung des politischen Prozesses durch Prüfung von Reformvorschlägen 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Hohe Akzeptanz in Politik, da Repräsentativität gewährleistet (über 20’000 Teilnehmer jährlich)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tabLst>
                <a:tab algn="l" pos="0"/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grpSp>
        <p:nvGrpSpPr>
          <p:cNvPr id="228" name="Group 16"/>
          <p:cNvGrpSpPr/>
          <p:nvPr/>
        </p:nvGrpSpPr>
        <p:grpSpPr>
          <a:xfrm>
            <a:off x="4118040" y="4581360"/>
            <a:ext cx="4608000" cy="315720"/>
            <a:chOff x="4118040" y="4581360"/>
            <a:chExt cx="4608000" cy="315720"/>
          </a:xfrm>
        </p:grpSpPr>
        <p:sp>
          <p:nvSpPr>
            <p:cNvPr id="229" name="KMATable0TextBox2"/>
            <p:cNvSpPr/>
            <p:nvPr/>
          </p:nvSpPr>
          <p:spPr>
            <a:xfrm>
              <a:off x="4118040" y="4581360"/>
              <a:ext cx="460800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38520" bIns="38520" anchor="ctr">
              <a:noAutofit/>
            </a:bodyPr>
            <a:p>
              <a:pPr>
                <a:tabLst>
                  <a:tab algn="l" pos="0"/>
                  <a:tab algn="l" pos="811080"/>
                  <a:tab algn="l" pos="1622520"/>
                  <a:tab algn="l" pos="2433600"/>
                  <a:tab algn="l" pos="3244680"/>
                  <a:tab algn="l" pos="4056120"/>
                  <a:tab algn="l" pos="4867200"/>
                  <a:tab algn="l" pos="5678640"/>
                  <a:tab algn="l" pos="6489720"/>
                  <a:tab algn="l" pos="7300800"/>
                  <a:tab algn="l" pos="8112240"/>
                  <a:tab algn="l" pos="8923320"/>
                  <a:tab algn="l" pos="9734400"/>
                  <a:tab algn="l" pos="105458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kzidenzGrotesk"/>
                </a:rPr>
                <a:t>Vimentis Dialog</a:t>
              </a:r>
              <a:endParaRPr b="1" i="1" lang="en-US" sz="14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  <p:sp>
          <p:nvSpPr>
            <p:cNvPr id="230" name="Line 18"/>
            <p:cNvSpPr/>
            <p:nvPr/>
          </p:nvSpPr>
          <p:spPr>
            <a:xfrm>
              <a:off x="4118040" y="4897080"/>
              <a:ext cx="460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-38520" bIns="-38520" anchor="t">
              <a:noAutofit/>
            </a:bodyPr>
            <a:p>
              <a:endParaRPr b="1" i="1" lang="en-US" sz="12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</p:grpSp>
      <p:sp>
        <p:nvSpPr>
          <p:cNvPr id="231" name="Rectangle 19"/>
          <p:cNvSpPr/>
          <p:nvPr/>
        </p:nvSpPr>
        <p:spPr>
          <a:xfrm>
            <a:off x="3940200" y="4917960"/>
            <a:ext cx="4755960" cy="18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lvl="1" marL="289080" indent="-174600">
              <a:lnSpc>
                <a:spcPct val="130000"/>
              </a:lnSpc>
              <a:tabLst>
                <a:tab algn="l" pos="0"/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Blog-Plattform für Schweizer Politik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Aufbau der Plattform seit April 2010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Partei-übergreifende Plattform mit Teilnehmenden aus allen Parteien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Während Wahlkampf bereits rund 120 aktive Blogger 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32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6023E-71C8-45E8-B62A-7167DD99634A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92360" y="38592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genda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1692360" y="27147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Bisheriger Erfolg: Vimentis – «Einfach Wählen»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692360" y="43736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Angebo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1692360" y="1878120"/>
            <a:ext cx="5613480" cy="72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kzidenzGrotesk"/>
              </a:rPr>
              <a:t>Update über Vimentis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86" name="Slide Number Placeholder 1"/>
          <p:cNvSpPr/>
          <p:nvPr/>
        </p:nvSpPr>
        <p:spPr>
          <a:xfrm>
            <a:off x="6553080" y="652464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96A6B-4C66-4DE6-A097-5CB6F66827A6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1692360" y="35258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Produk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1692360" y="52293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Zeitplan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5160" y="347760"/>
            <a:ext cx="7334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Vimentis möchte eine bessere Schweiz durch bessere politische Entscheidungen  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90" name="Foliennummernplatzhalter 3"/>
          <p:cNvSpPr/>
          <p:nvPr/>
        </p:nvSpPr>
        <p:spPr>
          <a:xfrm>
            <a:off x="6553080" y="6375240"/>
            <a:ext cx="213372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5AF97-2AC0-4287-A450-027A12BE09CE}" type="slidenum">
              <a:rPr b="0" i="1" lang="de-CH" sz="1200" spc="-1" strike="noStrike">
                <a:solidFill>
                  <a:srgbClr val="000000"/>
                </a:solidFill>
                <a:latin typeface="AkzidenzGrotesk"/>
                <a:ea typeface="MS Gothic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1247760" y="4702320"/>
            <a:ext cx="7718400" cy="414360"/>
          </a:xfrm>
          <a:prstGeom prst="rect">
            <a:avLst/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ffffff"/>
                </a:solidFill>
                <a:latin typeface="AkzidenzGrotesk-Light"/>
              </a:rPr>
              <a:t>Neutralitä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1246320" y="5176800"/>
            <a:ext cx="3897360" cy="414360"/>
          </a:xfrm>
          <a:prstGeom prst="rect">
            <a:avLst/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ffffff"/>
                </a:solidFill>
                <a:latin typeface="AkzidenzGrotesk-Light"/>
                <a:ea typeface="MS Gothic"/>
              </a:rPr>
              <a:t>Hohe Qualitä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5292720" y="5176800"/>
            <a:ext cx="3672000" cy="414360"/>
          </a:xfrm>
          <a:prstGeom prst="rect">
            <a:avLst/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ffffff"/>
                </a:solidFill>
                <a:latin typeface="AkzidenzGrotesk-Light"/>
              </a:rPr>
              <a:t>Leser-/Nutzerfreundlichkei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4" name="Isosceles Triangle 3"/>
          <p:cNvSpPr/>
          <p:nvPr/>
        </p:nvSpPr>
        <p:spPr>
          <a:xfrm>
            <a:off x="1247760" y="1628640"/>
            <a:ext cx="7718400" cy="1482840"/>
          </a:xfrm>
          <a:prstGeom prst="triangle">
            <a:avLst>
              <a:gd name="adj" fmla="val 50000"/>
            </a:avLst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600" spc="-1" strike="noStrike">
                <a:solidFill>
                  <a:srgbClr val="ffffff"/>
                </a:solidFill>
                <a:latin typeface="AkzidenzGrotesk-Light"/>
                <a:ea typeface="MS Gothic"/>
              </a:rPr>
              <a:t>Verbesserung der politischen Entscheidungsfindung zur Erhöhung der Lebensqualität in der Schweiz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5" name="TextBox 20"/>
          <p:cNvSpPr/>
          <p:nvPr/>
        </p:nvSpPr>
        <p:spPr>
          <a:xfrm>
            <a:off x="158760" y="2371680"/>
            <a:ext cx="96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Ziel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6" name="TextBox 21"/>
          <p:cNvSpPr/>
          <p:nvPr/>
        </p:nvSpPr>
        <p:spPr>
          <a:xfrm>
            <a:off x="165240" y="4702320"/>
            <a:ext cx="96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Werte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7" name="TextBox 22"/>
          <p:cNvSpPr/>
          <p:nvPr/>
        </p:nvSpPr>
        <p:spPr>
          <a:xfrm>
            <a:off x="142920" y="3284640"/>
            <a:ext cx="1044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Projekte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1258920" y="3186000"/>
            <a:ext cx="2052720" cy="1440000"/>
          </a:xfrm>
          <a:prstGeom prst="rect">
            <a:avLst/>
          </a:prstGeom>
          <a:solidFill>
            <a:srgbClr val="cfd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t">
            <a:noAutofit/>
          </a:bodyPr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Vimentis informier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Sich einfach, schnell und neutral zu Abstimmungen und weiteren Themen informier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3416400" y="3186000"/>
            <a:ext cx="1928880" cy="1440000"/>
          </a:xfrm>
          <a:prstGeom prst="rect">
            <a:avLst/>
          </a:prstGeom>
          <a:solidFill>
            <a:srgbClr val="cfd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t">
            <a:noAutofit/>
          </a:bodyPr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Vimentis Umfrage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Abstimmen wie wichtigste Probleme der Schweiz gelöst werden soll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5451480" y="3186000"/>
            <a:ext cx="1763640" cy="1440000"/>
          </a:xfrm>
          <a:prstGeom prst="rect">
            <a:avLst/>
          </a:prstGeom>
          <a:solidFill>
            <a:srgbClr val="cfd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t">
            <a:noAutofit/>
          </a:bodyPr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Vimentis Dialog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Mit Politikern und anderen Bürgern diskutier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7323120" y="3186000"/>
            <a:ext cx="1643040" cy="1440000"/>
          </a:xfrm>
          <a:prstGeom prst="rect">
            <a:avLst/>
          </a:prstGeom>
          <a:solidFill>
            <a:srgbClr val="cfd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t">
            <a:noAutofit/>
          </a:bodyPr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Vimentis Wahl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Einfacher und präziser wähl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2" name="Rectangle 15"/>
          <p:cNvSpPr/>
          <p:nvPr/>
        </p:nvSpPr>
        <p:spPr>
          <a:xfrm>
            <a:off x="1246320" y="5661000"/>
            <a:ext cx="3897360" cy="414360"/>
          </a:xfrm>
          <a:prstGeom prst="rect">
            <a:avLst/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ffffff"/>
                </a:solidFill>
                <a:latin typeface="AkzidenzGrotesk-Light"/>
              </a:rPr>
              <a:t>Diskussions- &amp; Feedback-Kultur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3" name="Rectangle 16"/>
          <p:cNvSpPr/>
          <p:nvPr/>
        </p:nvSpPr>
        <p:spPr>
          <a:xfrm>
            <a:off x="5292720" y="5661000"/>
            <a:ext cx="3672000" cy="414360"/>
          </a:xfrm>
          <a:prstGeom prst="rect">
            <a:avLst/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ffffff"/>
                </a:solidFill>
                <a:latin typeface="AkzidenzGrotesk-Light"/>
              </a:rPr>
              <a:t>Professionalitä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Wieso Wahlhilfe von Vimentis?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05" name="Foliennummernplatzhalter 3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17710-185C-4F1A-9245-872CE4F77D71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6" name="Text Placeholder 2"/>
          <p:cNvSpPr/>
          <p:nvPr/>
        </p:nvSpPr>
        <p:spPr>
          <a:xfrm>
            <a:off x="468360" y="2050920"/>
            <a:ext cx="3962520" cy="20934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Die meisten unentschlossenen Wähler entscheiden mit einer Wahlhilf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Konkurrenten geben ca. 1 Mio. Wahl-empfehlungen ab </a:t>
            </a:r>
            <a:br>
              <a:rPr sz="1600"/>
            </a:br>
            <a:r>
              <a:rPr b="0" lang="de-CH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 Immenser Impact auf Ergebni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7" name="Text Placeholder 2"/>
          <p:cNvSpPr/>
          <p:nvPr/>
        </p:nvSpPr>
        <p:spPr>
          <a:xfrm>
            <a:off x="468360" y="5622840"/>
            <a:ext cx="8207280" cy="7750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Vimentis als bekannter, vertrauenswürdiger Partner für einen Stimmenzuwach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8" name="Right Arrow 119"/>
          <p:cNvSpPr/>
          <p:nvPr/>
        </p:nvSpPr>
        <p:spPr>
          <a:xfrm rot="5400000">
            <a:off x="4146840" y="2865960"/>
            <a:ext cx="877680" cy="3714840"/>
          </a:xfrm>
          <a:prstGeom prst="rightArrow">
            <a:avLst>
              <a:gd name="adj1" fmla="val 24250"/>
              <a:gd name="adj2" fmla="val 58889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9" name="Text Placeholder 2"/>
          <p:cNvSpPr/>
          <p:nvPr/>
        </p:nvSpPr>
        <p:spPr>
          <a:xfrm>
            <a:off x="4713120" y="2050920"/>
            <a:ext cx="3962520" cy="17992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Konkurrenz ignoriert Kritik der Parteien, welche den Markeintritt von Vimentis wünscht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Vimentis einzige vollständig integrierte Plattform in Form eines One-Stop-Shop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0" name="Text Placeholder 2"/>
          <p:cNvSpPr/>
          <p:nvPr/>
        </p:nvSpPr>
        <p:spPr>
          <a:xfrm>
            <a:off x="468360" y="1566720"/>
            <a:ext cx="3962520" cy="531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Wahlhilfen entscheiden die Wahl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1" name="Text Placeholder 2"/>
          <p:cNvSpPr/>
          <p:nvPr/>
        </p:nvSpPr>
        <p:spPr>
          <a:xfrm>
            <a:off x="4713120" y="1557360"/>
            <a:ext cx="3962520" cy="531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Mission von Vimenti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92360" y="38592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genda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1692360" y="2714760"/>
            <a:ext cx="561348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Bisheriger Erfolg: Vimentis – «Einfach Wählen»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1692360" y="43736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Angebo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1692360" y="187812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pdate über Vimentis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6" name="Slide Number Placeholder 1"/>
          <p:cNvSpPr/>
          <p:nvPr/>
        </p:nvSpPr>
        <p:spPr>
          <a:xfrm>
            <a:off x="6553080" y="652464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2C99E-11CD-4E41-97B7-B188D13BB07F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1692360" y="35258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Produk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1692360" y="52293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Zeitplan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Erfolg: Vimentis «Einfach Wählen» an nationalen Wahlen 2011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20" name="Text Placeholder 2"/>
          <p:cNvSpPr/>
          <p:nvPr/>
        </p:nvSpPr>
        <p:spPr>
          <a:xfrm>
            <a:off x="468360" y="1224000"/>
            <a:ext cx="4013280" cy="5310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kzidenzGrotesk"/>
              </a:rPr>
              <a:t>Medienpartner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Blick (blick.ch, Blick am Abend, Sonntagsblick)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Aargauer Zeitung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Zürcher Oberländer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kzidenzGrotesk"/>
              </a:rPr>
              <a:t>Parteien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SVP Basellandschaft, Bern, Fribourg und Thurgau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SVP International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JSVP Aargau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SP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FDP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CVP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Grüne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Grünliberale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BDP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EVP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EDU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SD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Piraten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Parteifrei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SLB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Ja!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Pda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Konfessionslose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21" name="AutoShape 6"/>
          <p:cNvSpPr/>
          <p:nvPr/>
        </p:nvSpPr>
        <p:spPr>
          <a:xfrm rot="5400000">
            <a:off x="3213000" y="3792600"/>
            <a:ext cx="3090960" cy="34776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22" name="Text Placeholder 2"/>
          <p:cNvSpPr/>
          <p:nvPr/>
        </p:nvSpPr>
        <p:spPr>
          <a:xfrm>
            <a:off x="5157720" y="3406680"/>
            <a:ext cx="3384720" cy="11192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 lvl="1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kzidenzGrotesk"/>
                <a:ea typeface="Arial"/>
              </a:rPr>
              <a:t>~ 75’000 Wahlempfehlungen</a:t>
            </a:r>
            <a:endParaRPr b="1" i="1" lang="en-US" sz="2400" spc="-1" strike="noStrike">
              <a:solidFill>
                <a:srgbClr val="000000"/>
              </a:solidFill>
              <a:latin typeface="AkzidenzGrotesk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23" name="Text Placeholder 2"/>
          <p:cNvSpPr/>
          <p:nvPr/>
        </p:nvSpPr>
        <p:spPr>
          <a:xfrm>
            <a:off x="5148360" y="1879560"/>
            <a:ext cx="3384360" cy="5414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 lvl="1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kzidenzGrotesk"/>
                <a:ea typeface="Arial"/>
              </a:rPr>
              <a:t> </a:t>
            </a:r>
            <a:r>
              <a:rPr b="1" lang="de-CH" sz="1800" spc="-1" strike="noStrike">
                <a:solidFill>
                  <a:srgbClr val="000000"/>
                </a:solidFill>
                <a:latin typeface="AkzidenzGrotesk"/>
                <a:ea typeface="Arial"/>
              </a:rPr>
              <a:t>8 Medienmitteilungen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  <a:p>
            <a:pPr lv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24" name="Text Placeholder 2"/>
          <p:cNvSpPr/>
          <p:nvPr/>
        </p:nvSpPr>
        <p:spPr>
          <a:xfrm>
            <a:off x="5148360" y="5511960"/>
            <a:ext cx="3384360" cy="7077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 lvl="1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kzidenzGrotesk"/>
                <a:ea typeface="Arial"/>
              </a:rPr>
              <a:t>Wissenschaftlich fundierte Methodik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  <a:p>
            <a:pPr lv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25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71091-3AF1-4051-81A8-8BFDBCA023FC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Fast alle Parteien arbeiteten eng mit Vimentis zusammen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27" name="Right Arrow 119"/>
          <p:cNvSpPr/>
          <p:nvPr/>
        </p:nvSpPr>
        <p:spPr>
          <a:xfrm>
            <a:off x="4616280" y="982800"/>
            <a:ext cx="1644840" cy="5541840"/>
          </a:xfrm>
          <a:prstGeom prst="rightArrow">
            <a:avLst>
              <a:gd name="adj1" fmla="val 40944"/>
              <a:gd name="adj2" fmla="val 58014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kzidenzGrotesk"/>
              </a:rPr>
              <a:t>Kandidaten-Infos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kzidenzGrotesk"/>
              </a:rPr>
              <a:t>Feedback Fragebog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kzidenzGrotesk"/>
              </a:rPr>
              <a:t>Feedback Parteiprofile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pic>
        <p:nvPicPr>
          <p:cNvPr id="128" name="Grafik 10" descr="Nur Schweiz.jpg"/>
          <p:cNvPicPr/>
          <p:nvPr/>
        </p:nvPicPr>
        <p:blipFill>
          <a:blip r:embed="rId1"/>
          <a:stretch/>
        </p:blipFill>
        <p:spPr>
          <a:xfrm>
            <a:off x="6683400" y="2624040"/>
            <a:ext cx="1928880" cy="1143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72" descr="einfach wählen ohne signet_4c.png"/>
          <p:cNvPicPr/>
          <p:nvPr/>
        </p:nvPicPr>
        <p:blipFill>
          <a:blip r:embed="rId2"/>
          <a:srcRect l="10143" t="0" r="0" b="0"/>
          <a:stretch/>
        </p:blipFill>
        <p:spPr>
          <a:xfrm>
            <a:off x="6413400" y="3909960"/>
            <a:ext cx="2413080" cy="596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4" descr="LogoCVP05d"/>
          <p:cNvPicPr/>
          <p:nvPr/>
        </p:nvPicPr>
        <p:blipFill>
          <a:blip r:embed="rId3"/>
          <a:stretch/>
        </p:blipFill>
        <p:spPr>
          <a:xfrm>
            <a:off x="325440" y="2859120"/>
            <a:ext cx="752400" cy="601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5" descr="logo_deutsch"/>
          <p:cNvPicPr/>
          <p:nvPr/>
        </p:nvPicPr>
        <p:blipFill>
          <a:blip r:embed="rId4"/>
          <a:stretch/>
        </p:blipFill>
        <p:spPr>
          <a:xfrm>
            <a:off x="1887480" y="1325520"/>
            <a:ext cx="1133640" cy="600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6" descr="sp"/>
          <p:cNvPicPr/>
          <p:nvPr/>
        </p:nvPicPr>
        <p:blipFill>
          <a:blip r:embed="rId5"/>
          <a:stretch/>
        </p:blipFill>
        <p:spPr>
          <a:xfrm>
            <a:off x="333360" y="3807000"/>
            <a:ext cx="907920" cy="4014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3" descr="107"/>
          <p:cNvPicPr/>
          <p:nvPr/>
        </p:nvPicPr>
        <p:blipFill>
          <a:blip r:embed="rId6"/>
          <a:stretch/>
        </p:blipFill>
        <p:spPr>
          <a:xfrm>
            <a:off x="333360" y="4357800"/>
            <a:ext cx="1190520" cy="952560"/>
          </a:xfrm>
          <a:prstGeom prst="rect">
            <a:avLst/>
          </a:prstGeom>
          <a:ln w="0">
            <a:noFill/>
          </a:ln>
        </p:spPr>
      </p:pic>
      <p:pic>
        <p:nvPicPr>
          <p:cNvPr id="134" name="Grafik 4" descr=""/>
          <p:cNvPicPr/>
          <p:nvPr/>
        </p:nvPicPr>
        <p:blipFill>
          <a:blip r:embed="rId7"/>
          <a:stretch/>
        </p:blipFill>
        <p:spPr>
          <a:xfrm>
            <a:off x="3311640" y="5119560"/>
            <a:ext cx="1369800" cy="532080"/>
          </a:xfrm>
          <a:prstGeom prst="rect">
            <a:avLst/>
          </a:prstGeom>
          <a:ln w="0">
            <a:noFill/>
          </a:ln>
        </p:spPr>
      </p:pic>
      <p:pic>
        <p:nvPicPr>
          <p:cNvPr id="135" name="Grafik 5" descr=""/>
          <p:cNvPicPr/>
          <p:nvPr/>
        </p:nvPicPr>
        <p:blipFill>
          <a:blip r:embed="rId8"/>
          <a:stretch/>
        </p:blipFill>
        <p:spPr>
          <a:xfrm>
            <a:off x="258840" y="1338120"/>
            <a:ext cx="901800" cy="574920"/>
          </a:xfrm>
          <a:prstGeom prst="rect">
            <a:avLst/>
          </a:prstGeom>
          <a:ln w="0">
            <a:noFill/>
          </a:ln>
        </p:spPr>
      </p:pic>
      <p:pic>
        <p:nvPicPr>
          <p:cNvPr id="136" name="Grafik 6" descr=""/>
          <p:cNvPicPr/>
          <p:nvPr/>
        </p:nvPicPr>
        <p:blipFill>
          <a:blip r:embed="rId9"/>
          <a:stretch/>
        </p:blipFill>
        <p:spPr>
          <a:xfrm>
            <a:off x="3664080" y="1535040"/>
            <a:ext cx="974520" cy="390600"/>
          </a:xfrm>
          <a:prstGeom prst="rect">
            <a:avLst/>
          </a:prstGeom>
          <a:ln w="0">
            <a:noFill/>
          </a:ln>
        </p:spPr>
      </p:pic>
      <p:pic>
        <p:nvPicPr>
          <p:cNvPr id="137" name="Grafik 7" descr=""/>
          <p:cNvPicPr/>
          <p:nvPr/>
        </p:nvPicPr>
        <p:blipFill>
          <a:blip r:embed="rId10"/>
          <a:stretch/>
        </p:blipFill>
        <p:spPr>
          <a:xfrm>
            <a:off x="2862360" y="2803680"/>
            <a:ext cx="1504800" cy="331560"/>
          </a:xfrm>
          <a:prstGeom prst="rect">
            <a:avLst/>
          </a:prstGeom>
          <a:ln w="0">
            <a:noFill/>
          </a:ln>
        </p:spPr>
      </p:pic>
      <p:pic>
        <p:nvPicPr>
          <p:cNvPr id="138" name="Grafik 8" descr=""/>
          <p:cNvPicPr/>
          <p:nvPr/>
        </p:nvPicPr>
        <p:blipFill>
          <a:blip r:embed="rId11"/>
          <a:stretch/>
        </p:blipFill>
        <p:spPr>
          <a:xfrm>
            <a:off x="333360" y="5335560"/>
            <a:ext cx="1401840" cy="561960"/>
          </a:xfrm>
          <a:prstGeom prst="rect">
            <a:avLst/>
          </a:prstGeom>
          <a:ln w="0">
            <a:noFill/>
          </a:ln>
        </p:spPr>
      </p:pic>
      <p:pic>
        <p:nvPicPr>
          <p:cNvPr id="139" name="Grafik 9" descr=""/>
          <p:cNvPicPr/>
          <p:nvPr/>
        </p:nvPicPr>
        <p:blipFill>
          <a:blip r:embed="rId12"/>
          <a:stretch/>
        </p:blipFill>
        <p:spPr>
          <a:xfrm>
            <a:off x="473040" y="6091200"/>
            <a:ext cx="1376280" cy="433440"/>
          </a:xfrm>
          <a:prstGeom prst="rect">
            <a:avLst/>
          </a:prstGeom>
          <a:ln w="0">
            <a:noFill/>
          </a:ln>
        </p:spPr>
      </p:pic>
      <p:pic>
        <p:nvPicPr>
          <p:cNvPr id="140" name="Grafik 1" descr=""/>
          <p:cNvPicPr/>
          <p:nvPr/>
        </p:nvPicPr>
        <p:blipFill>
          <a:blip r:embed="rId13"/>
          <a:stretch/>
        </p:blipFill>
        <p:spPr>
          <a:xfrm>
            <a:off x="2454120" y="6039000"/>
            <a:ext cx="1729080" cy="537840"/>
          </a:xfrm>
          <a:prstGeom prst="rect">
            <a:avLst/>
          </a:prstGeom>
          <a:ln w="0">
            <a:noFill/>
          </a:ln>
        </p:spPr>
      </p:pic>
      <p:pic>
        <p:nvPicPr>
          <p:cNvPr id="141" name="Grafik 2" descr=""/>
          <p:cNvPicPr/>
          <p:nvPr/>
        </p:nvPicPr>
        <p:blipFill>
          <a:blip r:embed="rId14"/>
          <a:stretch/>
        </p:blipFill>
        <p:spPr>
          <a:xfrm>
            <a:off x="325440" y="1730520"/>
            <a:ext cx="1138320" cy="1137960"/>
          </a:xfrm>
          <a:prstGeom prst="rect">
            <a:avLst/>
          </a:prstGeom>
          <a:ln w="0">
            <a:noFill/>
          </a:ln>
        </p:spPr>
      </p:pic>
      <p:pic>
        <p:nvPicPr>
          <p:cNvPr id="142" name="Grafik 4" descr=""/>
          <p:cNvPicPr/>
          <p:nvPr/>
        </p:nvPicPr>
        <p:blipFill>
          <a:blip r:embed="rId15"/>
          <a:stretch/>
        </p:blipFill>
        <p:spPr>
          <a:xfrm>
            <a:off x="3176640" y="2179800"/>
            <a:ext cx="1338120" cy="239400"/>
          </a:xfrm>
          <a:prstGeom prst="rect">
            <a:avLst/>
          </a:prstGeom>
          <a:ln w="0">
            <a:noFill/>
          </a:ln>
        </p:spPr>
      </p:pic>
      <p:pic>
        <p:nvPicPr>
          <p:cNvPr id="143" name="Grafik 5" descr=""/>
          <p:cNvPicPr/>
          <p:nvPr/>
        </p:nvPicPr>
        <p:blipFill>
          <a:blip r:embed="rId16"/>
          <a:stretch/>
        </p:blipFill>
        <p:spPr>
          <a:xfrm>
            <a:off x="3665520" y="3706920"/>
            <a:ext cx="627120" cy="603000"/>
          </a:xfrm>
          <a:prstGeom prst="rect">
            <a:avLst/>
          </a:prstGeom>
          <a:ln w="0">
            <a:noFill/>
          </a:ln>
        </p:spPr>
      </p:pic>
      <p:pic>
        <p:nvPicPr>
          <p:cNvPr id="144" name="Grafik 6" descr=""/>
          <p:cNvPicPr/>
          <p:nvPr/>
        </p:nvPicPr>
        <p:blipFill>
          <a:blip r:embed="rId17"/>
          <a:stretch/>
        </p:blipFill>
        <p:spPr>
          <a:xfrm>
            <a:off x="1932120" y="4165560"/>
            <a:ext cx="1353960" cy="507960"/>
          </a:xfrm>
          <a:prstGeom prst="rect">
            <a:avLst/>
          </a:prstGeom>
          <a:ln w="0">
            <a:noFill/>
          </a:ln>
        </p:spPr>
      </p:pic>
      <p:sp>
        <p:nvSpPr>
          <p:cNvPr id="145" name="Foliennummernplatzhalter 7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CA375-9E3B-4965-845C-6C8B41C41A25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46" name="Textfeld 10"/>
          <p:cNvSpPr/>
          <p:nvPr/>
        </p:nvSpPr>
        <p:spPr>
          <a:xfrm rot="1357800">
            <a:off x="6112440" y="1420920"/>
            <a:ext cx="2430720" cy="778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500" spc="-1" strike="noStrike">
                <a:solidFill>
                  <a:srgbClr val="000000"/>
                </a:solidFill>
                <a:latin typeface="AkzidenzGrotesk"/>
              </a:rPr>
              <a:t>«Wir würden am liebsten nur bei Vimentis mitmachen!»</a:t>
            </a:r>
            <a:endParaRPr b="1" i="1" lang="en-US" sz="1500" spc="-1" strike="noStrike">
              <a:solidFill>
                <a:srgbClr val="000000"/>
              </a:solidFill>
              <a:latin typeface="AkzidenzGrotesk"/>
            </a:endParaRPr>
          </a:p>
        </p:txBody>
      </p:sp>
      <p:pic>
        <p:nvPicPr>
          <p:cNvPr id="147" name="Grafik 2" descr=""/>
          <p:cNvPicPr/>
          <p:nvPr/>
        </p:nvPicPr>
        <p:blipFill>
          <a:blip r:embed="rId18"/>
          <a:stretch/>
        </p:blipFill>
        <p:spPr>
          <a:xfrm>
            <a:off x="2289240" y="5099040"/>
            <a:ext cx="731880" cy="573120"/>
          </a:xfrm>
          <a:prstGeom prst="rect">
            <a:avLst/>
          </a:prstGeom>
          <a:ln w="0">
            <a:noFill/>
          </a:ln>
        </p:spPr>
      </p:pic>
      <p:sp>
        <p:nvSpPr>
          <p:cNvPr id="148" name="Textfeld 2"/>
          <p:cNvSpPr/>
          <p:nvPr/>
        </p:nvSpPr>
        <p:spPr>
          <a:xfrm>
            <a:off x="2289240" y="5672160"/>
            <a:ext cx="73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Aargau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pic>
        <p:nvPicPr>
          <p:cNvPr id="149" name="Grafik 3" descr=""/>
          <p:cNvPicPr/>
          <p:nvPr/>
        </p:nvPicPr>
        <p:blipFill>
          <a:blip r:embed="rId19"/>
          <a:stretch/>
        </p:blipFill>
        <p:spPr>
          <a:xfrm>
            <a:off x="1523880" y="2251080"/>
            <a:ext cx="1038240" cy="554040"/>
          </a:xfrm>
          <a:prstGeom prst="rect">
            <a:avLst/>
          </a:prstGeom>
          <a:ln w="0">
            <a:noFill/>
          </a:ln>
        </p:spPr>
      </p:pic>
      <p:sp>
        <p:nvSpPr>
          <p:cNvPr id="150" name="Textfeld 5"/>
          <p:cNvSpPr/>
          <p:nvPr/>
        </p:nvSpPr>
        <p:spPr>
          <a:xfrm>
            <a:off x="1562040" y="2768760"/>
            <a:ext cx="1125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International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Baselland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Bern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Fribourg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Thurgau 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Starke Medienpartnerschaften für starke Präsenz Ihrer Kandidaten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52" name="Right Arrow 119"/>
          <p:cNvSpPr/>
          <p:nvPr/>
        </p:nvSpPr>
        <p:spPr>
          <a:xfrm>
            <a:off x="2997360" y="1474920"/>
            <a:ext cx="1182600" cy="3714480"/>
          </a:xfrm>
          <a:prstGeom prst="rightArrow">
            <a:avLst>
              <a:gd name="adj1" fmla="val 24250"/>
              <a:gd name="adj2" fmla="val 58889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grpSp>
        <p:nvGrpSpPr>
          <p:cNvPr id="153" name="Gruppieren 19"/>
          <p:cNvGrpSpPr/>
          <p:nvPr/>
        </p:nvGrpSpPr>
        <p:grpSpPr>
          <a:xfrm>
            <a:off x="293760" y="2282760"/>
            <a:ext cx="2531880" cy="1882800"/>
            <a:chOff x="293760" y="2282760"/>
            <a:chExt cx="2531880" cy="1882800"/>
          </a:xfrm>
        </p:grpSpPr>
        <p:pic>
          <p:nvPicPr>
            <p:cNvPr id="154" name="Grafik 10" descr="Nur Schweiz.jpg"/>
            <p:cNvPicPr/>
            <p:nvPr/>
          </p:nvPicPr>
          <p:blipFill>
            <a:blip r:embed="rId1"/>
            <a:stretch/>
          </p:blipFill>
          <p:spPr>
            <a:xfrm>
              <a:off x="579240" y="2282760"/>
              <a:ext cx="192888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272" descr="einfach wählen ohne signet_4c.png"/>
            <p:cNvPicPr/>
            <p:nvPr/>
          </p:nvPicPr>
          <p:blipFill>
            <a:blip r:embed="rId2"/>
            <a:srcRect l="10138" t="0" r="0" b="0"/>
            <a:stretch/>
          </p:blipFill>
          <p:spPr>
            <a:xfrm>
              <a:off x="293760" y="3568680"/>
              <a:ext cx="2531880" cy="596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6" name="Grafik 21" descr=""/>
          <p:cNvPicPr/>
          <p:nvPr/>
        </p:nvPicPr>
        <p:blipFill>
          <a:blip r:embed="rId3"/>
          <a:stretch/>
        </p:blipFill>
        <p:spPr>
          <a:xfrm>
            <a:off x="6275520" y="2324160"/>
            <a:ext cx="1349280" cy="774720"/>
          </a:xfrm>
          <a:prstGeom prst="rect">
            <a:avLst/>
          </a:prstGeom>
          <a:ln w="0">
            <a:noFill/>
          </a:ln>
        </p:spPr>
      </p:pic>
      <p:pic>
        <p:nvPicPr>
          <p:cNvPr id="157" name="Grafik 239" descr=""/>
          <p:cNvPicPr/>
          <p:nvPr/>
        </p:nvPicPr>
        <p:blipFill>
          <a:blip r:embed="rId4"/>
          <a:stretch/>
        </p:blipFill>
        <p:spPr>
          <a:xfrm>
            <a:off x="4911840" y="4160880"/>
            <a:ext cx="3362040" cy="390600"/>
          </a:xfrm>
          <a:prstGeom prst="rect">
            <a:avLst/>
          </a:prstGeom>
          <a:ln w="0">
            <a:noFill/>
          </a:ln>
        </p:spPr>
      </p:pic>
      <p:sp>
        <p:nvSpPr>
          <p:cNvPr id="158" name="Abgerundetes Rechteck 13"/>
          <p:cNvSpPr/>
          <p:nvPr/>
        </p:nvSpPr>
        <p:spPr>
          <a:xfrm>
            <a:off x="3807000" y="5587920"/>
            <a:ext cx="2387520" cy="779400"/>
          </a:xfrm>
          <a:prstGeom prst="roundRect">
            <a:avLst>
              <a:gd name="adj" fmla="val 16667"/>
            </a:avLst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AkzidenzGrotesk"/>
              </a:rPr>
              <a:t>Medien-Partnerschaften für Kantonsratswahlen in Verhandlung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59" name="Abgerundetes Rechteck 13"/>
          <p:cNvSpPr/>
          <p:nvPr/>
        </p:nvSpPr>
        <p:spPr>
          <a:xfrm>
            <a:off x="3807000" y="1224000"/>
            <a:ext cx="2387520" cy="585720"/>
          </a:xfrm>
          <a:prstGeom prst="roundRect">
            <a:avLst>
              <a:gd name="adj" fmla="val 16667"/>
            </a:avLst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AkzidenzGrotesk"/>
              </a:rPr>
              <a:t>Medienpartner der nationalen Wahlen: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pic>
        <p:nvPicPr>
          <p:cNvPr id="160" name="Picture 16" descr=""/>
          <p:cNvPicPr/>
          <p:nvPr/>
        </p:nvPicPr>
        <p:blipFill>
          <a:blip r:embed="rId5"/>
          <a:stretch/>
        </p:blipFill>
        <p:spPr>
          <a:xfrm>
            <a:off x="6440400" y="3292560"/>
            <a:ext cx="1974960" cy="6760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7" descr=""/>
          <p:cNvPicPr/>
          <p:nvPr/>
        </p:nvPicPr>
        <p:blipFill>
          <a:blip r:embed="rId6"/>
          <a:stretch/>
        </p:blipFill>
        <p:spPr>
          <a:xfrm>
            <a:off x="4859280" y="2325600"/>
            <a:ext cx="1393920" cy="8161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8" descr=""/>
          <p:cNvPicPr/>
          <p:nvPr/>
        </p:nvPicPr>
        <p:blipFill>
          <a:blip r:embed="rId7"/>
          <a:stretch/>
        </p:blipFill>
        <p:spPr>
          <a:xfrm>
            <a:off x="4849920" y="3168720"/>
            <a:ext cx="1363680" cy="799920"/>
          </a:xfrm>
          <a:prstGeom prst="rect">
            <a:avLst/>
          </a:prstGeom>
          <a:ln w="0">
            <a:noFill/>
          </a:ln>
        </p:spPr>
      </p:pic>
      <p:sp>
        <p:nvSpPr>
          <p:cNvPr id="163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E1A7F-097A-4378-8277-4B53B08EC2D5}" type="slidenum">
              <a:rPr b="0" lang="de-CH" sz="1000" spc="-1" strike="noStrike">
                <a:solidFill>
                  <a:srgbClr val="000000"/>
                </a:solidFill>
                <a:latin typeface="AkzidenzGrotesk-Light"/>
                <a:ea typeface="ＭＳ Ｐゴシック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4" name="Textfeld 239"/>
          <p:cNvSpPr/>
          <p:nvPr/>
        </p:nvSpPr>
        <p:spPr>
          <a:xfrm rot="1357800">
            <a:off x="6593040" y="1808280"/>
            <a:ext cx="2430360" cy="459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«Wir arbeiten immer wieder gern mit Vimentis zusammen.»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5" name="Textfeld 240"/>
          <p:cNvSpPr/>
          <p:nvPr/>
        </p:nvSpPr>
        <p:spPr>
          <a:xfrm rot="20626200">
            <a:off x="6378480" y="4779000"/>
            <a:ext cx="2527200" cy="641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«Die Mit-Gestaltung des Fragebogens schätzten wir sehr»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62575-F602-485E-B29C-6B18B0F8FB0D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Vimentis «Einfach Wählen» als notwendiger Faktor für Wiederwahl an nationalen Wahlen 2011</a:t>
            </a:r>
            <a:endParaRPr b="1" i="1" lang="en-US" sz="2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8" name="Text Placeholder 2"/>
          <p:cNvSpPr/>
          <p:nvPr/>
        </p:nvSpPr>
        <p:spPr>
          <a:xfrm>
            <a:off x="2386080" y="1854360"/>
            <a:ext cx="4373640" cy="1555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Von den bisherigen, nicht mehr gewählten Kandidaten haben nur 50%  den Fragebogen ausgefüllt, bei den neu gewählten waren es 80%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9" name="AutoShape 6"/>
          <p:cNvSpPr/>
          <p:nvPr/>
        </p:nvSpPr>
        <p:spPr>
          <a:xfrm rot="10800000">
            <a:off x="3027240" y="3778200"/>
            <a:ext cx="3090960" cy="347760"/>
          </a:xfrm>
          <a:prstGeom prst="triangle">
            <a:avLst>
              <a:gd name="adj" fmla="val 50000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0" name="Text Placeholder 2"/>
          <p:cNvSpPr/>
          <p:nvPr/>
        </p:nvSpPr>
        <p:spPr>
          <a:xfrm>
            <a:off x="2414520" y="4417920"/>
            <a:ext cx="4373640" cy="7750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Teilnahme bei Vimentis erhöht die Chance zur (Wieder-) Wahl 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16:51:52Z</dcterms:created>
  <dc:creator>master</dc:creator>
  <dc:description/>
  <dc:language>en-US</dc:language>
  <cp:lastModifiedBy>Romana</cp:lastModifiedBy>
  <cp:lastPrinted>2011-11-18T14:16:01Z</cp:lastPrinted>
  <dcterms:modified xsi:type="dcterms:W3CDTF">2011-11-22T19:29:37Z</dcterms:modified>
  <cp:revision>2448</cp:revision>
  <dc:subject/>
  <dc:title>5. ordentlichen Generalversammlu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elivery Date">
    <vt:lpwstr/>
  </property>
  <property fmtid="{D5CDD505-2E9C-101B-9397-08002B2CF9AE}" pid="3" name="Event">
    <vt:lpwstr/>
  </property>
  <property fmtid="{D5CDD505-2E9C-101B-9397-08002B2CF9AE}" pid="4" name="Final">
    <vt:bool>1</vt:bool>
  </property>
  <property fmtid="{D5CDD505-2E9C-101B-9397-08002B2CF9AE}" pid="5" name="NotesPageLayout">
    <vt:lpwstr>Message</vt:lpwstr>
  </property>
  <property fmtid="{D5CDD505-2E9C-101B-9397-08002B2CF9AE}" pid="6" name="Title">
    <vt:lpwstr>5. ordentlichen Generalversammlung</vt:lpwstr>
  </property>
  <property fmtid="{D5CDD505-2E9C-101B-9397-08002B2CF9AE}" pid="7" name="docid">
    <vt:lpwstr/>
  </property>
</Properties>
</file>