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wmf" ContentType="image/x-wmf"/>
  <Override PartName="/ppt/media/image14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9.png" ContentType="image/png"/>
  <Override PartName="/ppt/media/image1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5.png" ContentType="image/png"/>
  <Override PartName="/ppt/media/image28.png" ContentType="image/png"/>
  <Override PartName="/ppt/media/image18.png" ContentType="image/png"/>
  <Override PartName="/ppt/media/image15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90417-2D73-4F1B-86F9-62A0ED0E01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91866-5A6E-4B99-A2D9-CB9228547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DCEAF-9FED-475D-888C-1D34D3C11D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FE3FF-8757-4524-9330-01FBBB53C3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6EF4C-559E-4773-8C9F-5BD470158F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97854-D67E-43A0-A6EB-EBFDEC6742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721D4-8BED-45A4-951B-E7C105C09C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D5176-C291-4A13-B267-2A47A5BBEE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36707-15F3-4C79-9A25-73A147B32F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077FB-9727-4BA5-A48D-AB7B98388B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08E53-99A2-418C-8979-F53E402BE0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3273C-6830-4F75-9103-D671758DED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9CBA8-D2E2-474E-943C-0C089CD198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DD042-6C5A-4DCD-9F61-77852222F5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9DFCD-D3D6-48F1-9978-195EC913E7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C20B2-9952-415B-A58F-AD2A1BEE5B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F5013-68DC-4FA2-AC7B-CB786C70AF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4E7C5-2855-49B5-84E5-145B7AE0D2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42CBF-E344-44C0-B1C6-FE436636B5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04B2B-4DB6-447D-8132-7FC8714A29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5B1E5-669F-48B0-BE7B-D8039254A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216D9-B510-4A28-9AAA-9CF034B1AD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ADE83-5394-4B0C-B398-603D48BAD5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77FAB-509E-47FF-B01F-C2220DF912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" name="Grafik 10" descr="Nur Schweiz.jpg"/>
          <p:cNvPicPr/>
          <p:nvPr/>
        </p:nvPicPr>
        <p:blipFill>
          <a:blip r:embed="rId2"/>
          <a:stretch/>
        </p:blipFill>
        <p:spPr>
          <a:xfrm>
            <a:off x="468360" y="426960"/>
            <a:ext cx="1044360" cy="61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F95A-6270-4242-BA1E-7C85DEC3FBB1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Umfrage"/>
          <p:cNvPicPr/>
          <p:nvPr/>
        </p:nvPicPr>
        <p:blipFill>
          <a:blip r:embed="rId2"/>
          <a:srcRect l="0" t="0" r="23632" b="0"/>
          <a:stretch/>
        </p:blipFill>
        <p:spPr>
          <a:xfrm>
            <a:off x="468360" y="907920"/>
            <a:ext cx="6551640" cy="9781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07DE-641F-4413-9EA0-C1792891D69E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jpe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jpe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54016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Zusammenarbeit </a:t>
            </a:r>
            <a:br>
              <a:rPr sz="3000"/>
            </a:b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Piratenpartei – Vimentis</a:t>
            </a:r>
            <a:endParaRPr b="1" lang="en-US" sz="30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68360" y="4221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St.Gallen, November 2011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5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EF02-1B8F-43E6-939C-EDD3C61DF055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730872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Integrierte Lösung: Vimentis als einziger One-Stop-Shop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9" name="Text Placeholder 2"/>
          <p:cNvSpPr/>
          <p:nvPr/>
        </p:nvSpPr>
        <p:spPr>
          <a:xfrm>
            <a:off x="2322360" y="12924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: «Einfach Wählen» generiert Partei- und Kandidatenvorschläg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0" name="Text Placeholder 2"/>
          <p:cNvSpPr/>
          <p:nvPr/>
        </p:nvSpPr>
        <p:spPr>
          <a:xfrm>
            <a:off x="2314440" y="2889360"/>
            <a:ext cx="4373640" cy="1018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Parteiprofile: Informiert Wählen dank vertieften Partei- und Kandidatenprofi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1" name="Text Placeholder 2"/>
          <p:cNvSpPr/>
          <p:nvPr/>
        </p:nvSpPr>
        <p:spPr>
          <a:xfrm>
            <a:off x="2365200" y="4508640"/>
            <a:ext cx="4373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Blogs von Kandida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2" name="Plus 199"/>
          <p:cNvSpPr/>
          <p:nvPr/>
        </p:nvSpPr>
        <p:spPr>
          <a:xfrm>
            <a:off x="4238640" y="2214720"/>
            <a:ext cx="571320" cy="572760"/>
          </a:xfrm>
          <a:custGeom>
            <a:avLst/>
            <a:gdLst>
              <a:gd name="textAreaLeft" fmla="*/ 75600 w 571320"/>
              <a:gd name="textAreaRight" fmla="*/ 495720 w 571320"/>
              <a:gd name="textAreaTop" fmla="*/ 219240 h 572760"/>
              <a:gd name="textAreaBottom" fmla="*/ 353520 h 57276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3" name="Plus 200"/>
          <p:cNvSpPr/>
          <p:nvPr/>
        </p:nvSpPr>
        <p:spPr>
          <a:xfrm>
            <a:off x="4267080" y="383364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4" name="Foliennummernplatzhalter 6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45E7-1EE4-4ECA-AD18-96CC02EE81E0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5" name="Plus 197"/>
          <p:cNvSpPr/>
          <p:nvPr/>
        </p:nvSpPr>
        <p:spPr>
          <a:xfrm>
            <a:off x="4267080" y="518472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8">
                <a:moveTo>
                  <a:pt x="75752" y="219336"/>
                </a:moveTo>
                <a:lnTo>
                  <a:pt x="218542" y="219336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6"/>
                </a:lnTo>
                <a:lnTo>
                  <a:pt x="495748" y="219336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5"/>
                </a:lnTo>
                <a:lnTo>
                  <a:pt x="218542" y="497125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6" name="Text Placeholder 2"/>
          <p:cNvSpPr/>
          <p:nvPr/>
        </p:nvSpPr>
        <p:spPr>
          <a:xfrm>
            <a:off x="2365200" y="59040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Starke Partner um Neuwähler zu akquirier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Unsere Vorteile sind ihre Vorteile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8" name="Text Placeholder 2"/>
          <p:cNvSpPr/>
          <p:nvPr/>
        </p:nvSpPr>
        <p:spPr>
          <a:xfrm>
            <a:off x="468360" y="1557360"/>
            <a:ext cx="381636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Was unterscheidet Vimentis «Einfach Wählen»?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rosser Nutzerstamm mit starkem Vertrauen in Vimentis als einzige integrierte Homepage mit Wahlhilfe, Blogs, Abstimmungsinfo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Be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Transparenz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Stärkere Einbindung der Parteien bei Fragebogen, Parteiportrait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ünstigerer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9" name="AutoShape 6"/>
          <p:cNvSpPr/>
          <p:nvPr/>
        </p:nvSpPr>
        <p:spPr>
          <a:xfrm rot="5400000">
            <a:off x="3055680" y="3040200"/>
            <a:ext cx="3090600" cy="347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0" name="Text Placeholder 2"/>
          <p:cNvSpPr/>
          <p:nvPr/>
        </p:nvSpPr>
        <p:spPr>
          <a:xfrm>
            <a:off x="4941720" y="1557360"/>
            <a:ext cx="374508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Sie und ihre Kandidaten profitieren durch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Weite Präsenz der Kandidaten 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Feedback–Möglichkeit auf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onkurrenz sichert langfristig Innovation, Kundenfokussierung und günstigeren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andidaten können mit Blogs Ihre Wahlkampf-Themen aktiv propag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1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EDF4-5790-49BD-81D4-CAD08E4D1461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2451-5AF2-4132-9A72-F551493FB112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ngebot an die Piratenpartei St.Gall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0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4744-56FE-4FF9-8670-49F4271869AC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1" name="Text Placeholder 2"/>
          <p:cNvSpPr/>
          <p:nvPr/>
        </p:nvSpPr>
        <p:spPr>
          <a:xfrm>
            <a:off x="442800" y="1179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Angebot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2" name="Text Placeholder 2"/>
          <p:cNvSpPr/>
          <p:nvPr/>
        </p:nvSpPr>
        <p:spPr>
          <a:xfrm>
            <a:off x="4572000" y="1187280"/>
            <a:ext cx="3914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Leistung  Piratenpartei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3" name="Text Placeholder 2"/>
          <p:cNvSpPr/>
          <p:nvPr/>
        </p:nvSpPr>
        <p:spPr>
          <a:xfrm>
            <a:off x="438120" y="1712880"/>
            <a:ext cx="3967200" cy="504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72000" tIns="144000" bIns="144000" anchor="t">
            <a:spAutoFit/>
          </a:bodyPr>
          <a:p>
            <a:pPr marL="285840" indent="-285840">
              <a:buSzPct val="1129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Nutzung Vimentis Wahlen-Tool für alle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Kandidaten der Piratenpartei St.Gallen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ostenlo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Einbindung auf Vimentis.ch sowie allen Medienpartnern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Gratis-Profil für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Blog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für 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ersönliche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andidatenbetreuung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bis hin zu den Wah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Spider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und politische Landkarte aller Kandidaten und Partei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Parteiportrait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 zur Einbindung von Blogs und Kandidatenprofile auf parteieigener Homepage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Feedback zum Fragebogen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zu geb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4" name="Text Placeholder 2"/>
          <p:cNvSpPr/>
          <p:nvPr/>
        </p:nvSpPr>
        <p:spPr>
          <a:xfrm>
            <a:off x="4572000" y="1711440"/>
            <a:ext cx="3914640" cy="469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noAutofit/>
          </a:bodyPr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reis: 100 Fr. pro gewonnenem Sitz der Piratenpartei St.Ga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liefert Liste mit allen Kandidaten bis 05.12.2011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sendet eine personalisierte Nachricht an alle Ihre Kandidaten und fordert diese auf, den Fragebogen auszufü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empfiehlt Ihren Kandidaten die Blog-Plattform von Vimentis zu nutz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beantwortet 10 Fragen zur Erstellung des Parteiportrait von Vimentis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E1CB-3935-487C-953C-2FC30B977086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1700280" y="522936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Zeitplan</a:t>
            </a: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Zeitpla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5DB5-BC7F-4F83-8B17-4D2554CD61FD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4" name="Text Placeholder 2"/>
          <p:cNvSpPr/>
          <p:nvPr/>
        </p:nvSpPr>
        <p:spPr>
          <a:xfrm>
            <a:off x="447840" y="2050920"/>
            <a:ext cx="8038800" cy="2590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12.2011 Vertrag unterzeichn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5.12.2011 Listen mit Kandidaten zuschick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3011 Feedback auf Fragebog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2011 Antworten für Fragen für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01.2011 Kandidaten auffordern, Fragebogen auszufü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3.01.2012 Feedback auf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30.01.2012 Going-Liv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ragen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BE09-2E66-4BE2-860A-21F01741AA07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7" name="TextBox 23"/>
          <p:cNvSpPr/>
          <p:nvPr/>
        </p:nvSpPr>
        <p:spPr>
          <a:xfrm>
            <a:off x="468360" y="3203640"/>
            <a:ext cx="56404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Kontaktdaten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omana Brueggemann, Parteiverantwortlich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Brueggemann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8 742 85 55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emo Dominioni, Projektverantwortlicher (GL)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Dominioni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9 452 75 77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anschrift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fa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9000 St. Ga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95520" y="347760"/>
            <a:ext cx="75484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ppendix: Bisherige Erfolge anderer Tätigkeiten von Vimentis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19" name="Picture 24" descr=""/>
          <p:cNvPicPr/>
          <p:nvPr/>
        </p:nvPicPr>
        <p:blipFill>
          <a:blip r:embed="rId1"/>
          <a:stretch/>
        </p:blipFill>
        <p:spPr>
          <a:xfrm>
            <a:off x="357120" y="2565360"/>
            <a:ext cx="3494160" cy="254628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8"/>
          <p:cNvGrpSpPr/>
          <p:nvPr/>
        </p:nvGrpSpPr>
        <p:grpSpPr>
          <a:xfrm>
            <a:off x="4118040" y="1197000"/>
            <a:ext cx="4608000" cy="315720"/>
            <a:chOff x="4118040" y="1197000"/>
            <a:chExt cx="4608000" cy="315720"/>
          </a:xfrm>
        </p:grpSpPr>
        <p:sp>
          <p:nvSpPr>
            <p:cNvPr id="221" name="KMATable0TextBox2"/>
            <p:cNvSpPr/>
            <p:nvPr/>
          </p:nvSpPr>
          <p:spPr>
            <a:xfrm>
              <a:off x="4118040" y="119700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informiert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2" name="Line 10"/>
            <p:cNvSpPr/>
            <p:nvPr/>
          </p:nvSpPr>
          <p:spPr>
            <a:xfrm>
              <a:off x="4118040" y="151272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3" name="Rectangle 11"/>
          <p:cNvSpPr/>
          <p:nvPr/>
        </p:nvSpPr>
        <p:spPr>
          <a:xfrm>
            <a:off x="3924360" y="1533600"/>
            <a:ext cx="4968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ssendstes Politik Informationsportal der CH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Informationen über Abstimmungen und politisch interessante Themen (über 40’000 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ngreiches Lexikon zum leichteren Verständnis der Texte (über 20’000 Lexikon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4" name="Group 12"/>
          <p:cNvGrpSpPr/>
          <p:nvPr/>
        </p:nvGrpSpPr>
        <p:grpSpPr>
          <a:xfrm>
            <a:off x="4118040" y="2852640"/>
            <a:ext cx="4608000" cy="315720"/>
            <a:chOff x="4118040" y="2852640"/>
            <a:chExt cx="4608000" cy="315720"/>
          </a:xfrm>
        </p:grpSpPr>
        <p:sp>
          <p:nvSpPr>
            <p:cNvPr id="225" name="KMATable0TextBox2"/>
            <p:cNvSpPr/>
            <p:nvPr/>
          </p:nvSpPr>
          <p:spPr>
            <a:xfrm>
              <a:off x="4118040" y="285264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Umfrage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>
              <a:off x="4118040" y="316836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7" name="Rectangle 15"/>
          <p:cNvSpPr/>
          <p:nvPr/>
        </p:nvSpPr>
        <p:spPr>
          <a:xfrm>
            <a:off x="3940200" y="3189240"/>
            <a:ext cx="47559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össte politische Online Umfrage der Schweiz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eschleunigung des politischen Prozesses durch Prüfung von Reformvorschlägen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Hohe Akzeptanz in Politik, da Repräsentativität gewährleistet (über 20’000 Teilnehmer jährlich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8" name="Group 16"/>
          <p:cNvGrpSpPr/>
          <p:nvPr/>
        </p:nvGrpSpPr>
        <p:grpSpPr>
          <a:xfrm>
            <a:off x="4118040" y="4581360"/>
            <a:ext cx="4608000" cy="315720"/>
            <a:chOff x="4118040" y="4581360"/>
            <a:chExt cx="4608000" cy="315720"/>
          </a:xfrm>
        </p:grpSpPr>
        <p:sp>
          <p:nvSpPr>
            <p:cNvPr id="229" name="KMATable0TextBox2"/>
            <p:cNvSpPr/>
            <p:nvPr/>
          </p:nvSpPr>
          <p:spPr>
            <a:xfrm>
              <a:off x="4118040" y="458136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Dialog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4118040" y="489708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31" name="Rectangle 19"/>
          <p:cNvSpPr/>
          <p:nvPr/>
        </p:nvSpPr>
        <p:spPr>
          <a:xfrm>
            <a:off x="3940200" y="4917960"/>
            <a:ext cx="475596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og-Plattform für Schweizer Politik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ufbau der Plattform seit April 2010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-übergreifende Plattform mit Teilnehmenden aus allen 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Während Wahlkampf bereits rund 120 aktive Blogger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2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00A8-1842-4DAD-A941-E4CD19FFDCF7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645E-92CB-44AE-9B68-EA8BAE887221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5160" y="347760"/>
            <a:ext cx="7334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möchte eine bessere Schweiz durch bessere politische Entscheidungen 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0" name="Foliennummernplatzhalter 3"/>
          <p:cNvSpPr/>
          <p:nvPr/>
        </p:nvSpPr>
        <p:spPr>
          <a:xfrm>
            <a:off x="6553080" y="6375240"/>
            <a:ext cx="21337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20C7-2883-4FE8-B17E-3271CC59368F}" type="slidenum">
              <a:rPr b="0" i="1" lang="de-CH" sz="1200" spc="-1" strike="noStrike">
                <a:solidFill>
                  <a:srgbClr val="000000"/>
                </a:solidFill>
                <a:latin typeface="AkzidenzGrotesk"/>
                <a:ea typeface="MS Gothic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1247760" y="4702320"/>
            <a:ext cx="77184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Neutr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246320" y="51768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Hohe Qu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292720" y="51768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Leser-/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4" name="Isosceles Triangle 3"/>
          <p:cNvSpPr/>
          <p:nvPr/>
        </p:nvSpPr>
        <p:spPr>
          <a:xfrm>
            <a:off x="1247760" y="1628640"/>
            <a:ext cx="7718400" cy="1482840"/>
          </a:xfrm>
          <a:prstGeom prst="triangle">
            <a:avLst>
              <a:gd name="adj" fmla="val 50000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6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Verbesserung der politischen Entscheidungsfindung zur Erhöhung der Lebensqualität in der Schweiz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5" name="TextBox 20"/>
          <p:cNvSpPr/>
          <p:nvPr/>
        </p:nvSpPr>
        <p:spPr>
          <a:xfrm>
            <a:off x="158760" y="237168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Ziel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6" name="TextBox 21"/>
          <p:cNvSpPr/>
          <p:nvPr/>
        </p:nvSpPr>
        <p:spPr>
          <a:xfrm>
            <a:off x="165240" y="470232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Wer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7" name="TextBox 22"/>
          <p:cNvSpPr/>
          <p:nvPr/>
        </p:nvSpPr>
        <p:spPr>
          <a:xfrm>
            <a:off x="142920" y="3284640"/>
            <a:ext cx="104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Projek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258920" y="3186000"/>
            <a:ext cx="205272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informier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Sich einfach, schnell und neutral zu Abstimmungen und weiteren Themen inform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416400" y="3186000"/>
            <a:ext cx="192888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Umfrag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Abstimmen wie wichtigste Probleme der Schweiz gelöst werden sol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451480" y="3186000"/>
            <a:ext cx="17636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Dialo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Mit Politikern und anderen Bürgern diskut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7323120" y="3186000"/>
            <a:ext cx="16430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Wa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Einfacher und präziser wä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1246320" y="56610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Diskussions- &amp; Feedback-Kultur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5292720" y="56610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Profession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Wieso Wahlhilfe von Vimentis?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05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A7DD-BC56-4511-9C89-B2E73A3EB665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6" name="Text Placeholder 2"/>
          <p:cNvSpPr/>
          <p:nvPr/>
        </p:nvSpPr>
        <p:spPr>
          <a:xfrm>
            <a:off x="468360" y="2050920"/>
            <a:ext cx="3962520" cy="2093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Die meisten unentschlossenen Wähler entscheiden mit einer Wahlhilf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ten geben ca. 1 Mio. Wahl-empfehlungen ab </a:t>
            </a:r>
            <a:br>
              <a:rPr sz="1600"/>
            </a:br>
            <a:r>
              <a:rPr b="0" lang="de-CH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 Immenser Impact auf Ergebn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7" name="Text Placeholder 2"/>
          <p:cNvSpPr/>
          <p:nvPr/>
        </p:nvSpPr>
        <p:spPr>
          <a:xfrm>
            <a:off x="468360" y="5622840"/>
            <a:ext cx="820728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imentis als bekannter, vertrauenswürdiger Partner für einen Stimmenzuwach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8" name="Right Arrow 119"/>
          <p:cNvSpPr/>
          <p:nvPr/>
        </p:nvSpPr>
        <p:spPr>
          <a:xfrm rot="5400000">
            <a:off x="4146840" y="2865960"/>
            <a:ext cx="877680" cy="371484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9" name="Text Placeholder 2"/>
          <p:cNvSpPr/>
          <p:nvPr/>
        </p:nvSpPr>
        <p:spPr>
          <a:xfrm>
            <a:off x="4713120" y="2050920"/>
            <a:ext cx="3962520" cy="1799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z ignoriert Kritik der Parteien, welche den Markeintritt von Vimentis wünsch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Vimentis einzige vollständig integrierte Plattform in Form eines One-Stop-Shop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0" name="Text Placeholder 2"/>
          <p:cNvSpPr/>
          <p:nvPr/>
        </p:nvSpPr>
        <p:spPr>
          <a:xfrm>
            <a:off x="468360" y="156672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n entscheiden die Wah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1" name="Text Placeholder 2"/>
          <p:cNvSpPr/>
          <p:nvPr/>
        </p:nvSpPr>
        <p:spPr>
          <a:xfrm>
            <a:off x="4713120" y="1557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Mission von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4992-45C9-4152-9AA2-F8E7DE21D542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Erfolg: Vimentis «Einfach Wählen» an nationalen Wahlen 2011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0" name="Text Placeholder 2"/>
          <p:cNvSpPr/>
          <p:nvPr/>
        </p:nvSpPr>
        <p:spPr>
          <a:xfrm>
            <a:off x="468360" y="1224000"/>
            <a:ext cx="4013280" cy="5310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Medienpartn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ick (blick.ch, Blick am Abend, Sonntagsblick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argauer Zeitun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Zürcher Oberländ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Basellandschaft, Bern, Fribourg und Thu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SVP 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F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C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liberal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D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irat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frei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LB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a!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da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Konfessionslos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1" name="AutoShape 6"/>
          <p:cNvSpPr/>
          <p:nvPr/>
        </p:nvSpPr>
        <p:spPr>
          <a:xfrm rot="5400000">
            <a:off x="3213000" y="37926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2" name="Text Placeholder 2"/>
          <p:cNvSpPr/>
          <p:nvPr/>
        </p:nvSpPr>
        <p:spPr>
          <a:xfrm>
            <a:off x="5157720" y="3406680"/>
            <a:ext cx="3384720" cy="1119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kzidenzGrotesk"/>
                <a:ea typeface="Arial"/>
              </a:rPr>
              <a:t>~ 75’000 Wahlempfehlungen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3" name="Text Placeholder 2"/>
          <p:cNvSpPr/>
          <p:nvPr/>
        </p:nvSpPr>
        <p:spPr>
          <a:xfrm>
            <a:off x="5148360" y="1879560"/>
            <a:ext cx="3384360" cy="5414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 </a:t>
            </a: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8 Medienmitteilunge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4" name="Text Placeholder 2"/>
          <p:cNvSpPr/>
          <p:nvPr/>
        </p:nvSpPr>
        <p:spPr>
          <a:xfrm>
            <a:off x="5148360" y="5511960"/>
            <a:ext cx="3384360" cy="7077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Wissenschaftlich fundierte Methodik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5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C02D-98E3-4286-B2C0-398BAFBFA0AE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ast alle Parteien arbeiteten eng mit Vimentis zusamm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7" name="Right Arrow 119"/>
          <p:cNvSpPr/>
          <p:nvPr/>
        </p:nvSpPr>
        <p:spPr>
          <a:xfrm>
            <a:off x="4616280" y="982800"/>
            <a:ext cx="1644840" cy="5541840"/>
          </a:xfrm>
          <a:prstGeom prst="rightArrow">
            <a:avLst>
              <a:gd name="adj1" fmla="val 40944"/>
              <a:gd name="adj2" fmla="val 58014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Kandidaten-Info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Parteiprofil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28" name="Grafik 10" descr="Nur Schweiz.jpg"/>
          <p:cNvPicPr/>
          <p:nvPr/>
        </p:nvPicPr>
        <p:blipFill>
          <a:blip r:embed="rId1"/>
          <a:stretch/>
        </p:blipFill>
        <p:spPr>
          <a:xfrm>
            <a:off x="6683400" y="2624040"/>
            <a:ext cx="192888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72" descr="einfach wählen ohne signet_4c.png"/>
          <p:cNvPicPr/>
          <p:nvPr/>
        </p:nvPicPr>
        <p:blipFill>
          <a:blip r:embed="rId2"/>
          <a:srcRect l="10143" t="0" r="0" b="0"/>
          <a:stretch/>
        </p:blipFill>
        <p:spPr>
          <a:xfrm>
            <a:off x="6413400" y="3909960"/>
            <a:ext cx="2413080" cy="596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LogoCVP05d"/>
          <p:cNvPicPr/>
          <p:nvPr/>
        </p:nvPicPr>
        <p:blipFill>
          <a:blip r:embed="rId3"/>
          <a:stretch/>
        </p:blipFill>
        <p:spPr>
          <a:xfrm>
            <a:off x="325440" y="2859120"/>
            <a:ext cx="752400" cy="601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logo_deutsch"/>
          <p:cNvPicPr/>
          <p:nvPr/>
        </p:nvPicPr>
        <p:blipFill>
          <a:blip r:embed="rId4"/>
          <a:stretch/>
        </p:blipFill>
        <p:spPr>
          <a:xfrm>
            <a:off x="1887480" y="1325520"/>
            <a:ext cx="1133640" cy="600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sp"/>
          <p:cNvPicPr/>
          <p:nvPr/>
        </p:nvPicPr>
        <p:blipFill>
          <a:blip r:embed="rId5"/>
          <a:stretch/>
        </p:blipFill>
        <p:spPr>
          <a:xfrm>
            <a:off x="333360" y="3807000"/>
            <a:ext cx="907920" cy="401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107"/>
          <p:cNvPicPr/>
          <p:nvPr/>
        </p:nvPicPr>
        <p:blipFill>
          <a:blip r:embed="rId6"/>
          <a:stretch/>
        </p:blipFill>
        <p:spPr>
          <a:xfrm>
            <a:off x="333360" y="4357800"/>
            <a:ext cx="1190520" cy="952560"/>
          </a:xfrm>
          <a:prstGeom prst="rect">
            <a:avLst/>
          </a:prstGeom>
          <a:ln w="0">
            <a:noFill/>
          </a:ln>
        </p:spPr>
      </p:pic>
      <p:pic>
        <p:nvPicPr>
          <p:cNvPr id="134" name="Grafik 4" descr=""/>
          <p:cNvPicPr/>
          <p:nvPr/>
        </p:nvPicPr>
        <p:blipFill>
          <a:blip r:embed="rId7"/>
          <a:stretch/>
        </p:blipFill>
        <p:spPr>
          <a:xfrm>
            <a:off x="3311640" y="5119560"/>
            <a:ext cx="1369800" cy="532080"/>
          </a:xfrm>
          <a:prstGeom prst="rect">
            <a:avLst/>
          </a:prstGeom>
          <a:ln w="0">
            <a:noFill/>
          </a:ln>
        </p:spPr>
      </p:pic>
      <p:pic>
        <p:nvPicPr>
          <p:cNvPr id="135" name="Grafik 5" descr=""/>
          <p:cNvPicPr/>
          <p:nvPr/>
        </p:nvPicPr>
        <p:blipFill>
          <a:blip r:embed="rId8"/>
          <a:stretch/>
        </p:blipFill>
        <p:spPr>
          <a:xfrm>
            <a:off x="258840" y="1338120"/>
            <a:ext cx="901800" cy="574920"/>
          </a:xfrm>
          <a:prstGeom prst="rect">
            <a:avLst/>
          </a:prstGeom>
          <a:ln w="0">
            <a:noFill/>
          </a:ln>
        </p:spPr>
      </p:pic>
      <p:pic>
        <p:nvPicPr>
          <p:cNvPr id="136" name="Grafik 6" descr=""/>
          <p:cNvPicPr/>
          <p:nvPr/>
        </p:nvPicPr>
        <p:blipFill>
          <a:blip r:embed="rId9"/>
          <a:stretch/>
        </p:blipFill>
        <p:spPr>
          <a:xfrm>
            <a:off x="3664080" y="1535040"/>
            <a:ext cx="974520" cy="390600"/>
          </a:xfrm>
          <a:prstGeom prst="rect">
            <a:avLst/>
          </a:prstGeom>
          <a:ln w="0">
            <a:noFill/>
          </a:ln>
        </p:spPr>
      </p:pic>
      <p:pic>
        <p:nvPicPr>
          <p:cNvPr id="137" name="Grafik 7" descr=""/>
          <p:cNvPicPr/>
          <p:nvPr/>
        </p:nvPicPr>
        <p:blipFill>
          <a:blip r:embed="rId10"/>
          <a:stretch/>
        </p:blipFill>
        <p:spPr>
          <a:xfrm>
            <a:off x="2862360" y="2803680"/>
            <a:ext cx="1504800" cy="331560"/>
          </a:xfrm>
          <a:prstGeom prst="rect">
            <a:avLst/>
          </a:prstGeom>
          <a:ln w="0">
            <a:noFill/>
          </a:ln>
        </p:spPr>
      </p:pic>
      <p:pic>
        <p:nvPicPr>
          <p:cNvPr id="138" name="Grafik 8" descr=""/>
          <p:cNvPicPr/>
          <p:nvPr/>
        </p:nvPicPr>
        <p:blipFill>
          <a:blip r:embed="rId11"/>
          <a:stretch/>
        </p:blipFill>
        <p:spPr>
          <a:xfrm>
            <a:off x="333360" y="5335560"/>
            <a:ext cx="1401840" cy="561960"/>
          </a:xfrm>
          <a:prstGeom prst="rect">
            <a:avLst/>
          </a:prstGeom>
          <a:ln w="0">
            <a:noFill/>
          </a:ln>
        </p:spPr>
      </p:pic>
      <p:pic>
        <p:nvPicPr>
          <p:cNvPr id="139" name="Grafik 9" descr=""/>
          <p:cNvPicPr/>
          <p:nvPr/>
        </p:nvPicPr>
        <p:blipFill>
          <a:blip r:embed="rId12"/>
          <a:stretch/>
        </p:blipFill>
        <p:spPr>
          <a:xfrm>
            <a:off x="473040" y="6091200"/>
            <a:ext cx="1376280" cy="433440"/>
          </a:xfrm>
          <a:prstGeom prst="rect">
            <a:avLst/>
          </a:prstGeom>
          <a:ln w="0">
            <a:noFill/>
          </a:ln>
        </p:spPr>
      </p:pic>
      <p:pic>
        <p:nvPicPr>
          <p:cNvPr id="140" name="Grafik 1" descr=""/>
          <p:cNvPicPr/>
          <p:nvPr/>
        </p:nvPicPr>
        <p:blipFill>
          <a:blip r:embed="rId13"/>
          <a:stretch/>
        </p:blipFill>
        <p:spPr>
          <a:xfrm>
            <a:off x="2454120" y="6039000"/>
            <a:ext cx="1729080" cy="537840"/>
          </a:xfrm>
          <a:prstGeom prst="rect">
            <a:avLst/>
          </a:prstGeom>
          <a:ln w="0">
            <a:noFill/>
          </a:ln>
        </p:spPr>
      </p:pic>
      <p:pic>
        <p:nvPicPr>
          <p:cNvPr id="141" name="Grafik 2" descr=""/>
          <p:cNvPicPr/>
          <p:nvPr/>
        </p:nvPicPr>
        <p:blipFill>
          <a:blip r:embed="rId14"/>
          <a:stretch/>
        </p:blipFill>
        <p:spPr>
          <a:xfrm>
            <a:off x="325440" y="1730520"/>
            <a:ext cx="1138320" cy="1137960"/>
          </a:xfrm>
          <a:prstGeom prst="rect">
            <a:avLst/>
          </a:prstGeom>
          <a:ln w="0">
            <a:noFill/>
          </a:ln>
        </p:spPr>
      </p:pic>
      <p:pic>
        <p:nvPicPr>
          <p:cNvPr id="142" name="Grafik 4" descr=""/>
          <p:cNvPicPr/>
          <p:nvPr/>
        </p:nvPicPr>
        <p:blipFill>
          <a:blip r:embed="rId15"/>
          <a:stretch/>
        </p:blipFill>
        <p:spPr>
          <a:xfrm>
            <a:off x="3176640" y="2179800"/>
            <a:ext cx="1338120" cy="239400"/>
          </a:xfrm>
          <a:prstGeom prst="rect">
            <a:avLst/>
          </a:prstGeom>
          <a:ln w="0">
            <a:noFill/>
          </a:ln>
        </p:spPr>
      </p:pic>
      <p:pic>
        <p:nvPicPr>
          <p:cNvPr id="143" name="Grafik 5" descr=""/>
          <p:cNvPicPr/>
          <p:nvPr/>
        </p:nvPicPr>
        <p:blipFill>
          <a:blip r:embed="rId16"/>
          <a:stretch/>
        </p:blipFill>
        <p:spPr>
          <a:xfrm>
            <a:off x="3665520" y="3706920"/>
            <a:ext cx="627120" cy="603000"/>
          </a:xfrm>
          <a:prstGeom prst="rect">
            <a:avLst/>
          </a:prstGeom>
          <a:ln w="0">
            <a:noFill/>
          </a:ln>
        </p:spPr>
      </p:pic>
      <p:pic>
        <p:nvPicPr>
          <p:cNvPr id="144" name="Grafik 6" descr=""/>
          <p:cNvPicPr/>
          <p:nvPr/>
        </p:nvPicPr>
        <p:blipFill>
          <a:blip r:embed="rId17"/>
          <a:stretch/>
        </p:blipFill>
        <p:spPr>
          <a:xfrm>
            <a:off x="1932120" y="4165560"/>
            <a:ext cx="1353960" cy="507960"/>
          </a:xfrm>
          <a:prstGeom prst="rect">
            <a:avLst/>
          </a:prstGeom>
          <a:ln w="0">
            <a:noFill/>
          </a:ln>
        </p:spPr>
      </p:pic>
      <p:sp>
        <p:nvSpPr>
          <p:cNvPr id="145" name="Foliennummernplatzhalter 7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6D27-A298-48AB-881C-2BA9AD570ACD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46" name="Textfeld 10"/>
          <p:cNvSpPr/>
          <p:nvPr/>
        </p:nvSpPr>
        <p:spPr>
          <a:xfrm rot="1357800">
            <a:off x="6112440" y="1420920"/>
            <a:ext cx="2430720" cy="778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500" spc="-1" strike="noStrike">
                <a:solidFill>
                  <a:srgbClr val="000000"/>
                </a:solidFill>
                <a:latin typeface="AkzidenzGrotesk"/>
              </a:rPr>
              <a:t>«Wir würden am liebsten nur bei Vimentis mitmachen!»</a:t>
            </a:r>
            <a:endParaRPr b="1" i="1" lang="en-US" sz="15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7" name="Grafik 2" descr=""/>
          <p:cNvPicPr/>
          <p:nvPr/>
        </p:nvPicPr>
        <p:blipFill>
          <a:blip r:embed="rId18"/>
          <a:stretch/>
        </p:blipFill>
        <p:spPr>
          <a:xfrm>
            <a:off x="2289240" y="5099040"/>
            <a:ext cx="731880" cy="573120"/>
          </a:xfrm>
          <a:prstGeom prst="rect">
            <a:avLst/>
          </a:prstGeom>
          <a:ln w="0">
            <a:noFill/>
          </a:ln>
        </p:spPr>
      </p:pic>
      <p:sp>
        <p:nvSpPr>
          <p:cNvPr id="148" name="Textfeld 2"/>
          <p:cNvSpPr/>
          <p:nvPr/>
        </p:nvSpPr>
        <p:spPr>
          <a:xfrm>
            <a:off x="2289240" y="5672160"/>
            <a:ext cx="73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9" name="Grafik 3" descr=""/>
          <p:cNvPicPr/>
          <p:nvPr/>
        </p:nvPicPr>
        <p:blipFill>
          <a:blip r:embed="rId19"/>
          <a:stretch/>
        </p:blipFill>
        <p:spPr>
          <a:xfrm>
            <a:off x="1523880" y="2251080"/>
            <a:ext cx="1038240" cy="554040"/>
          </a:xfrm>
          <a:prstGeom prst="rect">
            <a:avLst/>
          </a:prstGeom>
          <a:ln w="0">
            <a:noFill/>
          </a:ln>
        </p:spPr>
      </p:pic>
      <p:sp>
        <p:nvSpPr>
          <p:cNvPr id="150" name="Textfeld 5"/>
          <p:cNvSpPr/>
          <p:nvPr/>
        </p:nvSpPr>
        <p:spPr>
          <a:xfrm>
            <a:off x="1562040" y="2768760"/>
            <a:ext cx="1125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asellan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er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Fribour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Thurgau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Starke Medienpartnerschaften für starke Präsenz Ihrer Kandidat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52" name="Right Arrow 119"/>
          <p:cNvSpPr/>
          <p:nvPr/>
        </p:nvSpPr>
        <p:spPr>
          <a:xfrm>
            <a:off x="2997360" y="1474920"/>
            <a:ext cx="1182600" cy="371448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153" name="Gruppieren 19"/>
          <p:cNvGrpSpPr/>
          <p:nvPr/>
        </p:nvGrpSpPr>
        <p:grpSpPr>
          <a:xfrm>
            <a:off x="293760" y="2282760"/>
            <a:ext cx="2531880" cy="1882800"/>
            <a:chOff x="293760" y="2282760"/>
            <a:chExt cx="2531880" cy="1882800"/>
          </a:xfrm>
        </p:grpSpPr>
        <p:pic>
          <p:nvPicPr>
            <p:cNvPr id="154" name="Grafik 10" descr="Nur Schweiz.jpg"/>
            <p:cNvPicPr/>
            <p:nvPr/>
          </p:nvPicPr>
          <p:blipFill>
            <a:blip r:embed="rId1"/>
            <a:stretch/>
          </p:blipFill>
          <p:spPr>
            <a:xfrm>
              <a:off x="579240" y="2282760"/>
              <a:ext cx="1928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272" descr="einfach wählen ohne signet_4c.png"/>
            <p:cNvPicPr/>
            <p:nvPr/>
          </p:nvPicPr>
          <p:blipFill>
            <a:blip r:embed="rId2"/>
            <a:srcRect l="10138" t="0" r="0" b="0"/>
            <a:stretch/>
          </p:blipFill>
          <p:spPr>
            <a:xfrm>
              <a:off x="293760" y="3568680"/>
              <a:ext cx="2531880" cy="59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Grafik 21" descr=""/>
          <p:cNvPicPr/>
          <p:nvPr/>
        </p:nvPicPr>
        <p:blipFill>
          <a:blip r:embed="rId3"/>
          <a:stretch/>
        </p:blipFill>
        <p:spPr>
          <a:xfrm>
            <a:off x="6275520" y="2324160"/>
            <a:ext cx="1349280" cy="774720"/>
          </a:xfrm>
          <a:prstGeom prst="rect">
            <a:avLst/>
          </a:prstGeom>
          <a:ln w="0">
            <a:noFill/>
          </a:ln>
        </p:spPr>
      </p:pic>
      <p:pic>
        <p:nvPicPr>
          <p:cNvPr id="157" name="Grafik 239" descr=""/>
          <p:cNvPicPr/>
          <p:nvPr/>
        </p:nvPicPr>
        <p:blipFill>
          <a:blip r:embed="rId4"/>
          <a:stretch/>
        </p:blipFill>
        <p:spPr>
          <a:xfrm>
            <a:off x="4911840" y="4160880"/>
            <a:ext cx="3362040" cy="390600"/>
          </a:xfrm>
          <a:prstGeom prst="rect">
            <a:avLst/>
          </a:prstGeom>
          <a:ln w="0">
            <a:noFill/>
          </a:ln>
        </p:spPr>
      </p:pic>
      <p:sp>
        <p:nvSpPr>
          <p:cNvPr id="158" name="Abgerundetes Rechteck 13"/>
          <p:cNvSpPr/>
          <p:nvPr/>
        </p:nvSpPr>
        <p:spPr>
          <a:xfrm>
            <a:off x="3807000" y="5587920"/>
            <a:ext cx="2387520" cy="77940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-Partnerschaften für Kantonsratswahlen in Verhandlun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9" name="Abgerundetes Rechteck 13"/>
          <p:cNvSpPr/>
          <p:nvPr/>
        </p:nvSpPr>
        <p:spPr>
          <a:xfrm>
            <a:off x="3807000" y="1224000"/>
            <a:ext cx="2387520" cy="58572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partner der nationalen Wahlen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60" name="Picture 16" descr=""/>
          <p:cNvPicPr/>
          <p:nvPr/>
        </p:nvPicPr>
        <p:blipFill>
          <a:blip r:embed="rId5"/>
          <a:stretch/>
        </p:blipFill>
        <p:spPr>
          <a:xfrm>
            <a:off x="6440400" y="3292560"/>
            <a:ext cx="1974960" cy="676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" descr=""/>
          <p:cNvPicPr/>
          <p:nvPr/>
        </p:nvPicPr>
        <p:blipFill>
          <a:blip r:embed="rId6"/>
          <a:stretch/>
        </p:blipFill>
        <p:spPr>
          <a:xfrm>
            <a:off x="4859280" y="2325600"/>
            <a:ext cx="1393920" cy="816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8" descr=""/>
          <p:cNvPicPr/>
          <p:nvPr/>
        </p:nvPicPr>
        <p:blipFill>
          <a:blip r:embed="rId7"/>
          <a:stretch/>
        </p:blipFill>
        <p:spPr>
          <a:xfrm>
            <a:off x="4849920" y="3168720"/>
            <a:ext cx="1363680" cy="799920"/>
          </a:xfrm>
          <a:prstGeom prst="rect">
            <a:avLst/>
          </a:prstGeom>
          <a:ln w="0">
            <a:noFill/>
          </a:ln>
        </p:spPr>
      </p:pic>
      <p:sp>
        <p:nvSpPr>
          <p:cNvPr id="16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60D4-E83B-401D-B7ED-E10DE5BDCC2C}" type="slidenum">
              <a:rPr b="0" lang="de-CH" sz="1000" spc="-1" strike="noStrike">
                <a:solidFill>
                  <a:srgbClr val="000000"/>
                </a:solidFill>
                <a:latin typeface="AkzidenzGrotesk-Light"/>
                <a:ea typeface="ＭＳ Ｐゴシック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4" name="Textfeld 239"/>
          <p:cNvSpPr/>
          <p:nvPr/>
        </p:nvSpPr>
        <p:spPr>
          <a:xfrm rot="1357800">
            <a:off x="6593040" y="1808280"/>
            <a:ext cx="2430360" cy="459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Wir arbeiten immer wieder gern mit Vimentis zusammen.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5" name="Textfeld 240"/>
          <p:cNvSpPr/>
          <p:nvPr/>
        </p:nvSpPr>
        <p:spPr>
          <a:xfrm rot="20626200">
            <a:off x="6378480" y="4779000"/>
            <a:ext cx="2527200" cy="641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Die Mit-Gestaltung des Fragebogens schätzten wir sehr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A5F5-9C2B-4F66-8996-466E0FAADF64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«Einfach Wählen» als notwendiger Faktor für Wiederwahl an nationalen Wahlen 2011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8" name="Text Placeholder 2"/>
          <p:cNvSpPr/>
          <p:nvPr/>
        </p:nvSpPr>
        <p:spPr>
          <a:xfrm>
            <a:off x="2386080" y="1854360"/>
            <a:ext cx="4373640" cy="1555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on den bisherigen, nicht mehr gewählten Kandidaten haben nur 50%  den Fragebogen ausgefüllt, bei den neu gewählten waren es 80%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9" name="AutoShape 6"/>
          <p:cNvSpPr/>
          <p:nvPr/>
        </p:nvSpPr>
        <p:spPr>
          <a:xfrm rot="10800000">
            <a:off x="3027240" y="37782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0" name="Text Placeholder 2"/>
          <p:cNvSpPr/>
          <p:nvPr/>
        </p:nvSpPr>
        <p:spPr>
          <a:xfrm>
            <a:off x="2414520" y="441792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Teilnahme bei Vimentis erhöht die Chance zur (Wieder-) Wahl 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6:51:52Z</dcterms:created>
  <dc:creator>master</dc:creator>
  <dc:description/>
  <dc:language>en-US</dc:language>
  <cp:lastModifiedBy>Romana</cp:lastModifiedBy>
  <cp:lastPrinted>2011-11-18T14:16:01Z</cp:lastPrinted>
  <dcterms:modified xsi:type="dcterms:W3CDTF">2011-11-22T19:29:37Z</dcterms:modified>
  <cp:revision>2448</cp:revision>
  <dc:subject/>
  <dc:title>5. ordentlichen Generalversammlu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Event">
    <vt:lpwstr/>
  </property>
  <property fmtid="{D5CDD505-2E9C-101B-9397-08002B2CF9AE}" pid="4" name="Final">
    <vt:bool>1</vt:bool>
  </property>
  <property fmtid="{D5CDD505-2E9C-101B-9397-08002B2CF9AE}" pid="5" name="NotesPageLayout">
    <vt:lpwstr>Message</vt:lpwstr>
  </property>
  <property fmtid="{D5CDD505-2E9C-101B-9397-08002B2CF9AE}" pid="6" name="Title">
    <vt:lpwstr>5. ordentlichen Generalversammlung</vt:lpwstr>
  </property>
  <property fmtid="{D5CDD505-2E9C-101B-9397-08002B2CF9AE}" pid="7" name="docid">
    <vt:lpwstr/>
  </property>
</Properties>
</file>