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wmf" ContentType="image/x-wmf"/>
  <Override PartName="/ppt/media/image14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9.png" ContentType="image/png"/>
  <Override PartName="/ppt/media/image1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5.png" ContentType="image/png"/>
  <Override PartName="/ppt/media/image28.png" ContentType="image/png"/>
  <Override PartName="/ppt/media/image18.png" ContentType="image/png"/>
  <Override PartName="/ppt/media/image15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644B5-8B82-497A-AE44-B6BBABF165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A70C2-2B34-43BB-8F64-0421D7CE62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5128F-C4F1-45EE-AA51-0CF9A4B84D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069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48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069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43888-23B4-469C-BB67-AEF2EC19AC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22F87-7C18-4F8D-BD4C-8896F300348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7F000-9402-43D1-A585-3A85DF0CF8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D2E0A-4010-49BC-976E-047736B62C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97CD7-FF4D-4744-A4AD-69CED630C3C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390EA-B9F1-411D-A943-9E86A76233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692360" y="347760"/>
            <a:ext cx="69832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20C54-8D1E-4B1A-8953-6CD88F586B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EA730-A482-4205-83EC-67C2283441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0C7D9-8289-4406-B773-44FB367190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070DE-ADE4-4AE0-A4A2-31B5335BDB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13E8E-4555-4DA7-B76A-C024DDBB4A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49122-E3A2-4866-9A7F-0FF0FD3FB4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BA492-D24A-4FEC-AAAE-A49D96F5D8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69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748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69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4A549-1C28-4FC1-886E-C8773AEDFB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5074D-0F59-442E-AACF-D2135EDC30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9B2BA-CE81-4A1D-98C1-6A94318F63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C899A-9C17-413E-8554-F19D9E7EE5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92360" y="347760"/>
            <a:ext cx="69832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5563F-B86B-40FC-9096-CFBD266E83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408EC-4D31-4E42-8A5F-2EE79007A7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E342E-0C84-4E6A-8883-3CE4EB47F3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74E03-2A8D-4F97-BCEE-73996747C7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marL="343080" indent="-34308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2" marL="343080" indent="-343080">
              <a:spcBef>
                <a:spcPts val="400"/>
              </a:spcBef>
              <a:buClr>
                <a:srgbClr val="335fa8"/>
              </a:buClr>
              <a:buFont typeface="AkzidenzGrotes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3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4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fa8"/>
                </a:solidFill>
                <a:latin typeface="AkzidenzGrotesk"/>
              </a:rPr>
              <a:t>Click to edit the title text format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pic>
        <p:nvPicPr>
          <p:cNvPr id="2" name="Grafik 10" descr="Nur Schweiz.jpg"/>
          <p:cNvPicPr/>
          <p:nvPr/>
        </p:nvPicPr>
        <p:blipFill>
          <a:blip r:embed="rId2"/>
          <a:stretch/>
        </p:blipFill>
        <p:spPr>
          <a:xfrm>
            <a:off x="468360" y="426960"/>
            <a:ext cx="1044360" cy="61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597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000000"/>
                </a:solidFill>
                <a:latin typeface="AkzidenzGrotesk-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2A99-DD82-458E-B38E-E280EC62BA33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Umfrage"/>
          <p:cNvPicPr/>
          <p:nvPr/>
        </p:nvPicPr>
        <p:blipFill>
          <a:blip r:embed="rId2"/>
          <a:srcRect l="0" t="0" r="23632" b="0"/>
          <a:stretch/>
        </p:blipFill>
        <p:spPr>
          <a:xfrm>
            <a:off x="468360" y="907920"/>
            <a:ext cx="6551640" cy="9781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marL="343080" indent="-34308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2" marL="343080" indent="-343080">
              <a:spcBef>
                <a:spcPts val="400"/>
              </a:spcBef>
              <a:buClr>
                <a:srgbClr val="335fa8"/>
              </a:buClr>
              <a:buFont typeface="AkzidenzGrotes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3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4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fa8"/>
                </a:solidFill>
                <a:latin typeface="AkzidenzGrotesk"/>
              </a:rPr>
              <a:t>Click to edit the title text format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552720" y="6597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000000"/>
                </a:solidFill>
                <a:latin typeface="AkzidenzGrotesk-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7F09-E3B6-41FA-9B32-57269CF2AC63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jpe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jpeg"/><Relationship Id="rId18" Type="http://schemas.openxmlformats.org/officeDocument/2006/relationships/image" Target="../media/image20.jpeg"/><Relationship Id="rId19" Type="http://schemas.openxmlformats.org/officeDocument/2006/relationships/image" Target="../media/image21.jpeg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54016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335fa8"/>
                </a:solidFill>
                <a:latin typeface="AkzidenzGrotesk"/>
              </a:rPr>
              <a:t>Zusammenarbeit </a:t>
            </a:r>
            <a:br>
              <a:rPr sz="3000"/>
            </a:br>
            <a:r>
              <a:rPr b="1" lang="de-CH" sz="3000" spc="-1" strike="noStrike">
                <a:solidFill>
                  <a:srgbClr val="335fa8"/>
                </a:solidFill>
                <a:latin typeface="AkzidenzGrotesk"/>
              </a:rPr>
              <a:t>Piratenpartei – Vimentis</a:t>
            </a:r>
            <a:endParaRPr b="1" lang="en-US" sz="30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68360" y="422100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St.Gallen, November 2011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5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C068D-F5A0-4C41-A387-A17BA28681F7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730872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Integrierte Lösung: Vimentis als einziger One-Stop-Shop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79" name="Text Placeholder 2"/>
          <p:cNvSpPr/>
          <p:nvPr/>
        </p:nvSpPr>
        <p:spPr>
          <a:xfrm>
            <a:off x="2322360" y="129240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Wahlhilfe: «Einfach Wählen» generiert Partei- und Kandidatenvorschläg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0" name="Text Placeholder 2"/>
          <p:cNvSpPr/>
          <p:nvPr/>
        </p:nvSpPr>
        <p:spPr>
          <a:xfrm>
            <a:off x="2314440" y="2889360"/>
            <a:ext cx="4373640" cy="1018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Parteiprofile: Informiert Wählen dank vertieften Partei- und Kandidatenprofi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1" name="Text Placeholder 2"/>
          <p:cNvSpPr/>
          <p:nvPr/>
        </p:nvSpPr>
        <p:spPr>
          <a:xfrm>
            <a:off x="2365200" y="4508640"/>
            <a:ext cx="437364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Blogs von Kandidat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2" name="Plus 199"/>
          <p:cNvSpPr/>
          <p:nvPr/>
        </p:nvSpPr>
        <p:spPr>
          <a:xfrm>
            <a:off x="4238640" y="2214720"/>
            <a:ext cx="571320" cy="572760"/>
          </a:xfrm>
          <a:custGeom>
            <a:avLst/>
            <a:gdLst>
              <a:gd name="textAreaLeft" fmla="*/ 75600 w 571320"/>
              <a:gd name="textAreaRight" fmla="*/ 495720 w 571320"/>
              <a:gd name="textAreaTop" fmla="*/ 219240 h 572760"/>
              <a:gd name="textAreaBottom" fmla="*/ 353520 h 572760"/>
            </a:gdLst>
            <a:ahLst/>
            <a:rect l="textAreaLeft" t="textAreaTop" r="textAreaRight" b="textAreaBottom"/>
            <a:pathLst>
              <a:path w="571500" h="573087">
                <a:moveTo>
                  <a:pt x="75752" y="219335"/>
                </a:moveTo>
                <a:lnTo>
                  <a:pt x="218542" y="219335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5"/>
                </a:lnTo>
                <a:lnTo>
                  <a:pt x="495748" y="219335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4"/>
                </a:lnTo>
                <a:lnTo>
                  <a:pt x="218542" y="497124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3" name="Plus 200"/>
          <p:cNvSpPr/>
          <p:nvPr/>
        </p:nvSpPr>
        <p:spPr>
          <a:xfrm>
            <a:off x="4267080" y="3833640"/>
            <a:ext cx="571680" cy="573120"/>
          </a:xfrm>
          <a:custGeom>
            <a:avLst/>
            <a:gdLst>
              <a:gd name="textAreaLeft" fmla="*/ 75600 w 571680"/>
              <a:gd name="textAreaRight" fmla="*/ 496080 w 571680"/>
              <a:gd name="textAreaTop" fmla="*/ 219240 h 573120"/>
              <a:gd name="textAreaBottom" fmla="*/ 353880 h 573120"/>
            </a:gdLst>
            <a:ahLst/>
            <a:rect l="textAreaLeft" t="textAreaTop" r="textAreaRight" b="textAreaBottom"/>
            <a:pathLst>
              <a:path w="571500" h="573087">
                <a:moveTo>
                  <a:pt x="75752" y="219335"/>
                </a:moveTo>
                <a:lnTo>
                  <a:pt x="218542" y="219335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5"/>
                </a:lnTo>
                <a:lnTo>
                  <a:pt x="495748" y="219335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4"/>
                </a:lnTo>
                <a:lnTo>
                  <a:pt x="218542" y="497124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4" name="Foliennummernplatzhalter 6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F5E6-C55D-4DE5-BBA2-959204FB476E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5" name="Plus 197"/>
          <p:cNvSpPr/>
          <p:nvPr/>
        </p:nvSpPr>
        <p:spPr>
          <a:xfrm>
            <a:off x="4267080" y="5184720"/>
            <a:ext cx="571680" cy="573120"/>
          </a:xfrm>
          <a:custGeom>
            <a:avLst/>
            <a:gdLst>
              <a:gd name="textAreaLeft" fmla="*/ 75600 w 571680"/>
              <a:gd name="textAreaRight" fmla="*/ 496080 w 571680"/>
              <a:gd name="textAreaTop" fmla="*/ 219240 h 573120"/>
              <a:gd name="textAreaBottom" fmla="*/ 353880 h 573120"/>
            </a:gdLst>
            <a:ahLst/>
            <a:rect l="textAreaLeft" t="textAreaTop" r="textAreaRight" b="textAreaBottom"/>
            <a:pathLst>
              <a:path w="571500" h="573088">
                <a:moveTo>
                  <a:pt x="75752" y="219336"/>
                </a:moveTo>
                <a:lnTo>
                  <a:pt x="218542" y="219336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6"/>
                </a:lnTo>
                <a:lnTo>
                  <a:pt x="495748" y="219336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5"/>
                </a:lnTo>
                <a:lnTo>
                  <a:pt x="218542" y="497125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6" name="Text Placeholder 2"/>
          <p:cNvSpPr/>
          <p:nvPr/>
        </p:nvSpPr>
        <p:spPr>
          <a:xfrm>
            <a:off x="2365200" y="590400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Starke Partner um Neuwähler zu akquirier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Unsere Vorteile sind ihre Vorteile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88" name="Text Placeholder 2"/>
          <p:cNvSpPr/>
          <p:nvPr/>
        </p:nvSpPr>
        <p:spPr>
          <a:xfrm>
            <a:off x="468360" y="1557360"/>
            <a:ext cx="3816360" cy="331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Was unterscheidet Vimentis «Einfach Wählen»?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Grosser Nutzerstamm mit starkem Vertrauen in Vimentis als einzige integrierte Homepage mit Wahlhilfe, Blogs, Abstimmungsinfos, etc.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Höhere Benutzerfreundlichkei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Höhere Transparenz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Stärkere Einbindung der Parteien bei Fragebogen, Parteiportraits, etc.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Günstigerer Prei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9" name="AutoShape 6"/>
          <p:cNvSpPr/>
          <p:nvPr/>
        </p:nvSpPr>
        <p:spPr>
          <a:xfrm rot="5400000">
            <a:off x="3055680" y="3040200"/>
            <a:ext cx="3090600" cy="347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0" name="Text Placeholder 2"/>
          <p:cNvSpPr/>
          <p:nvPr/>
        </p:nvSpPr>
        <p:spPr>
          <a:xfrm>
            <a:off x="4941720" y="1557360"/>
            <a:ext cx="3745080" cy="331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Sie und ihre Kandidaten profitieren durch: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Weite Präsenz der Kandidaten 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Feedback–Möglichkeit auf Fragebog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Konkurrenz sichert langfristig Innovation, Kundenfokussierung und günstigeren Prei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Kandidaten können mit Blogs Ihre Wahlkampf-Themen aktiv propag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1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14C48-CF89-4101-8722-06A3CFEA3CE4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5649C-2A88-4EA6-A397-25BA5675039E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ngebot an die Piratenpartei St.Gall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00" name="Foliennummernplatzhalter 3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738A-76BA-4E3D-8014-C65B917F6DC0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1" name="Text Placeholder 2"/>
          <p:cNvSpPr/>
          <p:nvPr/>
        </p:nvSpPr>
        <p:spPr>
          <a:xfrm>
            <a:off x="442800" y="117936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Angebot 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2" name="Text Placeholder 2"/>
          <p:cNvSpPr/>
          <p:nvPr/>
        </p:nvSpPr>
        <p:spPr>
          <a:xfrm>
            <a:off x="4572000" y="1187280"/>
            <a:ext cx="391464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Leistung  Piratenpartei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3" name="Text Placeholder 2"/>
          <p:cNvSpPr/>
          <p:nvPr/>
        </p:nvSpPr>
        <p:spPr>
          <a:xfrm>
            <a:off x="438120" y="1712880"/>
            <a:ext cx="3967200" cy="504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72000" tIns="144000" bIns="144000" anchor="t">
            <a:spAutoFit/>
          </a:bodyPr>
          <a:p>
            <a:pPr marL="285840" indent="-285840">
              <a:buSzPct val="1129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Nutzung Vimentis Wahlen-Tool für alle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 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Kandidaten der Piratenpartei St.Gallen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kostenlos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Einbindung auf Vimentis.ch sowie allen Medienpartnern 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Gratis-Profil für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alle Kandidat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Blogs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für alle Kandidat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Persönliche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Kandidatenbetreuung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bis hin zu den Wah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Spider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und politische Landkarte aller Kandidaten und Partei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Parteiportrait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Möglichkeit zur Einbindung von Blogs und Kandidatenprofile auf parteieigener Homepage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Möglichkeit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 Feedback zum Fragebogen 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zu geb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4" name="Text Placeholder 2"/>
          <p:cNvSpPr/>
          <p:nvPr/>
        </p:nvSpPr>
        <p:spPr>
          <a:xfrm>
            <a:off x="4572000" y="1711440"/>
            <a:ext cx="3914640" cy="469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noAutofit/>
          </a:bodyPr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Preis: 100 Fr. pro gewonnenem Sitz der Piratenpartei St.Gal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liefert Liste mit allen Kandidaten bis 05.12.2011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sendet eine personalisierte Nachricht an alle Ihre Kandidaten und fordert diese auf, den Fragebogen auszufül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empfiehlt Ihren Kandidaten die Blog-Plattform von Vimentis zu nutz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beantwortet 10 Fragen zur Erstellung des Parteiportrait von Vimentis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8ED5D-5D5E-4F85-BE34-3A8F03C32F8C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1700280" y="5229360"/>
            <a:ext cx="5613480" cy="72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Zeitplan</a:t>
            </a: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Zeitpla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13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BAEE-8AB3-43E3-B0A4-2752746094D9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4" name="Text Placeholder 2"/>
          <p:cNvSpPr/>
          <p:nvPr/>
        </p:nvSpPr>
        <p:spPr>
          <a:xfrm>
            <a:off x="447840" y="2050920"/>
            <a:ext cx="8038800" cy="2590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2.12.2011 Vertrag unterzeichn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5.12.2011 Listen mit Kandidaten zuschick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5.12.3011 Feedback auf Fragebog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5.12.2011 Antworten für Fragen für Parteiprofil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2.01.2011 Kandidaten auffordern, Fragebogen auszufül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3.01.2012 Feedback auf Parteiprofil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30.01.2012 Going-Liv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Fragen 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16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A957-22F0-4451-8475-7DBCDE9058EB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7" name="TextBox 23"/>
          <p:cNvSpPr/>
          <p:nvPr/>
        </p:nvSpPr>
        <p:spPr>
          <a:xfrm>
            <a:off x="468360" y="3203640"/>
            <a:ext cx="56404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Kontaktdaten: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Romana Brueggemann, Parteiverantwortlich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Brueggemann@vimentis.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078 742 85 55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Remo Dominioni, Projektverantwortlicher (GL)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Dominioni@vimentis.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079 452 75 77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Postanschrift: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Postfa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9000 St. Gal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95520" y="347760"/>
            <a:ext cx="75484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ppendix: Bisherige Erfolge anderer Tätigkeiten von Vimentis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pic>
        <p:nvPicPr>
          <p:cNvPr id="219" name="Picture 24" descr=""/>
          <p:cNvPicPr/>
          <p:nvPr/>
        </p:nvPicPr>
        <p:blipFill>
          <a:blip r:embed="rId1"/>
          <a:stretch/>
        </p:blipFill>
        <p:spPr>
          <a:xfrm>
            <a:off x="357120" y="2565360"/>
            <a:ext cx="3494160" cy="254628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8"/>
          <p:cNvGrpSpPr/>
          <p:nvPr/>
        </p:nvGrpSpPr>
        <p:grpSpPr>
          <a:xfrm>
            <a:off x="4118040" y="1197000"/>
            <a:ext cx="4608000" cy="315720"/>
            <a:chOff x="4118040" y="1197000"/>
            <a:chExt cx="4608000" cy="315720"/>
          </a:xfrm>
        </p:grpSpPr>
        <p:sp>
          <p:nvSpPr>
            <p:cNvPr id="221" name="KMATable0TextBox2"/>
            <p:cNvSpPr/>
            <p:nvPr/>
          </p:nvSpPr>
          <p:spPr>
            <a:xfrm>
              <a:off x="4118040" y="119700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informiert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22" name="Line 10"/>
            <p:cNvSpPr/>
            <p:nvPr/>
          </p:nvSpPr>
          <p:spPr>
            <a:xfrm>
              <a:off x="4118040" y="151272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23" name="Rectangle 11"/>
          <p:cNvSpPr/>
          <p:nvPr/>
        </p:nvSpPr>
        <p:spPr>
          <a:xfrm>
            <a:off x="3924360" y="1533600"/>
            <a:ext cx="49687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Umfassendstes Politik Informationsportal der CH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Informationen über Abstimmungen und politisch interessante Themen (über 40’000 Aufrufe pro Monat)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Umfangreiches Lexikon zum leichteren Verständnis der Texte (über 20’000 Lexikonaufrufe pro Monat)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224" name="Group 12"/>
          <p:cNvGrpSpPr/>
          <p:nvPr/>
        </p:nvGrpSpPr>
        <p:grpSpPr>
          <a:xfrm>
            <a:off x="4118040" y="2852640"/>
            <a:ext cx="4608000" cy="315720"/>
            <a:chOff x="4118040" y="2852640"/>
            <a:chExt cx="4608000" cy="315720"/>
          </a:xfrm>
        </p:grpSpPr>
        <p:sp>
          <p:nvSpPr>
            <p:cNvPr id="225" name="KMATable0TextBox2"/>
            <p:cNvSpPr/>
            <p:nvPr/>
          </p:nvSpPr>
          <p:spPr>
            <a:xfrm>
              <a:off x="4118040" y="285264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Umfrage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>
              <a:off x="4118040" y="316836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27" name="Rectangle 15"/>
          <p:cNvSpPr/>
          <p:nvPr/>
        </p:nvSpPr>
        <p:spPr>
          <a:xfrm>
            <a:off x="3940200" y="3189240"/>
            <a:ext cx="47559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össte politische Online Umfrage der Schweiz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eschleunigung des politischen Prozesses durch Prüfung von Reformvorschlägen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Hohe Akzeptanz in Politik, da Repräsentativität gewährleistet (über 20’000 Teilnehmer jährlich)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228" name="Group 16"/>
          <p:cNvGrpSpPr/>
          <p:nvPr/>
        </p:nvGrpSpPr>
        <p:grpSpPr>
          <a:xfrm>
            <a:off x="4118040" y="4581360"/>
            <a:ext cx="4608000" cy="315720"/>
            <a:chOff x="4118040" y="4581360"/>
            <a:chExt cx="4608000" cy="315720"/>
          </a:xfrm>
        </p:grpSpPr>
        <p:sp>
          <p:nvSpPr>
            <p:cNvPr id="229" name="KMATable0TextBox2"/>
            <p:cNvSpPr/>
            <p:nvPr/>
          </p:nvSpPr>
          <p:spPr>
            <a:xfrm>
              <a:off x="4118040" y="458136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Dialog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>
              <a:off x="4118040" y="489708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31" name="Rectangle 19"/>
          <p:cNvSpPr/>
          <p:nvPr/>
        </p:nvSpPr>
        <p:spPr>
          <a:xfrm>
            <a:off x="3940200" y="4917960"/>
            <a:ext cx="4755960" cy="18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log-Plattform für Schweizer Politik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Aufbau der Plattform seit April 2010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artei-übergreifende Plattform mit Teilnehmenden aus allen Partei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Während Wahlkampf bereits rund 120 aktive Blogger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32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8D97-2A91-4496-B30F-CEB38F12C073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5F3E4-5FEC-4D1E-8384-3C41AEAC8941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5160" y="347760"/>
            <a:ext cx="7334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Vimentis möchte eine bessere Schweiz durch bessere politische Entscheidungen  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90" name="Foliennummernplatzhalter 3"/>
          <p:cNvSpPr/>
          <p:nvPr/>
        </p:nvSpPr>
        <p:spPr>
          <a:xfrm>
            <a:off x="6553080" y="6375240"/>
            <a:ext cx="21337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CAC7-86F4-41FE-B83E-37F8C3125727}" type="slidenum">
              <a:rPr b="0" i="1" lang="de-CH" sz="1200" spc="-1" strike="noStrike">
                <a:solidFill>
                  <a:srgbClr val="000000"/>
                </a:solidFill>
                <a:latin typeface="AkzidenzGrotesk"/>
                <a:ea typeface="MS Gothic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1247760" y="4702320"/>
            <a:ext cx="77184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Neutr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246320" y="5176800"/>
            <a:ext cx="389736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  <a:ea typeface="MS Gothic"/>
              </a:rPr>
              <a:t>Hohe Qu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292720" y="5176800"/>
            <a:ext cx="36720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Leser-/Nutzerfreundlichkei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4" name="Isosceles Triangle 3"/>
          <p:cNvSpPr/>
          <p:nvPr/>
        </p:nvSpPr>
        <p:spPr>
          <a:xfrm>
            <a:off x="1247760" y="1628640"/>
            <a:ext cx="7718400" cy="1482840"/>
          </a:xfrm>
          <a:prstGeom prst="triangle">
            <a:avLst>
              <a:gd name="adj" fmla="val 50000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600" spc="-1" strike="noStrike">
                <a:solidFill>
                  <a:srgbClr val="ffffff"/>
                </a:solidFill>
                <a:latin typeface="AkzidenzGrotesk-Light"/>
                <a:ea typeface="MS Gothic"/>
              </a:rPr>
              <a:t>Verbesserung der politischen Entscheidungsfindung zur Erhöhung der Lebensqualität in der Schweiz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5" name="TextBox 20"/>
          <p:cNvSpPr/>
          <p:nvPr/>
        </p:nvSpPr>
        <p:spPr>
          <a:xfrm>
            <a:off x="158760" y="237168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Ziel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6" name="TextBox 21"/>
          <p:cNvSpPr/>
          <p:nvPr/>
        </p:nvSpPr>
        <p:spPr>
          <a:xfrm>
            <a:off x="165240" y="470232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Wert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7" name="TextBox 22"/>
          <p:cNvSpPr/>
          <p:nvPr/>
        </p:nvSpPr>
        <p:spPr>
          <a:xfrm>
            <a:off x="142920" y="3284640"/>
            <a:ext cx="1044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Projekt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258920" y="3186000"/>
            <a:ext cx="205272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informier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Sich einfach, schnell und neutral zu Abstimmungen und weiteren Themen inform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416400" y="3186000"/>
            <a:ext cx="192888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Umfrag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Abstimmen wie wichtigste Probleme der Schweiz gelöst werden sol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451480" y="3186000"/>
            <a:ext cx="176364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Dialog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Mit Politikern und anderen Bürgern diskut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7323120" y="3186000"/>
            <a:ext cx="164304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Wah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Einfacher und präziser wäh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1246320" y="5661000"/>
            <a:ext cx="389736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Diskussions- &amp; Feedback-Kultur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5292720" y="5661000"/>
            <a:ext cx="36720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Profession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Wieso Wahlhilfe von Vimentis?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05" name="Foliennummernplatzhalter 3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D083F-0A39-4B7D-8FF3-E2CAA76C3105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6" name="Text Placeholder 2"/>
          <p:cNvSpPr/>
          <p:nvPr/>
        </p:nvSpPr>
        <p:spPr>
          <a:xfrm>
            <a:off x="468360" y="2050920"/>
            <a:ext cx="3962520" cy="20934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Die meisten unentschlossenen Wähler entscheiden mit einer Wahlhilf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Konkurrenten geben ca. 1 Mio. Wahl-empfehlungen ab </a:t>
            </a:r>
            <a:br>
              <a:rPr sz="1600"/>
            </a:br>
            <a:r>
              <a:rPr b="0" lang="de-CH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 Immenser Impact auf Ergebn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7" name="Text Placeholder 2"/>
          <p:cNvSpPr/>
          <p:nvPr/>
        </p:nvSpPr>
        <p:spPr>
          <a:xfrm>
            <a:off x="468360" y="5622840"/>
            <a:ext cx="820728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Vimentis als bekannter, vertrauenswürdiger Partner für einen Stimmenzuwach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8" name="Right Arrow 119"/>
          <p:cNvSpPr/>
          <p:nvPr/>
        </p:nvSpPr>
        <p:spPr>
          <a:xfrm rot="5400000">
            <a:off x="4146840" y="2865960"/>
            <a:ext cx="877680" cy="3714840"/>
          </a:xfrm>
          <a:prstGeom prst="rightArrow">
            <a:avLst>
              <a:gd name="adj1" fmla="val 24250"/>
              <a:gd name="adj2" fmla="val 58889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9" name="Text Placeholder 2"/>
          <p:cNvSpPr/>
          <p:nvPr/>
        </p:nvSpPr>
        <p:spPr>
          <a:xfrm>
            <a:off x="4713120" y="2050920"/>
            <a:ext cx="3962520" cy="1799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Konkurrenz ignoriert Kritik der Parteien, welche den Markeintritt von Vimentis wünscht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Vimentis einzige vollständig integrierte Plattform in Form eines One-Stop-Shop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0" name="Text Placeholder 2"/>
          <p:cNvSpPr/>
          <p:nvPr/>
        </p:nvSpPr>
        <p:spPr>
          <a:xfrm>
            <a:off x="468360" y="156672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Wahlhilfen entscheiden die Wah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1" name="Text Placeholder 2"/>
          <p:cNvSpPr/>
          <p:nvPr/>
        </p:nvSpPr>
        <p:spPr>
          <a:xfrm>
            <a:off x="4713120" y="155736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Mission von 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9D5C-BAC1-4731-A2A2-3AB099206D48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Erfolg: Vimentis «Einfach Wählen» an nationalen Wahlen 2011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20" name="Text Placeholder 2"/>
          <p:cNvSpPr/>
          <p:nvPr/>
        </p:nvSpPr>
        <p:spPr>
          <a:xfrm>
            <a:off x="468360" y="1224000"/>
            <a:ext cx="4013280" cy="5310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</a:rPr>
              <a:t>Medienpartner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lick (blick.ch, Blick am Abend, Sonntagsblick)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Aargauer Zeitung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Zürcher Oberländer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</a:rPr>
              <a:t>Partei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VP Basellandschaft, Bern, Fribourg und Thu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VP International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JSVP Aa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FD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CV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ün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ünliberal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D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EV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ED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D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irat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arteifrei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LB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Ja!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da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Konfessionslos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1" name="AutoShape 6"/>
          <p:cNvSpPr/>
          <p:nvPr/>
        </p:nvSpPr>
        <p:spPr>
          <a:xfrm rot="5400000">
            <a:off x="3213000" y="3792600"/>
            <a:ext cx="3090960" cy="34776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2" name="Text Placeholder 2"/>
          <p:cNvSpPr/>
          <p:nvPr/>
        </p:nvSpPr>
        <p:spPr>
          <a:xfrm>
            <a:off x="5157720" y="3406680"/>
            <a:ext cx="3384720" cy="1119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kzidenzGrotesk"/>
                <a:ea typeface="Arial"/>
              </a:rPr>
              <a:t>~ 75’000 Wahlempfehlungen</a:t>
            </a: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3" name="Text Placeholder 2"/>
          <p:cNvSpPr/>
          <p:nvPr/>
        </p:nvSpPr>
        <p:spPr>
          <a:xfrm>
            <a:off x="5148360" y="1879560"/>
            <a:ext cx="3384360" cy="5414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 </a:t>
            </a: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8 Medienmitteilunge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4" name="Text Placeholder 2"/>
          <p:cNvSpPr/>
          <p:nvPr/>
        </p:nvSpPr>
        <p:spPr>
          <a:xfrm>
            <a:off x="5148360" y="5511960"/>
            <a:ext cx="3384360" cy="7077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Wissenschaftlich fundierte Methodik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5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9056-B876-44D9-843F-5D1E22328DBB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Fast alle Parteien arbeiteten eng mit Vimentis zusamm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27" name="Right Arrow 119"/>
          <p:cNvSpPr/>
          <p:nvPr/>
        </p:nvSpPr>
        <p:spPr>
          <a:xfrm>
            <a:off x="4616280" y="982800"/>
            <a:ext cx="1644840" cy="5541840"/>
          </a:xfrm>
          <a:prstGeom prst="rightArrow">
            <a:avLst>
              <a:gd name="adj1" fmla="val 40944"/>
              <a:gd name="adj2" fmla="val 58014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Kandidaten-Info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Feedback Fragebog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Feedback Parteiprofil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28" name="Grafik 10" descr="Nur Schweiz.jpg"/>
          <p:cNvPicPr/>
          <p:nvPr/>
        </p:nvPicPr>
        <p:blipFill>
          <a:blip r:embed="rId1"/>
          <a:stretch/>
        </p:blipFill>
        <p:spPr>
          <a:xfrm>
            <a:off x="6683400" y="2624040"/>
            <a:ext cx="1928880" cy="1143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72" descr="einfach wählen ohne signet_4c.png"/>
          <p:cNvPicPr/>
          <p:nvPr/>
        </p:nvPicPr>
        <p:blipFill>
          <a:blip r:embed="rId2"/>
          <a:srcRect l="10143" t="0" r="0" b="0"/>
          <a:stretch/>
        </p:blipFill>
        <p:spPr>
          <a:xfrm>
            <a:off x="6413400" y="3909960"/>
            <a:ext cx="2413080" cy="596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LogoCVP05d"/>
          <p:cNvPicPr/>
          <p:nvPr/>
        </p:nvPicPr>
        <p:blipFill>
          <a:blip r:embed="rId3"/>
          <a:stretch/>
        </p:blipFill>
        <p:spPr>
          <a:xfrm>
            <a:off x="325440" y="2859120"/>
            <a:ext cx="752400" cy="601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logo_deutsch"/>
          <p:cNvPicPr/>
          <p:nvPr/>
        </p:nvPicPr>
        <p:blipFill>
          <a:blip r:embed="rId4"/>
          <a:stretch/>
        </p:blipFill>
        <p:spPr>
          <a:xfrm>
            <a:off x="1887480" y="1325520"/>
            <a:ext cx="1133640" cy="600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sp"/>
          <p:cNvPicPr/>
          <p:nvPr/>
        </p:nvPicPr>
        <p:blipFill>
          <a:blip r:embed="rId5"/>
          <a:stretch/>
        </p:blipFill>
        <p:spPr>
          <a:xfrm>
            <a:off x="333360" y="3807000"/>
            <a:ext cx="907920" cy="401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107"/>
          <p:cNvPicPr/>
          <p:nvPr/>
        </p:nvPicPr>
        <p:blipFill>
          <a:blip r:embed="rId6"/>
          <a:stretch/>
        </p:blipFill>
        <p:spPr>
          <a:xfrm>
            <a:off x="333360" y="4357800"/>
            <a:ext cx="1190520" cy="952560"/>
          </a:xfrm>
          <a:prstGeom prst="rect">
            <a:avLst/>
          </a:prstGeom>
          <a:ln w="0">
            <a:noFill/>
          </a:ln>
        </p:spPr>
      </p:pic>
      <p:pic>
        <p:nvPicPr>
          <p:cNvPr id="134" name="Grafik 4" descr=""/>
          <p:cNvPicPr/>
          <p:nvPr/>
        </p:nvPicPr>
        <p:blipFill>
          <a:blip r:embed="rId7"/>
          <a:stretch/>
        </p:blipFill>
        <p:spPr>
          <a:xfrm>
            <a:off x="3311640" y="5119560"/>
            <a:ext cx="1369800" cy="532080"/>
          </a:xfrm>
          <a:prstGeom prst="rect">
            <a:avLst/>
          </a:prstGeom>
          <a:ln w="0">
            <a:noFill/>
          </a:ln>
        </p:spPr>
      </p:pic>
      <p:pic>
        <p:nvPicPr>
          <p:cNvPr id="135" name="Grafik 5" descr=""/>
          <p:cNvPicPr/>
          <p:nvPr/>
        </p:nvPicPr>
        <p:blipFill>
          <a:blip r:embed="rId8"/>
          <a:stretch/>
        </p:blipFill>
        <p:spPr>
          <a:xfrm>
            <a:off x="258840" y="1338120"/>
            <a:ext cx="901800" cy="574920"/>
          </a:xfrm>
          <a:prstGeom prst="rect">
            <a:avLst/>
          </a:prstGeom>
          <a:ln w="0">
            <a:noFill/>
          </a:ln>
        </p:spPr>
      </p:pic>
      <p:pic>
        <p:nvPicPr>
          <p:cNvPr id="136" name="Grafik 6" descr=""/>
          <p:cNvPicPr/>
          <p:nvPr/>
        </p:nvPicPr>
        <p:blipFill>
          <a:blip r:embed="rId9"/>
          <a:stretch/>
        </p:blipFill>
        <p:spPr>
          <a:xfrm>
            <a:off x="3664080" y="1535040"/>
            <a:ext cx="974520" cy="390600"/>
          </a:xfrm>
          <a:prstGeom prst="rect">
            <a:avLst/>
          </a:prstGeom>
          <a:ln w="0">
            <a:noFill/>
          </a:ln>
        </p:spPr>
      </p:pic>
      <p:pic>
        <p:nvPicPr>
          <p:cNvPr id="137" name="Grafik 7" descr=""/>
          <p:cNvPicPr/>
          <p:nvPr/>
        </p:nvPicPr>
        <p:blipFill>
          <a:blip r:embed="rId10"/>
          <a:stretch/>
        </p:blipFill>
        <p:spPr>
          <a:xfrm>
            <a:off x="2862360" y="2803680"/>
            <a:ext cx="1504800" cy="331560"/>
          </a:xfrm>
          <a:prstGeom prst="rect">
            <a:avLst/>
          </a:prstGeom>
          <a:ln w="0">
            <a:noFill/>
          </a:ln>
        </p:spPr>
      </p:pic>
      <p:pic>
        <p:nvPicPr>
          <p:cNvPr id="138" name="Grafik 8" descr=""/>
          <p:cNvPicPr/>
          <p:nvPr/>
        </p:nvPicPr>
        <p:blipFill>
          <a:blip r:embed="rId11"/>
          <a:stretch/>
        </p:blipFill>
        <p:spPr>
          <a:xfrm>
            <a:off x="333360" y="5335560"/>
            <a:ext cx="1401840" cy="561960"/>
          </a:xfrm>
          <a:prstGeom prst="rect">
            <a:avLst/>
          </a:prstGeom>
          <a:ln w="0">
            <a:noFill/>
          </a:ln>
        </p:spPr>
      </p:pic>
      <p:pic>
        <p:nvPicPr>
          <p:cNvPr id="139" name="Grafik 9" descr=""/>
          <p:cNvPicPr/>
          <p:nvPr/>
        </p:nvPicPr>
        <p:blipFill>
          <a:blip r:embed="rId12"/>
          <a:stretch/>
        </p:blipFill>
        <p:spPr>
          <a:xfrm>
            <a:off x="473040" y="6091200"/>
            <a:ext cx="1376280" cy="433440"/>
          </a:xfrm>
          <a:prstGeom prst="rect">
            <a:avLst/>
          </a:prstGeom>
          <a:ln w="0">
            <a:noFill/>
          </a:ln>
        </p:spPr>
      </p:pic>
      <p:pic>
        <p:nvPicPr>
          <p:cNvPr id="140" name="Grafik 1" descr=""/>
          <p:cNvPicPr/>
          <p:nvPr/>
        </p:nvPicPr>
        <p:blipFill>
          <a:blip r:embed="rId13"/>
          <a:stretch/>
        </p:blipFill>
        <p:spPr>
          <a:xfrm>
            <a:off x="2454120" y="6039000"/>
            <a:ext cx="1729080" cy="537840"/>
          </a:xfrm>
          <a:prstGeom prst="rect">
            <a:avLst/>
          </a:prstGeom>
          <a:ln w="0">
            <a:noFill/>
          </a:ln>
        </p:spPr>
      </p:pic>
      <p:pic>
        <p:nvPicPr>
          <p:cNvPr id="141" name="Grafik 2" descr=""/>
          <p:cNvPicPr/>
          <p:nvPr/>
        </p:nvPicPr>
        <p:blipFill>
          <a:blip r:embed="rId14"/>
          <a:stretch/>
        </p:blipFill>
        <p:spPr>
          <a:xfrm>
            <a:off x="325440" y="1730520"/>
            <a:ext cx="1138320" cy="1137960"/>
          </a:xfrm>
          <a:prstGeom prst="rect">
            <a:avLst/>
          </a:prstGeom>
          <a:ln w="0">
            <a:noFill/>
          </a:ln>
        </p:spPr>
      </p:pic>
      <p:pic>
        <p:nvPicPr>
          <p:cNvPr id="142" name="Grafik 4" descr=""/>
          <p:cNvPicPr/>
          <p:nvPr/>
        </p:nvPicPr>
        <p:blipFill>
          <a:blip r:embed="rId15"/>
          <a:stretch/>
        </p:blipFill>
        <p:spPr>
          <a:xfrm>
            <a:off x="3176640" y="2179800"/>
            <a:ext cx="1338120" cy="239400"/>
          </a:xfrm>
          <a:prstGeom prst="rect">
            <a:avLst/>
          </a:prstGeom>
          <a:ln w="0">
            <a:noFill/>
          </a:ln>
        </p:spPr>
      </p:pic>
      <p:pic>
        <p:nvPicPr>
          <p:cNvPr id="143" name="Grafik 5" descr=""/>
          <p:cNvPicPr/>
          <p:nvPr/>
        </p:nvPicPr>
        <p:blipFill>
          <a:blip r:embed="rId16"/>
          <a:stretch/>
        </p:blipFill>
        <p:spPr>
          <a:xfrm>
            <a:off x="3665520" y="3706920"/>
            <a:ext cx="627120" cy="603000"/>
          </a:xfrm>
          <a:prstGeom prst="rect">
            <a:avLst/>
          </a:prstGeom>
          <a:ln w="0">
            <a:noFill/>
          </a:ln>
        </p:spPr>
      </p:pic>
      <p:pic>
        <p:nvPicPr>
          <p:cNvPr id="144" name="Grafik 6" descr=""/>
          <p:cNvPicPr/>
          <p:nvPr/>
        </p:nvPicPr>
        <p:blipFill>
          <a:blip r:embed="rId17"/>
          <a:stretch/>
        </p:blipFill>
        <p:spPr>
          <a:xfrm>
            <a:off x="1932120" y="4165560"/>
            <a:ext cx="1353960" cy="507960"/>
          </a:xfrm>
          <a:prstGeom prst="rect">
            <a:avLst/>
          </a:prstGeom>
          <a:ln w="0">
            <a:noFill/>
          </a:ln>
        </p:spPr>
      </p:pic>
      <p:sp>
        <p:nvSpPr>
          <p:cNvPr id="145" name="Foliennummernplatzhalter 7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463F-F75E-4FBF-9912-CB325E6269F9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46" name="Textfeld 10"/>
          <p:cNvSpPr/>
          <p:nvPr/>
        </p:nvSpPr>
        <p:spPr>
          <a:xfrm rot="1357800">
            <a:off x="6112440" y="1420920"/>
            <a:ext cx="2430720" cy="778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500" spc="-1" strike="noStrike">
                <a:solidFill>
                  <a:srgbClr val="000000"/>
                </a:solidFill>
                <a:latin typeface="AkzidenzGrotesk"/>
              </a:rPr>
              <a:t>«Wir würden am liebsten nur bei Vimentis mitmachen!»</a:t>
            </a:r>
            <a:endParaRPr b="1" i="1" lang="en-US" sz="15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47" name="Grafik 2" descr=""/>
          <p:cNvPicPr/>
          <p:nvPr/>
        </p:nvPicPr>
        <p:blipFill>
          <a:blip r:embed="rId18"/>
          <a:stretch/>
        </p:blipFill>
        <p:spPr>
          <a:xfrm>
            <a:off x="2289240" y="5099040"/>
            <a:ext cx="731880" cy="573120"/>
          </a:xfrm>
          <a:prstGeom prst="rect">
            <a:avLst/>
          </a:prstGeom>
          <a:ln w="0">
            <a:noFill/>
          </a:ln>
        </p:spPr>
      </p:pic>
      <p:sp>
        <p:nvSpPr>
          <p:cNvPr id="148" name="Textfeld 2"/>
          <p:cNvSpPr/>
          <p:nvPr/>
        </p:nvSpPr>
        <p:spPr>
          <a:xfrm>
            <a:off x="2289240" y="5672160"/>
            <a:ext cx="73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Aa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49" name="Grafik 3" descr=""/>
          <p:cNvPicPr/>
          <p:nvPr/>
        </p:nvPicPr>
        <p:blipFill>
          <a:blip r:embed="rId19"/>
          <a:stretch/>
        </p:blipFill>
        <p:spPr>
          <a:xfrm>
            <a:off x="1523880" y="2251080"/>
            <a:ext cx="1038240" cy="554040"/>
          </a:xfrm>
          <a:prstGeom prst="rect">
            <a:avLst/>
          </a:prstGeom>
          <a:ln w="0">
            <a:noFill/>
          </a:ln>
        </p:spPr>
      </p:pic>
      <p:sp>
        <p:nvSpPr>
          <p:cNvPr id="150" name="Textfeld 5"/>
          <p:cNvSpPr/>
          <p:nvPr/>
        </p:nvSpPr>
        <p:spPr>
          <a:xfrm>
            <a:off x="1562040" y="2768760"/>
            <a:ext cx="1125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International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Baselland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Ber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Fribourg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Thurgau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Starke Medienpartnerschaften für starke Präsenz Ihrer Kandidat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52" name="Right Arrow 119"/>
          <p:cNvSpPr/>
          <p:nvPr/>
        </p:nvSpPr>
        <p:spPr>
          <a:xfrm>
            <a:off x="2997360" y="1474920"/>
            <a:ext cx="1182600" cy="3714480"/>
          </a:xfrm>
          <a:prstGeom prst="rightArrow">
            <a:avLst>
              <a:gd name="adj1" fmla="val 24250"/>
              <a:gd name="adj2" fmla="val 58889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153" name="Gruppieren 19"/>
          <p:cNvGrpSpPr/>
          <p:nvPr/>
        </p:nvGrpSpPr>
        <p:grpSpPr>
          <a:xfrm>
            <a:off x="293760" y="2282760"/>
            <a:ext cx="2531880" cy="1882800"/>
            <a:chOff x="293760" y="2282760"/>
            <a:chExt cx="2531880" cy="1882800"/>
          </a:xfrm>
        </p:grpSpPr>
        <p:pic>
          <p:nvPicPr>
            <p:cNvPr id="154" name="Grafik 10" descr="Nur Schweiz.jpg"/>
            <p:cNvPicPr/>
            <p:nvPr/>
          </p:nvPicPr>
          <p:blipFill>
            <a:blip r:embed="rId1"/>
            <a:stretch/>
          </p:blipFill>
          <p:spPr>
            <a:xfrm>
              <a:off x="579240" y="2282760"/>
              <a:ext cx="1928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272" descr="einfach wählen ohne signet_4c.png"/>
            <p:cNvPicPr/>
            <p:nvPr/>
          </p:nvPicPr>
          <p:blipFill>
            <a:blip r:embed="rId2"/>
            <a:srcRect l="10138" t="0" r="0" b="0"/>
            <a:stretch/>
          </p:blipFill>
          <p:spPr>
            <a:xfrm>
              <a:off x="293760" y="3568680"/>
              <a:ext cx="2531880" cy="59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Grafik 21" descr=""/>
          <p:cNvPicPr/>
          <p:nvPr/>
        </p:nvPicPr>
        <p:blipFill>
          <a:blip r:embed="rId3"/>
          <a:stretch/>
        </p:blipFill>
        <p:spPr>
          <a:xfrm>
            <a:off x="6275520" y="2324160"/>
            <a:ext cx="1349280" cy="774720"/>
          </a:xfrm>
          <a:prstGeom prst="rect">
            <a:avLst/>
          </a:prstGeom>
          <a:ln w="0">
            <a:noFill/>
          </a:ln>
        </p:spPr>
      </p:pic>
      <p:pic>
        <p:nvPicPr>
          <p:cNvPr id="157" name="Grafik 239" descr=""/>
          <p:cNvPicPr/>
          <p:nvPr/>
        </p:nvPicPr>
        <p:blipFill>
          <a:blip r:embed="rId4"/>
          <a:stretch/>
        </p:blipFill>
        <p:spPr>
          <a:xfrm>
            <a:off x="4911840" y="4160880"/>
            <a:ext cx="3362040" cy="390600"/>
          </a:xfrm>
          <a:prstGeom prst="rect">
            <a:avLst/>
          </a:prstGeom>
          <a:ln w="0">
            <a:noFill/>
          </a:ln>
        </p:spPr>
      </p:pic>
      <p:sp>
        <p:nvSpPr>
          <p:cNvPr id="158" name="Abgerundetes Rechteck 13"/>
          <p:cNvSpPr/>
          <p:nvPr/>
        </p:nvSpPr>
        <p:spPr>
          <a:xfrm>
            <a:off x="3807000" y="5587920"/>
            <a:ext cx="2387520" cy="779400"/>
          </a:xfrm>
          <a:prstGeom prst="roundRect">
            <a:avLst>
              <a:gd name="adj" fmla="val 16667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kzidenzGrotesk"/>
              </a:rPr>
              <a:t>Medien-Partnerschaften für Kantonsratswahlen in Verhandlung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59" name="Abgerundetes Rechteck 13"/>
          <p:cNvSpPr/>
          <p:nvPr/>
        </p:nvSpPr>
        <p:spPr>
          <a:xfrm>
            <a:off x="3807000" y="1224000"/>
            <a:ext cx="2387520" cy="585720"/>
          </a:xfrm>
          <a:prstGeom prst="roundRect">
            <a:avLst>
              <a:gd name="adj" fmla="val 16667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kzidenzGrotesk"/>
              </a:rPr>
              <a:t>Medienpartner der nationalen Wahlen: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60" name="Picture 16" descr=""/>
          <p:cNvPicPr/>
          <p:nvPr/>
        </p:nvPicPr>
        <p:blipFill>
          <a:blip r:embed="rId5"/>
          <a:stretch/>
        </p:blipFill>
        <p:spPr>
          <a:xfrm>
            <a:off x="6440400" y="3292560"/>
            <a:ext cx="1974960" cy="676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7" descr=""/>
          <p:cNvPicPr/>
          <p:nvPr/>
        </p:nvPicPr>
        <p:blipFill>
          <a:blip r:embed="rId6"/>
          <a:stretch/>
        </p:blipFill>
        <p:spPr>
          <a:xfrm>
            <a:off x="4859280" y="2325600"/>
            <a:ext cx="1393920" cy="816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8" descr=""/>
          <p:cNvPicPr/>
          <p:nvPr/>
        </p:nvPicPr>
        <p:blipFill>
          <a:blip r:embed="rId7"/>
          <a:stretch/>
        </p:blipFill>
        <p:spPr>
          <a:xfrm>
            <a:off x="4849920" y="3168720"/>
            <a:ext cx="1363680" cy="799920"/>
          </a:xfrm>
          <a:prstGeom prst="rect">
            <a:avLst/>
          </a:prstGeom>
          <a:ln w="0">
            <a:noFill/>
          </a:ln>
        </p:spPr>
      </p:pic>
      <p:sp>
        <p:nvSpPr>
          <p:cNvPr id="163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E935-B067-422A-A8A5-846834BB2956}" type="slidenum">
              <a:rPr b="0" lang="de-CH" sz="1000" spc="-1" strike="noStrike">
                <a:solidFill>
                  <a:srgbClr val="000000"/>
                </a:solidFill>
                <a:latin typeface="AkzidenzGrotesk-Light"/>
                <a:ea typeface="ＭＳ Ｐゴシック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4" name="Textfeld 239"/>
          <p:cNvSpPr/>
          <p:nvPr/>
        </p:nvSpPr>
        <p:spPr>
          <a:xfrm rot="1357800">
            <a:off x="6593040" y="1808280"/>
            <a:ext cx="2430360" cy="459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«Wir arbeiten immer wieder gern mit Vimentis zusammen.»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5" name="Textfeld 240"/>
          <p:cNvSpPr/>
          <p:nvPr/>
        </p:nvSpPr>
        <p:spPr>
          <a:xfrm rot="20626200">
            <a:off x="6378480" y="4779000"/>
            <a:ext cx="2527200" cy="641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«Die Mit-Gestaltung des Fragebogens schätzten wir sehr»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A2BE-D4AE-4EAF-90FC-E4A5BAB9E21F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Vimentis «Einfach Wählen» als notwendiger Faktor für Wiederwahl an nationalen Wahlen 2011</a:t>
            </a: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8" name="Text Placeholder 2"/>
          <p:cNvSpPr/>
          <p:nvPr/>
        </p:nvSpPr>
        <p:spPr>
          <a:xfrm>
            <a:off x="2386080" y="1854360"/>
            <a:ext cx="4373640" cy="1555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Von den bisherigen, nicht mehr gewählten Kandidaten haben nur 50%  den Fragebogen ausgefüllt, bei den neu gewählten waren es 80%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9" name="AutoShape 6"/>
          <p:cNvSpPr/>
          <p:nvPr/>
        </p:nvSpPr>
        <p:spPr>
          <a:xfrm rot="10800000">
            <a:off x="3027240" y="3778200"/>
            <a:ext cx="3090960" cy="347760"/>
          </a:xfrm>
          <a:prstGeom prst="triangle">
            <a:avLst>
              <a:gd name="adj" fmla="val 50000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0" name="Text Placeholder 2"/>
          <p:cNvSpPr/>
          <p:nvPr/>
        </p:nvSpPr>
        <p:spPr>
          <a:xfrm>
            <a:off x="2414520" y="441792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Teilnahme bei Vimentis erhöht die Chance zur (Wieder-) Wahl 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6:51:52Z</dcterms:created>
  <dc:creator>master</dc:creator>
  <dc:description/>
  <dc:language>en-US</dc:language>
  <cp:lastModifiedBy>Romana</cp:lastModifiedBy>
  <cp:lastPrinted>2011-11-18T14:16:01Z</cp:lastPrinted>
  <dcterms:modified xsi:type="dcterms:W3CDTF">2011-11-22T19:29:37Z</dcterms:modified>
  <cp:revision>2448</cp:revision>
  <dc:subject/>
  <dc:title>5. ordentlichen Generalversammlu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/>
  </property>
  <property fmtid="{D5CDD505-2E9C-101B-9397-08002B2CF9AE}" pid="3" name="Event">
    <vt:lpwstr/>
  </property>
  <property fmtid="{D5CDD505-2E9C-101B-9397-08002B2CF9AE}" pid="4" name="Final">
    <vt:bool>1</vt:bool>
  </property>
  <property fmtid="{D5CDD505-2E9C-101B-9397-08002B2CF9AE}" pid="5" name="NotesPageLayout">
    <vt:lpwstr>Message</vt:lpwstr>
  </property>
  <property fmtid="{D5CDD505-2E9C-101B-9397-08002B2CF9AE}" pid="6" name="Title">
    <vt:lpwstr>5. ordentlichen Generalversammlung</vt:lpwstr>
  </property>
  <property fmtid="{D5CDD505-2E9C-101B-9397-08002B2CF9AE}" pid="7" name="docid">
    <vt:lpwstr/>
  </property>
</Properties>
</file>